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292-468F-416E-B6F8-11190556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A12-9513-46B8-ACF2-6D390184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511-D9EE-405E-A264-A6C1C34C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317-D566-48AC-BDB7-316CA22F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AE52-7670-488C-845B-419429E4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E3C3-4AA8-4140-8034-63923DDF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DB6B-CC3C-45B4-B3C0-69DD87A8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0D7E-0F55-44D9-B719-27729519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8D2D-5C35-4AF4-8365-979FABFF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EC38-493B-405B-9808-115C1DA3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5057-554B-4E67-AE78-F3E1B301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B55-4F12-47BE-A6FE-9A37925E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6418-8873-4DA9-8FAA-7C3A7F9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6CB3-2E29-4F51-B9B7-6A94DF9E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2C06-8613-44E3-81F9-B5DABD96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7F1B-0BAD-4D60-91D4-37DD6C22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5717-6688-4D33-A66C-AE055264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D2E-6DFD-4FB9-B474-E9E8BE97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5F0-54BC-458F-95EF-E0867E34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46F-E965-459B-B11F-220A1673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9AC-88E7-45CA-8659-54DC5D90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698-3868-4DCF-BA21-8ACF01CE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4A7-1896-44F6-B7CA-BB5112A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437-C721-4582-9A2B-EEA7386B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278F-2FAF-4EB7-8D5B-83752AA7BCBF}" type="slidenum"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" y="3501720"/>
            <a:ext cx="58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9327-B5E0-4D1C-A16F-A3771BE30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99cc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99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99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" y="3501720"/>
            <a:ext cx="58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ff"/>
                </a:solidFill>
                <a:latin typeface="Arial"/>
              </a:rPr>
              <a:t>别针</a:t>
            </a:r>
            <a:endParaRPr b="1" lang="en-US" sz="6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80" y="2781360"/>
            <a:ext cx="586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99cc"/>
              </a:solidFill>
              <a:latin typeface="微软雅黑"/>
            </a:endParaRPr>
          </a:p>
        </p:txBody>
      </p:sp>
      <p:sp>
        <p:nvSpPr>
          <p:cNvPr id="86" name=""/>
          <p:cNvSpPr/>
          <p:nvPr/>
        </p:nvSpPr>
        <p:spPr>
          <a:xfrm>
            <a:off x="-1116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66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536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7:58:57Z</dcterms:created>
  <dc:creator>Administrator</dc:creator>
  <dc:description/>
  <dc:language>en-US</dc:language>
  <cp:lastModifiedBy/>
  <cp:lastPrinted>1899-12-30T00:00:00Z</cp:lastPrinted>
  <dcterms:modified xsi:type="dcterms:W3CDTF">2014-05-15T07:29:0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