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EB6-176F-47EB-9446-FA29E9E6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AAA5-E809-4840-A715-DE8D7D76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A982-8A02-4107-BE6E-AB8F9146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9DD-531A-4624-844E-B0DCB85E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4E9-6088-4260-BB7A-2267A582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B669-FD84-4FE4-B117-EA2CE37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C74-B69B-471B-8E98-5694DBB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15F-A3DB-4316-84AA-D9E77DAE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DB9-6586-4FDE-B047-8387E790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048-8BD2-4954-A786-E1E8231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79B-015C-43F3-8EEF-7ABE5A2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9AE-D356-4348-A8CB-14605F6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25973" t="0" r="0" b="0"/>
          <a:stretch/>
        </p:blipFill>
        <p:spPr>
          <a:xfrm>
            <a:off x="0" y="0"/>
            <a:ext cx="76104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rcRect l="0" t="0" r="88308" b="0"/>
          <a:stretch/>
        </p:blipFill>
        <p:spPr>
          <a:xfrm>
            <a:off x="0" y="0"/>
            <a:ext cx="890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900000" y="0"/>
            <a:ext cx="82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42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1938-491F-4FA0-BAB4-4CDE1EBCECD8}" type="datetime">
              <a:rPr b="0" lang="zh-CN" sz="1100" spc="-1" strike="noStrike">
                <a:solidFill>
                  <a:srgbClr val="595959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4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E1E-BBB2-4AD9-8C15-7606A91BE507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45" name="Picture 6" descr=""/>
            <p:cNvPicPr/>
            <p:nvPr/>
          </p:nvPicPr>
          <p:blipFill>
            <a:blip r:embed="rId1"/>
            <a:stretch/>
          </p:blipFill>
          <p:spPr>
            <a:xfrm flipH="1">
              <a:off x="0" y="0"/>
              <a:ext cx="9144000" cy="68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2"/>
            <a:srcRect l="9350" t="0" r="63900" b="0"/>
            <a:stretch/>
          </p:blipFill>
          <p:spPr>
            <a:xfrm>
              <a:off x="855000" y="0"/>
              <a:ext cx="244620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Straight Connector 9"/>
            <p:cNvSpPr/>
            <p:nvPr/>
          </p:nvSpPr>
          <p:spPr>
            <a:xfrm>
              <a:off x="863280" y="0"/>
              <a:ext cx="0" cy="687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11"/>
            <p:cNvSpPr/>
            <p:nvPr/>
          </p:nvSpPr>
          <p:spPr>
            <a:xfrm>
              <a:off x="3301200" y="0"/>
              <a:ext cx="1008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3"/>
          <p:cNvSpPr/>
          <p:nvPr/>
        </p:nvSpPr>
        <p:spPr>
          <a:xfrm>
            <a:off x="863640" y="4076640"/>
            <a:ext cx="82803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08280"/>
            <a:ext cx="77724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7400" y="5740560"/>
            <a:ext cx="68580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77600" y="6470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3:57:00Z</dcterms:created>
  <dc:creator>lenovo</dc:creator>
  <dc:description/>
  <dc:language>en-US</dc:language>
  <cp:lastModifiedBy>lenovo</cp:lastModifiedBy>
  <dcterms:modified xsi:type="dcterms:W3CDTF">2014-10-24T05:14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