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EB1-FDEE-4AE6-8232-E0EF72B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5CD-7168-4222-BF71-767BB8E2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9F9-F000-4DFE-B0D4-A85964F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9B0-A07F-4098-8121-B2F2A44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26-5294-48AA-BA7B-25E392A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B93-1C72-4741-8D5B-BE42147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DC4-C55C-4EF3-97D0-67D555C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423-7ACD-4A49-9210-53F93DE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D1-0274-4F65-9D3C-6C85D86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5B7-DB5C-44CD-AAF0-B8EC988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DD6-9006-470B-858D-8D9B7DC4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88B-D315-4569-9C07-06180420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6101" t="78749" r="9152" b="4375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Lithos Pro Regular"/>
              </a:rPr>
              <a:t>Click to edit the title text format</a:t>
            </a: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7286760" y="214200"/>
            <a:ext cx="1571400" cy="12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C78-DE6B-43AD-8145-868C27C21B8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D11A-0B4A-4BD7-89F6-A0AE08A39B7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rcRect l="21125" t="22156" r="22237" b="3165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715000" y="1928880"/>
            <a:ext cx="3429000" cy="275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1125" t="22156" r="22237" b="3165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572080" y="1928880"/>
            <a:ext cx="3429000" cy="275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347840"/>
            <a:ext cx="91440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Lithos Pro Regular"/>
              </a:rPr>
              <a:t>Thank   You</a:t>
            </a:r>
            <a:endParaRPr b="0" lang="en-US" sz="60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90" name="TextBox 54"/>
          <p:cNvSpPr/>
          <p:nvPr/>
        </p:nvSpPr>
        <p:spPr>
          <a:xfrm>
            <a:off x="3564000" y="495612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Calibri"/>
              </a:rPr>
              <a:t>之家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1:39:40Z</dcterms:created>
  <dc:creator>sg</dc:creator>
  <dc:description/>
  <dc:language>en-US</dc:language>
  <cp:lastModifiedBy>a</cp:lastModifiedBy>
  <dcterms:modified xsi:type="dcterms:W3CDTF">2014-10-28T01:40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