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DD6-B571-40B7-9525-DDF05037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34E-5BF4-4D50-9B13-8F5EB04A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729-0A44-4608-A0C8-C1C7D1AD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EA8-CB19-4094-9A52-0140EF06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C86C-7B6C-4D9F-BFD7-A3AE5684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13CC-2FDA-41DB-9499-516FEB77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FFC5-D31A-4FDA-8CF7-9A41E5EC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3DFD-DFD3-4A00-84A9-C4745D25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E426-8E7F-448F-8065-84680F5F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C0D4-B664-436C-96FF-2158C69F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610E-B428-4961-9A72-E30CB1F7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C3D-0A34-4FE0-A5B5-CE9539CC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3B56-B57D-4A9B-B2BF-5C935F51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8A3E-8E1C-4DBB-9EE8-094BB35F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199B-8EBD-4C2E-B098-F157BFDF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24AB-C451-4E5B-BAEE-5914F070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328B-351C-45EA-BDF6-60B10BAF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1777-E471-479B-A378-C289990C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C8D-30BA-40B5-A14C-1E3B2910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6433-776E-4178-9DAB-38E28AC5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2871-F229-4805-804B-D864ECCA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CB3-416A-439B-882C-EFC56A6C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7CF-9C0F-4498-835B-503A82DB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A9B-B7C6-4135-8C87-972A4E7E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919F-016D-4841-BF88-7ED4CBBA36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D2F6-C04D-4DFB-A15A-377C2FCCBF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873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谢谢欣赏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2120" y="49528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286000" y="49528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733920" y="49528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5029200" y="49528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45640" y="64008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6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5T04:52:34Z</dcterms:created>
  <dc:creator/>
  <dc:description/>
  <dc:language>en-US</dc:language>
  <cp:lastModifiedBy>微软用户</cp:lastModifiedBy>
  <dcterms:modified xsi:type="dcterms:W3CDTF">2014-05-25T05:26:5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