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976A-E0F4-4388-BC08-4D3A8A5D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871-E640-4E36-857F-6EC3601B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07F-E087-4BF9-BFCE-924DD45F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CD0-0614-431C-8ED9-0621E41F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DECE-6D93-4C22-91A9-C622528B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AF1F-6FC4-4AFD-B7D2-15363D6A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A7CD-A2FB-4EB5-BD08-C9291CEC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74D5-617A-4C20-B4BC-31998649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ED90-4DBB-4326-9751-138D64AD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5BCC-695F-4588-97E6-B818948B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6843-7A2A-4910-87DA-E86743B9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18E-9AD6-4704-8D47-C12B7AA9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B6FC-E1BD-4A77-BFE1-96F8FECD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86A3-A7D9-4D7B-AB5D-80021D33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46A8-5653-43CF-8C8D-C513856E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595D-BAB1-42BE-A2F2-228F3A10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69F0-54F2-49D8-8EF7-0B306B3D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B5106-274B-46A2-B253-C6ACF309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036EC-214A-4C54-A6C4-F62E33A4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C3CFE-45EF-442A-B2CA-359E7B1E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A47BD-E251-44A6-9490-B0B94CC0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D4EEA-D1FD-4455-96B8-BA706046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2F5-780D-4637-9458-13E4AEA8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14DBC-77CD-46C7-8CFB-46C8066D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9D5DC-A9D0-454D-8264-FE2C65D8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636B7-6E6F-4898-8989-649A7F0B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225C2-6B6C-46B9-9100-77F94B2D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4BDC4-4E11-43A7-AFFF-47E9F437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36186-9754-464F-B03D-9E25A68C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FE91C-9286-4B19-B0E4-5B6A81E1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F4684-97BC-4B4D-9718-C3A99ECC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26FA5-8194-42B9-B8A9-D5F6A30B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95F3A-9C8C-41A9-BBC3-93483D3C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DCC-D169-455E-AEF3-00240B1C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DF85C-6D05-4EE7-BE7E-00399561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1CE14-4EF9-48B5-A2F2-5B65DBCC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2715B-7E16-48B1-953F-C4A2B3A7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850E5-7039-4D36-9BC8-6AA7C686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4E563-C664-4E1F-AF16-C0F08EB1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0C461-DB5F-4DB0-85E9-00A93CAA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6219D-0582-4571-9306-AD501287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F5B26-D793-4DAF-A4F8-735E0E00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8A2CA-67BC-4605-B035-25077065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DDA-C5F8-4498-ACCE-68FA903E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F56-1E5C-4D79-BFE5-84F9D998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B736-EAE4-4DFF-BA1C-8A36FA8A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D06-86C1-47FB-A5FF-9B5144E8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B8B6-93BA-408D-AB46-D43192D5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33" b="364"/>
          <a:stretch/>
        </p:blipFill>
        <p:spPr>
          <a:xfrm>
            <a:off x="3240" y="-20520"/>
            <a:ext cx="9250200" cy="690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E00D-8175-4D83-BC22-425FDD37A09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81E8-7A0B-4162-8C57-6958F80A35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未标题-3" descr=""/>
          <p:cNvPicPr/>
          <p:nvPr/>
        </p:nvPicPr>
        <p:blipFill>
          <a:blip r:embed="rId2"/>
          <a:srcRect l="412" t="0" r="432" b="543"/>
          <a:stretch/>
        </p:blipFill>
        <p:spPr>
          <a:xfrm>
            <a:off x="0" y="3240"/>
            <a:ext cx="917748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A889-C875-41F4-95E0-EFDBED7D12D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D0A8-D7B7-4CCF-9C84-50C434D32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224F-BAD8-462B-B1A8-4836EA84E45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42EB-02D7-4976-B7B7-C77C6E5535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6B4F-A185-4F5F-9BD6-5EE134DDFF0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E7C5-5894-4688-AD95-CAA1CF9FE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227640" y="4076640"/>
            <a:ext cx="269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张海山锐线体2.0"/>
              </a:rPr>
              <a:t>儿童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0416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727280" y="746280"/>
            <a:ext cx="1493640" cy="369000"/>
          </a:xfrm>
          <a:prstGeom prst="rect">
            <a:avLst/>
          </a:prstGeom>
          <a:noFill/>
          <a:ln cap="rnd" w="936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张海山锐线体2.0"/>
              </a:rPr>
              <a:t>简约派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908000" y="1343160"/>
            <a:ext cx="5321160" cy="1312920"/>
            <a:chOff x="1908000" y="1343160"/>
            <a:chExt cx="5321160" cy="1312920"/>
          </a:xfrm>
        </p:grpSpPr>
        <p:sp>
          <p:nvSpPr>
            <p:cNvPr id="169" name=""/>
            <p:cNvSpPr/>
            <p:nvPr/>
          </p:nvSpPr>
          <p:spPr>
            <a:xfrm>
              <a:off x="1908000" y="1343160"/>
              <a:ext cx="936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b3db98"/>
                  </a:solidFill>
                  <a:latin typeface="微软雅黑"/>
                  <a:ea typeface="微软雅黑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03720" y="1595880"/>
              <a:ext cx="4825440" cy="777600"/>
            </a:xfrm>
            <a:prstGeom prst="rect">
              <a:avLst/>
            </a:prstGeom>
            <a:solidFill>
              <a:srgbClr val="b3d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920960" y="2295360"/>
            <a:ext cx="5314680" cy="1312920"/>
            <a:chOff x="1920960" y="2295360"/>
            <a:chExt cx="5314680" cy="1312920"/>
          </a:xfrm>
        </p:grpSpPr>
        <p:sp>
          <p:nvSpPr>
            <p:cNvPr id="172" name=""/>
            <p:cNvSpPr/>
            <p:nvPr/>
          </p:nvSpPr>
          <p:spPr>
            <a:xfrm>
              <a:off x="1920960" y="2295360"/>
              <a:ext cx="826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cccc"/>
                  </a:solidFill>
                  <a:latin typeface="微软雅黑"/>
                  <a:ea typeface="微软雅黑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12000" y="2555640"/>
              <a:ext cx="4823640" cy="777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223000" y="2987280"/>
              <a:ext cx="216360" cy="216720"/>
            </a:xfrm>
            <a:prstGeom prst="rtTriangl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893960" y="3270240"/>
            <a:ext cx="5335200" cy="1312920"/>
            <a:chOff x="1893960" y="3270240"/>
            <a:chExt cx="5335200" cy="1312920"/>
          </a:xfrm>
        </p:grpSpPr>
        <p:sp>
          <p:nvSpPr>
            <p:cNvPr id="176" name=""/>
            <p:cNvSpPr/>
            <p:nvPr/>
          </p:nvSpPr>
          <p:spPr>
            <a:xfrm>
              <a:off x="1893960" y="3270240"/>
              <a:ext cx="775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9999"/>
                  </a:solidFill>
                  <a:latin typeface="微软雅黑"/>
                  <a:ea typeface="微软雅黑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04800" y="3521160"/>
              <a:ext cx="4824360" cy="791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19120" y="3851280"/>
              <a:ext cx="264600" cy="75960"/>
            </a:xfrm>
            <a:prstGeom prst="flowChartProcess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73040" y="4236480"/>
              <a:ext cx="264600" cy="75960"/>
            </a:xfrm>
            <a:prstGeom prst="flowChartProcess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20560" y="3526560"/>
              <a:ext cx="264600" cy="75960"/>
            </a:xfrm>
            <a:prstGeom prst="flowChartProcess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939320" y="4232160"/>
            <a:ext cx="5296680" cy="1312920"/>
            <a:chOff x="1939320" y="4232160"/>
            <a:chExt cx="5296680" cy="1312920"/>
          </a:xfrm>
        </p:grpSpPr>
        <p:sp>
          <p:nvSpPr>
            <p:cNvPr id="182" name=""/>
            <p:cNvSpPr/>
            <p:nvPr/>
          </p:nvSpPr>
          <p:spPr>
            <a:xfrm>
              <a:off x="1939320" y="4232160"/>
              <a:ext cx="762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cc669d"/>
                  </a:solidFill>
                  <a:latin typeface="微软雅黑"/>
                  <a:ea typeface="微软雅黑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11280" y="4499640"/>
              <a:ext cx="4824720" cy="769680"/>
            </a:xfrm>
            <a:prstGeom prst="rect">
              <a:avLst/>
            </a:prstGeom>
            <a:solidFill>
              <a:srgbClr val="cc6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577960" y="1805040"/>
            <a:ext cx="42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张海山锐线体2.0"/>
              </a:rPr>
              <a:t>我们一起过儿童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269388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张海山锐线体2.0"/>
              </a:rPr>
              <a:t>我们一起过儿童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06760" y="365616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张海山锐线体2.0"/>
              </a:rPr>
              <a:t>我们一起过儿童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14680" y="460836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张海山锐线体2.0"/>
              </a:rPr>
              <a:t>我们一起过儿童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们一起过儿童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儿童是国家的未来，是民族的希望，给所有儿童创造良好的家庭、社会和学习环境，让他们健康、快乐、幸福地成长，一直是世界各国努力的目标，一年一度的“六一国际儿童节”就是专门为儿童们设立的节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日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本是世界上庆祝儿童节次数最多的国家，他们一年要庆祝三次儿童节，而且庆祝方式十分有意思，充满了浓浓的日本风情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女孩节　这个节日是专门为小女孩设立的，每到这一天，各国“儿童节”天，家中有女儿的父母会在家里设置一个陈列台，台上放上穿着日本和服的漂亮女娃娃玩偶，作为给自己女儿的节日礼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韩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韩国的儿童节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2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，从“男孩节”演变过来的。也是韩国的公众假日，每年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。这一天，孩子们可以尽情享受欢乐，父母要给孩子准备他们　最想要的礼物。很多孩子也会在这天穿上韩服，体验传统的韩国文化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哥伦比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哥伦比亚将每年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定为儿童节。在这个节日里，全国的学校都要举行各种生动活泼的庆祝活动，儿童们还常常戴上各式各样的假面具，扮成小丑的样子在街头玩耍，十分开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70560" y="3886200"/>
            <a:ext cx="33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张海山锐线体2.0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48360" y="645012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6560" y="64501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xiang</cp:lastModifiedBy>
  <dcterms:modified xsi:type="dcterms:W3CDTF">2014-11-06T01:29:20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