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932-6C9F-4424-AC41-5C493360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5E9-29D5-4E27-A88F-8F920421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9BF-5454-4B75-AC2F-D922DCCC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FA4-B046-4E19-870D-BA68B387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C013-EDD0-47DF-BDBC-77A01F97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2DAE-49C2-4781-8762-271A41A0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CC14-669F-4248-B555-260A9CD4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0341-D43B-40DC-B354-E80FB15E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1172-208F-4905-9CB6-C9D2EDA8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BC1D-CB7C-46A0-9AF0-9989F0CE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34E0-4412-4772-86F4-A577E73E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E38-C77B-47AC-9C33-D9B34E34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29E-6B69-46F7-90B1-CB403E4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BFBB-5542-48AA-BF6B-C3BF7FD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7D77-3562-4B76-9590-882B6CF6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30E9-BD38-47D5-A8A0-4005102A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AF20-4740-44CB-891B-CA4A3519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A123-AD07-4619-900B-6EA4F84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7151-F56E-4CEE-9B74-35FD208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2376-C02E-42E2-BE0F-ED6940F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1A5F-67C1-42BA-B107-86BD87EA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73B0-FAB6-4C2A-AA3E-D5E8F0E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20B-9092-44F4-8FB3-466FBDE4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68BD-59B4-44A3-816A-EFB214C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7750-B6A9-4672-9353-872FAC2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407D-ECBD-4F6C-B37B-F7AD69A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94A3-D581-4A41-ADF9-21332B5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8ABE-EF80-4772-B793-BA14C3DD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6345-2F23-4A7A-B29E-CF3D4902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FF6E-4E6F-4765-8BDA-7F18529B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696-79BE-45EA-AD60-14E19E3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2E6-7F7C-4082-9C2C-B13AD3A6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7BA-1857-429C-B8CF-D87E45DB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EAB-DF8C-480E-89E1-04E762F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91C-B460-41BF-819F-3AF60A0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5CE-2921-4B95-93D5-5BCDCDF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8DB9-88AF-41FF-B6A1-BC669D34C1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179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655-48B4-4255-A4CC-B2F80D3F237B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E2D-6AEE-4C6A-A982-8B5E0E24B9D6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E7E-9E60-40F6-828E-639D944C9F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973080" y="0"/>
            <a:ext cx="6664320" cy="5398920"/>
            <a:chOff x="973080" y="0"/>
            <a:chExt cx="6664320" cy="5398920"/>
          </a:xfrm>
        </p:grpSpPr>
        <p:sp>
          <p:nvSpPr>
            <p:cNvPr id="130" name="矩形 4"/>
            <p:cNvSpPr/>
            <p:nvPr/>
          </p:nvSpPr>
          <p:spPr>
            <a:xfrm>
              <a:off x="1504800" y="0"/>
              <a:ext cx="5261040" cy="566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73080" y="1349640"/>
              <a:ext cx="66643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2483280" y="2798280"/>
              <a:ext cx="367380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4-10-28T01:26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