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E241-1BCB-40F6-A73B-54089FFA4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BD93-DCCE-4B5C-AD8A-8DBCFA7EF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3258-E2F6-4A80-A000-C1A18CED5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4D82-AF20-4AC2-8FA4-AA0BB3DB8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3E33-6368-406A-B740-8C6C3C182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2CBE-8BDC-43F4-B2C0-BBFB75AFB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7F00-FEF4-4A9E-9438-865AFDA42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737E-4542-4285-B091-EC0FE195D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0F1D-12A4-4A8D-B9B9-C42AB6999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DD2A-F9D2-4B6C-9145-EB09478BF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ADB3-2E2E-4696-9E8C-1EEB41F08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D4EE-DDC8-4365-ADC8-BD8586682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3"/>
          <p:cNvSpPr/>
          <p:nvPr/>
        </p:nvSpPr>
        <p:spPr>
          <a:xfrm>
            <a:off x="7667640" y="69228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4" descr="ND-1"/>
          <p:cNvPicPr/>
          <p:nvPr/>
        </p:nvPicPr>
        <p:blipFill>
          <a:blip r:embed="rId3"/>
          <a:stretch/>
        </p:blipFill>
        <p:spPr>
          <a:xfrm>
            <a:off x="7524720" y="5589720"/>
            <a:ext cx="1017720" cy="10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55269-B997-433E-B1D2-A14B0A863AF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61509-C852-4316-A6EC-A23BFFC2110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3922560" y="996840"/>
            <a:ext cx="4681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5362560" y="1430280"/>
            <a:ext cx="2809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4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4456080" y="1486080"/>
            <a:ext cx="468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之家：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4572000" y="738360"/>
            <a:ext cx="457344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感谢您的关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2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01:27:31Z</dcterms:created>
  <dc:creator>上海诺睿网络信息科技有限公司</dc:creator>
  <dc:description>Nordri设计工作室ppt模版发布供大家免费下载使用。版权为Nordri设计工作室所有。您可以自行使用、修改、复制本模版。转载、发表或以其它方式利用本模版上内容，如果您需更进一步的服务，请和我们联系。</dc:description>
  <cp:keywords>ppt幻灯设计/ppt模板设计</cp:keywords>
  <dc:language>en-US</dc:language>
  <cp:lastModifiedBy>a</cp:lastModifiedBy>
  <dcterms:modified xsi:type="dcterms:W3CDTF">2014-10-28T01:29:04Z</dcterms:modified>
  <cp:revision>24</cp:revision>
  <dc:subject/>
  <dc:title>免费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5</vt:lpwstr>
  </property>
</Properties>
</file>