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A17-8F30-4B83-AF3E-18FC36BE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70A5-98B6-481B-9BEF-FEF4ABD8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65E-1055-410E-A0C6-7F65AD2F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45E7-850E-4A91-A0CC-A82D6597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C1BF-9EAC-494C-B058-77AC9B79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4A1F-44AF-4C27-BB41-BA89B5BF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EC4E-81B2-4B2C-B18E-9399A7C7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5636-E15C-4CE5-B31B-304D0A4F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21C6-52D1-4485-B0F5-41B7EC82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1627-1A26-4756-92AF-6485C789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2B4-DA67-45F0-8597-04E91EB8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A419-CA87-4E84-B7CB-13B88C76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9336-717B-423F-BF30-75047142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6084-A495-4B99-B9D1-5BAF10DE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F24D-F012-43FF-AD2F-3FF28E1D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7D5F-09D9-44A2-9818-98D62F5B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4EEE-3AA3-447B-8787-260C9420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1477-223B-41F8-83F6-716C5512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976E1-68B9-42F9-94C9-A7E79EE3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A2FE4-1DD0-40D7-9660-46E32146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79692-7C77-4BB1-B69B-574F19F9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577-F621-43BD-9890-0E368B03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C45DC-D32A-4A40-AD71-04254029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08AA5-B1FF-4254-BA59-6165BA6A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6DDDF-793E-4DC4-BFF5-439BDB27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A7C18-CBFC-4421-885E-3AE58D4A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FD9BE-8E2C-481A-A790-1E597F29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271A5-D814-4AE1-959A-FD87F1BA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3818-F886-43B3-A163-2E9F93D1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986F1-B67D-4EDC-9CC5-2FD801F9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20EB9-7D27-463E-9462-B5BAAB2C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E9B6-2E9E-4A96-8E29-623266D1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AF1-B6CA-4884-968F-3F37134E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2E2-A841-40BE-8BA9-DE4EE6DF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0EB-D63B-4995-930F-C5AE23D6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F42-395B-4803-B282-4016D601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8EEE-16BA-45CA-BFFF-D011E8222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2" descr="PPT--模版内页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PPT--模版内页2"/>
          <p:cNvPicPr/>
          <p:nvPr/>
        </p:nvPicPr>
        <p:blipFill>
          <a:blip r:embed="rId2"/>
          <a:stretch/>
        </p:blipFill>
        <p:spPr>
          <a:xfrm>
            <a:off x="0" y="309096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PPT--模版内页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8" descr="PPT--模版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9F97-6271-4C58-92B5-2CC913BD7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2013-B899-43E6-BE2B-FE87E5836E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F82F-FF2C-4998-9A62-CBEAB6D656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2" descr="PPT封面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031840" y="1168560"/>
            <a:ext cx="508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122560" y="4521240"/>
            <a:ext cx="507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PPT--模版内页 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2:35:49Z</dcterms:created>
  <dc:creator/>
  <dc:description/>
  <dc:language>en-US</dc:language>
  <cp:lastModifiedBy>a</cp:lastModifiedBy>
  <dcterms:modified xsi:type="dcterms:W3CDTF">2014-10-28T01:27:39Z</dcterms:modified>
  <cp:revision>94</cp:revision>
  <dc:subject/>
  <dc:title>WPS在线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