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8E1-2FCC-47B9-B3D4-9F34CD34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333-7D1E-4159-8FC8-3B0638B0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F76-1AAE-4301-8A76-6EAFC5E7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FC5-56A4-4E89-8552-2353BD65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0BD-1DF4-4A88-A8C7-6651A424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823-455F-4B75-BAB1-BA5109A2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445-77C4-40B2-A4F4-DC2B204C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81C-9365-4DD5-B8BB-660732A9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A2B-5516-4E15-AA9A-4E12DCF4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308-E886-4053-91B7-0C1D247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CBB-B00E-48F4-8C6C-6F1DAD58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7C2-68F3-47FB-BA99-0F0A402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4225-2455-4C7C-9D4A-B31BC303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360" y="-2052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4032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 Black"/>
                <a:ea typeface="黑体"/>
              </a:rPr>
              <a:t>彩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8000" y="3357720"/>
            <a:ext cx="590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Comic Sans MS"/>
              </a:rPr>
              <a:t>R</a:t>
            </a:r>
            <a:r>
              <a:rPr b="0" lang="zh-CN" sz="4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zh-CN" sz="4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zh-CN" sz="48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zh-CN" sz="4800" spc="-1" strike="noStrike">
                <a:solidFill>
                  <a:srgbClr val="ccff33"/>
                </a:solidFill>
                <a:latin typeface="Comic Sans MS"/>
              </a:rPr>
              <a:t>b</a:t>
            </a:r>
            <a:r>
              <a:rPr b="0" lang="zh-CN" sz="48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zh-CN" sz="4800" spc="-1" strike="noStrike">
                <a:solidFill>
                  <a:srgbClr val="9933ff"/>
                </a:solidFill>
                <a:latin typeface="Comic Sans MS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64000" y="188640"/>
            <a:ext cx="5340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4763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h</a:t>
            </a:r>
            <a:r>
              <a:rPr b="0" lang="zh-CN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zh-CN" sz="4400" spc="-1" strike="noStrike">
                <a:solidFill>
                  <a:srgbClr val="66ff66"/>
                </a:solidFill>
                <a:latin typeface="Comic Sans MS"/>
              </a:rPr>
              <a:t>n</a:t>
            </a:r>
            <a:r>
              <a:rPr b="0" lang="zh-CN" sz="4400" spc="-1" strike="noStrike">
                <a:solidFill>
                  <a:srgbClr val="00ff00"/>
                </a:solidFill>
                <a:latin typeface="Comic Sans MS"/>
              </a:rPr>
              <a:t>k</a:t>
            </a:r>
            <a:r>
              <a:rPr b="0" lang="zh-CN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zh-CN" sz="4400" spc="-1" strike="noStrike">
                <a:solidFill>
                  <a:srgbClr val="9933ff"/>
                </a:solidFill>
                <a:latin typeface="Comic Sans MS"/>
              </a:rPr>
              <a:t>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6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2:32:28Z</dcterms:created>
  <dc:creator>Administrator</dc:creator>
  <dc:description/>
  <dc:language>en-US</dc:language>
  <cp:lastModifiedBy/>
  <cp:lastPrinted>1899-12-30T00:00:00Z</cp:lastPrinted>
  <dcterms:modified xsi:type="dcterms:W3CDTF">2014-05-28T06:18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