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450-8638-4EBF-9B67-153A41C6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8994-A0AF-4D2E-BAB9-5085F586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1392-53B1-42E3-A2D9-401A0276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0F08-1379-42BC-96B5-908F502C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8F8C-FBAC-48C5-ABB2-4CF164E8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524-B900-4881-A113-78CFC8E3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D1C-8DB5-4058-BB5A-7BDAC66F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151-63C3-44B7-9B21-59AB413A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D0E-13E4-4F98-8F5B-A60A48F6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153C-CE6F-4D28-9D19-08385647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194B-E867-4FDB-B4D1-18EFCFFB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536-8844-4041-A846-2C48B369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" descr="F:\图片\29副本.png"/>
          <p:cNvPicPr/>
          <p:nvPr/>
        </p:nvPicPr>
        <p:blipFill>
          <a:blip r:embed="rId2"/>
          <a:stretch/>
        </p:blipFill>
        <p:spPr>
          <a:xfrm>
            <a:off x="0" y="0"/>
            <a:ext cx="4373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101520" y="281160"/>
            <a:ext cx="8940960" cy="6467400"/>
            <a:chOff x="101520" y="281160"/>
            <a:chExt cx="8940960" cy="6467400"/>
          </a:xfrm>
        </p:grpSpPr>
        <p:pic>
          <p:nvPicPr>
            <p:cNvPr id="2" name="矩形​​ 8" descr=""/>
            <p:cNvPicPr/>
            <p:nvPr/>
          </p:nvPicPr>
          <p:blipFill>
            <a:blip r:embed="rId3"/>
            <a:stretch/>
          </p:blipFill>
          <p:spPr>
            <a:xfrm>
              <a:off x="101520" y="281160"/>
              <a:ext cx="8940960" cy="646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" name=""/>
            <p:cNvGrpSpPr/>
            <p:nvPr/>
          </p:nvGrpSpPr>
          <p:grpSpPr>
            <a:xfrm>
              <a:off x="149400" y="322920"/>
              <a:ext cx="8821080" cy="6348240"/>
              <a:chOff x="149400" y="322920"/>
              <a:chExt cx="8821080" cy="6348240"/>
            </a:xfrm>
          </p:grpSpPr>
          <p:pic>
            <p:nvPicPr>
              <p:cNvPr id="4" name="矩形​​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49400" y="322920"/>
                <a:ext cx="8821080" cy="634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>
                <a:off x="164160" y="335520"/>
                <a:ext cx="8796240" cy="632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" name="图片 6" descr="F:\7788\gifs_card2.png"/>
          <p:cNvPicPr/>
          <p:nvPr/>
        </p:nvPicPr>
        <p:blipFill>
          <a:blip r:embed="rId5"/>
          <a:stretch/>
        </p:blipFill>
        <p:spPr>
          <a:xfrm>
            <a:off x="7812000" y="12600"/>
            <a:ext cx="1524240" cy="13287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617D-00BE-4B91-88A4-4E07077BC1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9" name="矩形​​ 5"/>
          <p:cNvSpPr/>
          <p:nvPr/>
        </p:nvSpPr>
        <p:spPr>
          <a:xfrm>
            <a:off x="0" y="5911920"/>
            <a:ext cx="9144000" cy="75708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​​ 6"/>
          <p:cNvSpPr/>
          <p:nvPr/>
        </p:nvSpPr>
        <p:spPr>
          <a:xfrm>
            <a:off x="3707280" y="5978520"/>
            <a:ext cx="164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中倩简体"/>
                <a:ea typeface="方正中倩简体"/>
              </a:rPr>
              <a:t>三尺讲台，染苍苍白发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中倩简体"/>
                <a:ea typeface="方正中倩简体"/>
              </a:rPr>
              <a:t>桃李满园，露美美笑厣。赞美您，敬爱的老师，祝福您，敬爱的老师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6" descr="F:\7788\gifs_card2.png"/>
          <p:cNvPicPr/>
          <p:nvPr/>
        </p:nvPicPr>
        <p:blipFill>
          <a:blip r:embed="rId2"/>
          <a:stretch/>
        </p:blipFill>
        <p:spPr>
          <a:xfrm>
            <a:off x="7907400" y="5629320"/>
            <a:ext cx="1523880" cy="132876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72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211640" y="1125360"/>
            <a:ext cx="43210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九月，如期而至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世界因此灿烂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我们歌唱九月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因为这是您永恒的节日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我们牢记九月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因为这是我们真诚的表白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九月，是只情满四溢的杯子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我们用双手高高地举起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一片真诚的祝福声中， 请您干杯。 九月的乐章已经奏响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请接受我们九月的献礼吧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所有拼搏在教育战线的老师们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6292800"/>
            <a:ext cx="5873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01:39:13Z</dcterms:created>
  <dc:creator/>
  <dc:description/>
  <dc:language>en-US</dc:language>
  <cp:lastModifiedBy>锐普PPT</cp:lastModifiedBy>
  <dcterms:modified xsi:type="dcterms:W3CDTF">2014-11-02T00:59:31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