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6F4-22F3-4EEA-9EDC-F1BDD2EF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93F-1EE0-4C38-8B5A-9BF4594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654-7309-4B83-92B7-FF6DF480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D2-5FA0-4D29-B468-9816CBB4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5905-4659-44E0-8FEE-5807FF69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79B-2392-44C6-A557-17E314A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688-716B-4925-9798-7A1DFAA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61C1-C9F6-4B24-83E1-FC463C1D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D0A-3B93-48E0-9D43-D114C197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7EF-D4F2-4A19-AD1A-B86D8A9E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C819-84DA-4410-8E58-A544829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FF2-845C-40AE-836D-93F6D69A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CA8-5133-4E69-B3B6-5948E054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E7AF-5E13-4159-9D76-EB4D6507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992F-9BC3-46C3-BF7B-96654FE9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FFF3-C151-4D64-AE20-59C0A4D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2B67-F36F-48E9-969B-FE69727E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104-2F0A-4826-BFC0-305DAD40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E23-C9AC-41D0-8622-D423F6EB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4DC-6CA6-4A93-9BD8-E044924D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C1F-643D-4F79-A03F-87DEB239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810-10FA-4938-B1F0-89CB6554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1E5-C3C2-42DB-A477-D4C1C62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988-7E49-4C72-A256-0F001C22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59D-2DCF-4834-A2B9-C9DDCF3C0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43629" r="0" b="37615"/>
          <a:stretch/>
        </p:blipFill>
        <p:spPr>
          <a:xfrm>
            <a:off x="0" y="0"/>
            <a:ext cx="9144000" cy="1287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263" r="0" b="0"/>
          <a:stretch/>
        </p:blipFill>
        <p:spPr>
          <a:xfrm>
            <a:off x="5580000" y="44280"/>
            <a:ext cx="3600360" cy="312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4AE-67E5-4A0E-B1FF-73D0167B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16960" r="0" b="13713"/>
          <a:stretch/>
        </p:blipFill>
        <p:spPr>
          <a:xfrm>
            <a:off x="5003640" y="189000"/>
            <a:ext cx="3321360" cy="23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15158" r="0" b="0"/>
          <a:stretch/>
        </p:blipFill>
        <p:spPr>
          <a:xfrm rot="60000">
            <a:off x="3850920" y="117360"/>
            <a:ext cx="3417840" cy="29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0" t="11775" r="12845" b="13049"/>
          <a:stretch/>
        </p:blipFill>
        <p:spPr>
          <a:xfrm>
            <a:off x="2700360" y="44280"/>
            <a:ext cx="3325680" cy="287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rcRect l="8148" t="25327" r="0" b="15184"/>
          <a:stretch/>
        </p:blipFill>
        <p:spPr>
          <a:xfrm rot="10680000">
            <a:off x="1044360" y="116640"/>
            <a:ext cx="4108320" cy="266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rcRect l="0" t="15446" r="186" b="0"/>
          <a:stretch/>
        </p:blipFill>
        <p:spPr>
          <a:xfrm rot="120000">
            <a:off x="539640" y="549360"/>
            <a:ext cx="3603600" cy="305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rcRect l="13690" t="13322" r="0" b="0"/>
          <a:stretch/>
        </p:blipFill>
        <p:spPr>
          <a:xfrm>
            <a:off x="0" y="692280"/>
            <a:ext cx="3446640" cy="34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带你全程关注日全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5157720"/>
            <a:ext cx="35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食介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食是月球运动到太阳和地球中间，如果三者正好处在一条直线时，月球就会挡住太阳射向地球的光，月球身后的黑影正好落到地球上，这时发生日食现象。在地球上月影里的人们开始看到阳光逐渐减弱，太阳面被圆的黑影遮住，天色转暗，全部遮住时，天空中可以看到最亮的恒星和行星，几分钟后，从月球黑影边缘逐渐露出阳光，开始生光、复圆。由于月球比地球小，只有在月影中的人们才能看到日食。月球把太阳全部挡住时发生日全食，遮住一部分时发生日偏食，遮住太阳中央部分发生日环食。发生日全食的延续时间不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秒。日环食的最长时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秒。法国的一位天文学家为了延长观测日全食的时间，他乘坐超音速飞机追赶月亮的影子，使观测时间延长到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。我国有世界上最古老的日食记录，公元前一千多年已有确切的日食记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1497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谢谢观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10:23:21Z</dcterms:created>
  <dc:creator/>
  <dc:description/>
  <dc:language>en-US</dc:language>
  <cp:lastModifiedBy/>
  <cp:lastPrinted>1899-12-30T00:00:00Z</cp:lastPrinted>
  <dcterms:modified xsi:type="dcterms:W3CDTF">2014-05-23T02:55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