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9A3B-AB46-4186-9996-5B9BDA70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A74-5A93-41A4-B4BE-B6E0A462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2EF9-AA95-42E2-8D0E-B02D0B38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CE0-4FAA-4A7E-B0B9-8D7BC755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AFC2-C4B5-4C7E-BB20-8EF1867B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F42D-7C7B-40DF-92C0-89DE6358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44A4-E829-41BE-9B86-8AF47F5C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71CB-FA23-488A-9C35-B19A2C4D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AE76-7533-46BA-827B-E05FB45A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2B97-D2B2-44A7-AB59-7FFDF9D2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9FF8-172C-45D6-9522-D3EDA557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3643-99BA-413F-AFEE-2D7F2346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92F2-A875-4619-816D-3C7334D3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F83B-F12A-46C7-A6C8-B4E0EFFC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8C15-E75B-4F38-9A80-D850F6D3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281F-55D9-4E73-9C72-75FE33EC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97F6-B6C9-423B-8342-B22432E2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48FE-70CD-4EF0-BA30-60548A02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D42-24E5-4A17-B656-6D0C8229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E7D-4310-4D09-B3F7-D49D507C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B281-CF06-4A4D-9654-E37690EF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0F1-9AB1-4680-B5A8-232BE069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1555-35C0-42FB-9FD1-176AE84A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87D-2213-46AD-86A7-5F628AC1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684e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9ca3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9ca3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9ca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CA06-13BA-4F48-9E54-C1F4B2D4DEBF}" type="slidenum">
              <a:rPr b="0" lang="en-US" sz="1200" spc="-1" strike="noStrike">
                <a:solidFill>
                  <a:srgbClr val="089ca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684e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9ca3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9ca3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9ca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8C79-9EF4-4B9D-9FCE-0024EE3EC91D}" type="slidenum">
              <a:rPr b="0" lang="en-US" sz="1200" spc="-1" strike="noStrike">
                <a:solidFill>
                  <a:srgbClr val="089ca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63640" y="1773000"/>
            <a:ext cx="64008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3763"/>
                </a:solidFill>
                <a:latin typeface="宋体"/>
                <a:ea typeface="宋体"/>
              </a:rPr>
              <a:t>大自然</a:t>
            </a:r>
            <a:r>
              <a:rPr b="0" lang="zh-CN" sz="3200" spc="-1" strike="noStrike">
                <a:solidFill>
                  <a:srgbClr val="083763"/>
                </a:solidFill>
                <a:latin typeface="宋体"/>
                <a:ea typeface="宋体"/>
              </a:rPr>
              <a:t>PPT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6720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00360" y="571320"/>
            <a:ext cx="44290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84e"/>
              </a:solidFill>
              <a:latin typeface="宋体"/>
              <a:ea typeface="宋体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4498920" y="15667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b5395"/>
                </a:solidFill>
                <a:latin typeface="宋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227160" y="4633920"/>
            <a:ext cx="78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b5395"/>
                </a:solidFill>
                <a:latin typeface="宋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1627560" y="60325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2d70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1:37:54Z</dcterms:created>
  <dc:creator/>
  <dc:description/>
  <dc:language>en-US</dc:language>
  <cp:lastModifiedBy/>
  <cp:lastPrinted>1899-12-30T00:00:00Z</cp:lastPrinted>
  <dcterms:modified xsi:type="dcterms:W3CDTF">2014-06-07T07:53:4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_TemplateID">
    <vt:lpwstr>TC103626432052</vt:lpwstr>
  </property>
</Properties>
</file>