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AAF-F4C1-4EF9-9AEF-966EBF51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2BD-5284-4524-A7AF-C83007D9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87C-1316-4077-B1A3-5E03B29C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671-0D77-45F5-B95D-D1D75725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461-AA5D-4C88-9F6A-EDBFED1F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803-D5C5-441B-9D96-6107168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4D0-E55F-48E7-93E6-D7B2B91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3EE-2D2F-4B96-9534-5DCE8A8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483-3A6F-4BC3-B99F-79757A6A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879-5615-4F21-910A-93F2D0A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673-0F9A-4F59-9494-C75C73E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8BC-7196-4197-9495-B3C471E1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AE9F-213D-4A52-84D0-482D831842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商务\3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4684680" y="1406520"/>
            <a:ext cx="3546360" cy="1117440"/>
            <a:chOff x="4684680" y="1406520"/>
            <a:chExt cx="3546360" cy="1117440"/>
          </a:xfrm>
        </p:grpSpPr>
        <p:sp>
          <p:nvSpPr>
            <p:cNvPr id="82" name="TextBox 6"/>
            <p:cNvSpPr/>
            <p:nvPr/>
          </p:nvSpPr>
          <p:spPr>
            <a:xfrm>
              <a:off x="4684680" y="1406520"/>
              <a:ext cx="3524040" cy="8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Text Box 7" descr=""/>
            <p:cNvPicPr/>
            <p:nvPr/>
          </p:nvPicPr>
          <p:blipFill>
            <a:blip r:embed="rId2"/>
            <a:stretch/>
          </p:blipFill>
          <p:spPr>
            <a:xfrm>
              <a:off x="5141880" y="2202480"/>
              <a:ext cx="3089160" cy="32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7218000" y="527544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52520" y="1724040"/>
            <a:ext cx="4638960" cy="477720"/>
            <a:chOff x="2252520" y="1724040"/>
            <a:chExt cx="4638960" cy="477720"/>
          </a:xfrm>
        </p:grpSpPr>
        <p:grpSp>
          <p:nvGrpSpPr>
            <p:cNvPr id="87" name=""/>
            <p:cNvGrpSpPr/>
            <p:nvPr/>
          </p:nvGrpSpPr>
          <p:grpSpPr>
            <a:xfrm>
              <a:off x="2252520" y="1724040"/>
              <a:ext cx="4638960" cy="477720"/>
              <a:chOff x="2252520" y="1724040"/>
              <a:chExt cx="4638960" cy="477720"/>
            </a:xfrm>
          </p:grpSpPr>
          <p:pic>
            <p:nvPicPr>
              <p:cNvPr id="88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7240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337480" y="177480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252520" y="1747800"/>
              <a:ext cx="4638960" cy="401400"/>
              <a:chOff x="2252520" y="1747800"/>
              <a:chExt cx="4638960" cy="401400"/>
            </a:xfrm>
          </p:grpSpPr>
          <p:pic>
            <p:nvPicPr>
              <p:cNvPr id="9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7478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2331000" y="182520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2252520" y="2451240"/>
            <a:ext cx="4638960" cy="477720"/>
            <a:chOff x="2252520" y="2451240"/>
            <a:chExt cx="4638960" cy="477720"/>
          </a:xfrm>
        </p:grpSpPr>
        <p:grpSp>
          <p:nvGrpSpPr>
            <p:cNvPr id="94" name=""/>
            <p:cNvGrpSpPr/>
            <p:nvPr/>
          </p:nvGrpSpPr>
          <p:grpSpPr>
            <a:xfrm>
              <a:off x="2252520" y="2451240"/>
              <a:ext cx="4638960" cy="477720"/>
              <a:chOff x="2252520" y="2451240"/>
              <a:chExt cx="4638960" cy="477720"/>
            </a:xfrm>
          </p:grpSpPr>
          <p:pic>
            <p:nvPicPr>
              <p:cNvPr id="9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4512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2337480" y="250308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52520" y="2475000"/>
              <a:ext cx="4638960" cy="401400"/>
              <a:chOff x="2252520" y="2475000"/>
              <a:chExt cx="4638960" cy="401400"/>
            </a:xfrm>
          </p:grpSpPr>
          <p:pic>
            <p:nvPicPr>
              <p:cNvPr id="98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4750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2331000" y="255348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2252520" y="3179880"/>
            <a:ext cx="4638960" cy="476280"/>
            <a:chOff x="2252520" y="3179880"/>
            <a:chExt cx="4638960" cy="476280"/>
          </a:xfrm>
        </p:grpSpPr>
        <p:grpSp>
          <p:nvGrpSpPr>
            <p:cNvPr id="101" name=""/>
            <p:cNvGrpSpPr/>
            <p:nvPr/>
          </p:nvGrpSpPr>
          <p:grpSpPr>
            <a:xfrm>
              <a:off x="2252520" y="3179880"/>
              <a:ext cx="4638960" cy="476280"/>
              <a:chOff x="2252520" y="3179880"/>
              <a:chExt cx="4638960" cy="476280"/>
            </a:xfrm>
          </p:grpSpPr>
          <p:pic>
            <p:nvPicPr>
              <p:cNvPr id="102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7988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2337480" y="322956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252520" y="3198600"/>
              <a:ext cx="4638960" cy="400320"/>
              <a:chOff x="2252520" y="3198600"/>
              <a:chExt cx="4638960" cy="400320"/>
            </a:xfrm>
          </p:grpSpPr>
          <p:pic>
            <p:nvPicPr>
              <p:cNvPr id="105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98600"/>
                <a:ext cx="4638960" cy="40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330640" y="32792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252520" y="3906720"/>
            <a:ext cx="4638960" cy="478080"/>
            <a:chOff x="2252520" y="3906720"/>
            <a:chExt cx="4638960" cy="478080"/>
          </a:xfrm>
        </p:grpSpPr>
        <p:grpSp>
          <p:nvGrpSpPr>
            <p:cNvPr id="108" name=""/>
            <p:cNvGrpSpPr/>
            <p:nvPr/>
          </p:nvGrpSpPr>
          <p:grpSpPr>
            <a:xfrm>
              <a:off x="2252520" y="3906720"/>
              <a:ext cx="4638960" cy="478080"/>
              <a:chOff x="2252520" y="3906720"/>
              <a:chExt cx="4638960" cy="478080"/>
            </a:xfrm>
          </p:grpSpPr>
          <p:pic>
            <p:nvPicPr>
              <p:cNvPr id="109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90672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337480" y="3957840"/>
                <a:ext cx="44744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52520" y="3930480"/>
              <a:ext cx="4638960" cy="401760"/>
              <a:chOff x="2252520" y="3930480"/>
              <a:chExt cx="4638960" cy="401760"/>
            </a:xfrm>
          </p:grpSpPr>
          <p:pic>
            <p:nvPicPr>
              <p:cNvPr id="112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930480"/>
                <a:ext cx="4638960" cy="4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331000" y="4008240"/>
                <a:ext cx="44881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252520" y="2576520"/>
            <a:ext cx="4638960" cy="477720"/>
            <a:chOff x="2252520" y="2576520"/>
            <a:chExt cx="4638960" cy="477720"/>
          </a:xfrm>
        </p:grpSpPr>
        <p:grpSp>
          <p:nvGrpSpPr>
            <p:cNvPr id="115" name=""/>
            <p:cNvGrpSpPr/>
            <p:nvPr/>
          </p:nvGrpSpPr>
          <p:grpSpPr>
            <a:xfrm>
              <a:off x="2252520" y="2576520"/>
              <a:ext cx="4638960" cy="477720"/>
              <a:chOff x="2252520" y="2576520"/>
              <a:chExt cx="4638960" cy="477720"/>
            </a:xfrm>
          </p:grpSpPr>
          <p:pic>
            <p:nvPicPr>
              <p:cNvPr id="116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57652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337480" y="262656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52520" y="2600280"/>
              <a:ext cx="4638960" cy="396720"/>
              <a:chOff x="2252520" y="2600280"/>
              <a:chExt cx="4638960" cy="396720"/>
            </a:xfrm>
          </p:grpSpPr>
          <p:pic>
            <p:nvPicPr>
              <p:cNvPr id="11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0028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2331000" y="267696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839880" y="1643040"/>
            <a:ext cx="7715160" cy="2365560"/>
            <a:chOff x="839880" y="1643040"/>
            <a:chExt cx="7715160" cy="2365560"/>
          </a:xfrm>
        </p:grpSpPr>
        <p:grpSp>
          <p:nvGrpSpPr>
            <p:cNvPr id="123" name=""/>
            <p:cNvGrpSpPr/>
            <p:nvPr/>
          </p:nvGrpSpPr>
          <p:grpSpPr>
            <a:xfrm>
              <a:off x="839880" y="1643040"/>
              <a:ext cx="7715160" cy="2365560"/>
              <a:chOff x="839880" y="1643040"/>
              <a:chExt cx="7715160" cy="23655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39880" y="1643040"/>
                <a:ext cx="7715160" cy="2365560"/>
                <a:chOff x="839880" y="1643040"/>
                <a:chExt cx="7715160" cy="2365560"/>
              </a:xfrm>
            </p:grpSpPr>
            <p:pic>
              <p:nvPicPr>
                <p:cNvPr id="125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9880" y="1643040"/>
                  <a:ext cx="7715160" cy="236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" name=""/>
                <p:cNvSpPr/>
                <p:nvPr/>
              </p:nvSpPr>
              <p:spPr>
                <a:xfrm>
                  <a:off x="920880" y="1696680"/>
                  <a:ext cx="7559640" cy="22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839880" y="1758240"/>
                <a:ext cx="7715160" cy="2123280"/>
                <a:chOff x="839880" y="1758240"/>
                <a:chExt cx="7715160" cy="2123280"/>
              </a:xfrm>
            </p:grpSpPr>
            <p:pic>
              <p:nvPicPr>
                <p:cNvPr id="128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9880" y="1758240"/>
                  <a:ext cx="7715160" cy="212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923760" y="1813680"/>
                  <a:ext cx="7553880" cy="19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Text Box 11"/>
            <p:cNvSpPr/>
            <p:nvPr/>
          </p:nvSpPr>
          <p:spPr>
            <a:xfrm>
              <a:off x="966600" y="1929600"/>
              <a:ext cx="751680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4360" y="51609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011480" y="2249640"/>
            <a:ext cx="1503360" cy="1546200"/>
            <a:chOff x="4011480" y="2249640"/>
            <a:chExt cx="1503360" cy="1546200"/>
          </a:xfrm>
        </p:grpSpPr>
        <p:grpSp>
          <p:nvGrpSpPr>
            <p:cNvPr id="134" name=""/>
            <p:cNvGrpSpPr/>
            <p:nvPr/>
          </p:nvGrpSpPr>
          <p:grpSpPr>
            <a:xfrm>
              <a:off x="4011480" y="2249640"/>
              <a:ext cx="1503360" cy="1546200"/>
              <a:chOff x="4011480" y="2249640"/>
              <a:chExt cx="1503360" cy="15462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011480" y="2249640"/>
                <a:ext cx="1503360" cy="1546200"/>
                <a:chOff x="4011480" y="2249640"/>
                <a:chExt cx="1503360" cy="1546200"/>
              </a:xfrm>
            </p:grpSpPr>
            <p:pic>
              <p:nvPicPr>
                <p:cNvPr id="136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11480" y="2249640"/>
                  <a:ext cx="1503360" cy="154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4276080" y="2496960"/>
                  <a:ext cx="9781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067280" y="2294280"/>
                <a:ext cx="1307160" cy="1350360"/>
                <a:chOff x="4067280" y="2294280"/>
                <a:chExt cx="1307160" cy="1350360"/>
              </a:xfrm>
            </p:grpSpPr>
            <p:pic>
              <p:nvPicPr>
                <p:cNvPr id="139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67280" y="2294280"/>
                  <a:ext cx="1307160" cy="135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4303440" y="2514960"/>
                  <a:ext cx="84312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Text Box 18"/>
            <p:cNvSpPr/>
            <p:nvPr/>
          </p:nvSpPr>
          <p:spPr>
            <a:xfrm>
              <a:off x="4086360" y="26535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001960" y="1332000"/>
            <a:ext cx="2791800" cy="1305360"/>
            <a:chOff x="2001960" y="1332000"/>
            <a:chExt cx="2791800" cy="1305360"/>
          </a:xfrm>
        </p:grpSpPr>
        <p:grpSp>
          <p:nvGrpSpPr>
            <p:cNvPr id="143" name=""/>
            <p:cNvGrpSpPr/>
            <p:nvPr/>
          </p:nvGrpSpPr>
          <p:grpSpPr>
            <a:xfrm>
              <a:off x="2001960" y="1332000"/>
              <a:ext cx="2791800" cy="1305360"/>
              <a:chOff x="2001960" y="1332000"/>
              <a:chExt cx="2791800" cy="13053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001960" y="1332000"/>
                <a:ext cx="2791800" cy="1305360"/>
                <a:chOff x="2001960" y="1332000"/>
                <a:chExt cx="2791800" cy="1305360"/>
              </a:xfrm>
            </p:grpSpPr>
            <p:sp>
              <p:nvSpPr>
                <p:cNvPr id="145" name="AutoShape 73"/>
                <p:cNvSpPr/>
                <p:nvPr/>
              </p:nvSpPr>
              <p:spPr>
                <a:xfrm rot="2700000">
                  <a:off x="3769200" y="1513800"/>
                  <a:ext cx="79056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圆角矩形 14"/>
                <p:cNvSpPr/>
                <p:nvPr/>
              </p:nvSpPr>
              <p:spPr>
                <a:xfrm>
                  <a:off x="2001960" y="1332000"/>
                  <a:ext cx="1836720" cy="7221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09640" y="1332000"/>
                <a:ext cx="702000" cy="722520"/>
                <a:chOff x="3509640" y="1332000"/>
                <a:chExt cx="702000" cy="72252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509640" y="1332000"/>
                  <a:ext cx="702000" cy="722520"/>
                  <a:chOff x="3509640" y="1332000"/>
                  <a:chExt cx="702000" cy="722520"/>
                </a:xfrm>
              </p:grpSpPr>
              <p:pic>
                <p:nvPicPr>
                  <p:cNvPr id="149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9640" y="133200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" name=""/>
                  <p:cNvSpPr/>
                  <p:nvPr/>
                </p:nvSpPr>
                <p:spPr>
                  <a:xfrm>
                    <a:off x="3651840" y="1459080"/>
                    <a:ext cx="420480" cy="42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3525120" y="1352160"/>
                  <a:ext cx="619560" cy="630360"/>
                  <a:chOff x="3525120" y="1352160"/>
                  <a:chExt cx="619560" cy="630360"/>
                </a:xfrm>
              </p:grpSpPr>
              <p:pic>
                <p:nvPicPr>
                  <p:cNvPr id="152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5120" y="1352160"/>
                    <a:ext cx="619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3" name=""/>
                  <p:cNvSpPr/>
                  <p:nvPr/>
                </p:nvSpPr>
                <p:spPr>
                  <a:xfrm>
                    <a:off x="3658320" y="1463400"/>
                    <a:ext cx="35928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" name="Text Box 18"/>
            <p:cNvSpPr/>
            <p:nvPr/>
          </p:nvSpPr>
          <p:spPr>
            <a:xfrm>
              <a:off x="208224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646080" y="1523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05280" y="1332000"/>
            <a:ext cx="2694240" cy="1392480"/>
            <a:chOff x="4805280" y="1332000"/>
            <a:chExt cx="2694240" cy="1392480"/>
          </a:xfrm>
        </p:grpSpPr>
        <p:grpSp>
          <p:nvGrpSpPr>
            <p:cNvPr id="157" name=""/>
            <p:cNvGrpSpPr/>
            <p:nvPr/>
          </p:nvGrpSpPr>
          <p:grpSpPr>
            <a:xfrm>
              <a:off x="4805280" y="1332000"/>
              <a:ext cx="2694240" cy="1392480"/>
              <a:chOff x="4805280" y="1332000"/>
              <a:chExt cx="2694240" cy="13924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4805280" y="1332000"/>
                <a:ext cx="2694240" cy="1392480"/>
                <a:chOff x="4805280" y="1332000"/>
                <a:chExt cx="2694240" cy="139248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4805280" y="1332000"/>
                  <a:ext cx="2694240" cy="1392480"/>
                  <a:chOff x="4805280" y="1332000"/>
                  <a:chExt cx="2694240" cy="1392480"/>
                </a:xfrm>
              </p:grpSpPr>
              <p:sp>
                <p:nvSpPr>
                  <p:cNvPr id="160" name="AutoShape 67"/>
                  <p:cNvSpPr/>
                  <p:nvPr/>
                </p:nvSpPr>
                <p:spPr>
                  <a:xfrm flipH="1" rot="18900000">
                    <a:off x="5011200" y="1607400"/>
                    <a:ext cx="874800" cy="9464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圆角矩形 54"/>
                  <p:cNvSpPr/>
                  <p:nvPr/>
                </p:nvSpPr>
                <p:spPr>
                  <a:xfrm>
                    <a:off x="5738760" y="1332000"/>
                    <a:ext cx="1760760" cy="7995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290920" y="1332000"/>
                  <a:ext cx="702000" cy="722880"/>
                  <a:chOff x="5290920" y="1332000"/>
                  <a:chExt cx="702000" cy="7228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5290920" y="1332000"/>
                    <a:ext cx="702000" cy="722880"/>
                    <a:chOff x="5290920" y="1332000"/>
                    <a:chExt cx="702000" cy="722880"/>
                  </a:xfrm>
                </p:grpSpPr>
                <p:pic>
                  <p:nvPicPr>
                    <p:cNvPr id="164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90920" y="13320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434560" y="1455120"/>
                      <a:ext cx="42048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311440" y="1347480"/>
                    <a:ext cx="614520" cy="635400"/>
                    <a:chOff x="5311440" y="1347480"/>
                    <a:chExt cx="614520" cy="635400"/>
                  </a:xfrm>
                </p:grpSpPr>
                <p:pic>
                  <p:nvPicPr>
                    <p:cNvPr id="167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11440" y="1347480"/>
                      <a:ext cx="61452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5440320" y="1459800"/>
                      <a:ext cx="360360" cy="370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9" name="Rectangle 26"/>
              <p:cNvSpPr/>
              <p:nvPr/>
            </p:nvSpPr>
            <p:spPr>
              <a:xfrm>
                <a:off x="5438520" y="1523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18"/>
            <p:cNvSpPr/>
            <p:nvPr/>
          </p:nvSpPr>
          <p:spPr>
            <a:xfrm>
              <a:off x="6039720" y="15314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560920" y="2511360"/>
            <a:ext cx="2637000" cy="1017720"/>
            <a:chOff x="5560920" y="2511360"/>
            <a:chExt cx="2637000" cy="1017720"/>
          </a:xfrm>
        </p:grpSpPr>
        <p:grpSp>
          <p:nvGrpSpPr>
            <p:cNvPr id="172" name=""/>
            <p:cNvGrpSpPr/>
            <p:nvPr/>
          </p:nvGrpSpPr>
          <p:grpSpPr>
            <a:xfrm>
              <a:off x="5560920" y="2511360"/>
              <a:ext cx="2637000" cy="1017720"/>
              <a:chOff x="5560920" y="2511360"/>
              <a:chExt cx="2637000" cy="101772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5560920" y="2511360"/>
                <a:ext cx="2637000" cy="1017720"/>
                <a:chOff x="5560920" y="2511360"/>
                <a:chExt cx="2637000" cy="10177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5560920" y="2511360"/>
                  <a:ext cx="2637000" cy="1017720"/>
                  <a:chOff x="5560920" y="2511360"/>
                  <a:chExt cx="2637000" cy="1017720"/>
                </a:xfrm>
              </p:grpSpPr>
              <p:sp>
                <p:nvSpPr>
                  <p:cNvPr id="175" name="AutoShape 49"/>
                  <p:cNvSpPr/>
                  <p:nvPr/>
                </p:nvSpPr>
                <p:spPr>
                  <a:xfrm flipH="1">
                    <a:off x="5560920" y="2511360"/>
                    <a:ext cx="768240" cy="101772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圆角矩形 47"/>
                  <p:cNvSpPr/>
                  <p:nvPr/>
                </p:nvSpPr>
                <p:spPr>
                  <a:xfrm>
                    <a:off x="6360840" y="2658960"/>
                    <a:ext cx="1837080" cy="722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000480" y="2658960"/>
                  <a:ext cx="702000" cy="722520"/>
                  <a:chOff x="6000480" y="2658960"/>
                  <a:chExt cx="702000" cy="72252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0480" y="2658960"/>
                    <a:ext cx="702000" cy="722520"/>
                    <a:chOff x="6000480" y="2658960"/>
                    <a:chExt cx="702000" cy="722520"/>
                  </a:xfrm>
                </p:grpSpPr>
                <p:pic>
                  <p:nvPicPr>
                    <p:cNvPr id="179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00480" y="2658960"/>
                      <a:ext cx="70200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144840" y="2784600"/>
                      <a:ext cx="417240" cy="429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6020640" y="2674080"/>
                    <a:ext cx="609840" cy="635400"/>
                    <a:chOff x="6020640" y="2674080"/>
                    <a:chExt cx="609840" cy="635400"/>
                  </a:xfrm>
                </p:grpSpPr>
                <p:pic>
                  <p:nvPicPr>
                    <p:cNvPr id="182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20640" y="2674080"/>
                      <a:ext cx="609840" cy="63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150960" y="2788560"/>
                      <a:ext cx="35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4" name="Rectangle 26"/>
              <p:cNvSpPr/>
              <p:nvPr/>
            </p:nvSpPr>
            <p:spPr>
              <a:xfrm>
                <a:off x="6136560" y="2839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8"/>
            <p:cNvSpPr/>
            <p:nvPr/>
          </p:nvSpPr>
          <p:spPr>
            <a:xfrm>
              <a:off x="6710400" y="285840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14360" y="2511360"/>
            <a:ext cx="2648160" cy="1017720"/>
            <a:chOff x="1314360" y="2511360"/>
            <a:chExt cx="2648160" cy="1017720"/>
          </a:xfrm>
        </p:grpSpPr>
        <p:grpSp>
          <p:nvGrpSpPr>
            <p:cNvPr id="187" name=""/>
            <p:cNvGrpSpPr/>
            <p:nvPr/>
          </p:nvGrpSpPr>
          <p:grpSpPr>
            <a:xfrm>
              <a:off x="1314360" y="2511360"/>
              <a:ext cx="2648160" cy="1017720"/>
              <a:chOff x="1314360" y="2511360"/>
              <a:chExt cx="2648160" cy="101772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314360" y="2511360"/>
                <a:ext cx="2648160" cy="1017720"/>
                <a:chOff x="1314360" y="2511360"/>
                <a:chExt cx="2648160" cy="1017720"/>
              </a:xfrm>
            </p:grpSpPr>
            <p:sp>
              <p:nvSpPr>
                <p:cNvPr id="189" name="AutoShape 71"/>
                <p:cNvSpPr/>
                <p:nvPr/>
              </p:nvSpPr>
              <p:spPr>
                <a:xfrm>
                  <a:off x="3194280" y="2511360"/>
                  <a:ext cx="768240" cy="101772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圆角矩形 21"/>
                <p:cNvSpPr/>
                <p:nvPr/>
              </p:nvSpPr>
              <p:spPr>
                <a:xfrm>
                  <a:off x="1314360" y="2658960"/>
                  <a:ext cx="1837080" cy="722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822040" y="2658960"/>
                <a:ext cx="702000" cy="722520"/>
                <a:chOff x="2822040" y="2658960"/>
                <a:chExt cx="702000" cy="72252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2822040" y="2658960"/>
                  <a:ext cx="702000" cy="722520"/>
                  <a:chOff x="2822040" y="2658960"/>
                  <a:chExt cx="702000" cy="722520"/>
                </a:xfrm>
              </p:grpSpPr>
              <p:pic>
                <p:nvPicPr>
                  <p:cNvPr id="193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22040" y="2658960"/>
                    <a:ext cx="7020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4" name=""/>
                  <p:cNvSpPr/>
                  <p:nvPr/>
                </p:nvSpPr>
                <p:spPr>
                  <a:xfrm>
                    <a:off x="2965320" y="2784600"/>
                    <a:ext cx="420480" cy="42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2842560" y="2674080"/>
                  <a:ext cx="614520" cy="635400"/>
                  <a:chOff x="2842560" y="2674080"/>
                  <a:chExt cx="614520" cy="635400"/>
                </a:xfrm>
              </p:grpSpPr>
              <p:pic>
                <p:nvPicPr>
                  <p:cNvPr id="196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2560" y="2674080"/>
                    <a:ext cx="614520" cy="6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7" name=""/>
                  <p:cNvSpPr/>
                  <p:nvPr/>
                </p:nvSpPr>
                <p:spPr>
                  <a:xfrm>
                    <a:off x="2972160" y="2788560"/>
                    <a:ext cx="359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8" name="Text Box 18"/>
            <p:cNvSpPr/>
            <p:nvPr/>
          </p:nvSpPr>
          <p:spPr>
            <a:xfrm>
              <a:off x="1427040" y="285840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2958120" y="2839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001960" y="3307680"/>
            <a:ext cx="2713320" cy="1380240"/>
            <a:chOff x="2001960" y="3307680"/>
            <a:chExt cx="2713320" cy="1380240"/>
          </a:xfrm>
        </p:grpSpPr>
        <p:grpSp>
          <p:nvGrpSpPr>
            <p:cNvPr id="201" name=""/>
            <p:cNvGrpSpPr/>
            <p:nvPr/>
          </p:nvGrpSpPr>
          <p:grpSpPr>
            <a:xfrm>
              <a:off x="2001960" y="3307680"/>
              <a:ext cx="2713320" cy="1380240"/>
              <a:chOff x="2001960" y="3307680"/>
              <a:chExt cx="2713320" cy="1380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2001960" y="3307680"/>
                <a:ext cx="2713320" cy="1380240"/>
                <a:chOff x="2001960" y="3307680"/>
                <a:chExt cx="2713320" cy="1380240"/>
              </a:xfrm>
            </p:grpSpPr>
            <p:sp>
              <p:nvSpPr>
                <p:cNvPr id="203" name="AutoShape 75"/>
                <p:cNvSpPr/>
                <p:nvPr/>
              </p:nvSpPr>
              <p:spPr>
                <a:xfrm rot="18900000">
                  <a:off x="3586320" y="3516480"/>
                  <a:ext cx="956880" cy="882720"/>
                </a:xfrm>
                <a:prstGeom prst="rightArrow">
                  <a:avLst>
                    <a:gd name="adj1" fmla="val 70389"/>
                    <a:gd name="adj2" fmla="val 71213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圆角矩形 31"/>
                <p:cNvSpPr/>
                <p:nvPr/>
              </p:nvSpPr>
              <p:spPr>
                <a:xfrm>
                  <a:off x="2001960" y="3883320"/>
                  <a:ext cx="1756440" cy="8046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09280" y="3965040"/>
                <a:ext cx="702000" cy="722880"/>
                <a:chOff x="3509280" y="3965040"/>
                <a:chExt cx="702000" cy="72288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3509280" y="3965040"/>
                  <a:ext cx="702000" cy="722880"/>
                  <a:chOff x="3509280" y="3965040"/>
                  <a:chExt cx="702000" cy="722880"/>
                </a:xfrm>
              </p:grpSpPr>
              <p:pic>
                <p:nvPicPr>
                  <p:cNvPr id="207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9280" y="3965040"/>
                    <a:ext cx="702000" cy="7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8" name=""/>
                  <p:cNvSpPr/>
                  <p:nvPr/>
                </p:nvSpPr>
                <p:spPr>
                  <a:xfrm>
                    <a:off x="3651120" y="4091760"/>
                    <a:ext cx="420120" cy="42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3524760" y="3985200"/>
                  <a:ext cx="619560" cy="630720"/>
                  <a:chOff x="3524760" y="3985200"/>
                  <a:chExt cx="619560" cy="630720"/>
                </a:xfrm>
              </p:grpSpPr>
              <p:pic>
                <p:nvPicPr>
                  <p:cNvPr id="210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4760" y="3985200"/>
                    <a:ext cx="619560" cy="6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1" name=""/>
                  <p:cNvSpPr/>
                  <p:nvPr/>
                </p:nvSpPr>
                <p:spPr>
                  <a:xfrm>
                    <a:off x="3656880" y="4096800"/>
                    <a:ext cx="360360" cy="36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2" name="Text Box 18"/>
            <p:cNvSpPr/>
            <p:nvPr/>
          </p:nvSpPr>
          <p:spPr>
            <a:xfrm>
              <a:off x="2033640" y="416448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6"/>
            <p:cNvSpPr/>
            <p:nvPr/>
          </p:nvSpPr>
          <p:spPr>
            <a:xfrm>
              <a:off x="3645360" y="4145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730760" y="3400200"/>
            <a:ext cx="2768760" cy="1286280"/>
            <a:chOff x="4730760" y="3400200"/>
            <a:chExt cx="2768760" cy="1286280"/>
          </a:xfrm>
        </p:grpSpPr>
        <p:grpSp>
          <p:nvGrpSpPr>
            <p:cNvPr id="215" name=""/>
            <p:cNvGrpSpPr/>
            <p:nvPr/>
          </p:nvGrpSpPr>
          <p:grpSpPr>
            <a:xfrm>
              <a:off x="4730760" y="3400200"/>
              <a:ext cx="2768760" cy="1286280"/>
              <a:chOff x="4730760" y="3400200"/>
              <a:chExt cx="2768760" cy="12862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730760" y="3400200"/>
                <a:ext cx="2768760" cy="1286280"/>
                <a:chOff x="4730760" y="3400200"/>
                <a:chExt cx="2768760" cy="12862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4730760" y="3400200"/>
                  <a:ext cx="2768760" cy="1286280"/>
                  <a:chOff x="4730760" y="3400200"/>
                  <a:chExt cx="2768760" cy="1286280"/>
                </a:xfrm>
              </p:grpSpPr>
              <p:sp>
                <p:nvSpPr>
                  <p:cNvPr id="218" name="AutoShape 69"/>
                  <p:cNvSpPr/>
                  <p:nvPr/>
                </p:nvSpPr>
                <p:spPr>
                  <a:xfrm flipH="1" rot="2700000">
                    <a:off x="4865760" y="3633480"/>
                    <a:ext cx="988200" cy="791640"/>
                  </a:xfrm>
                  <a:prstGeom prst="rightArrow">
                    <a:avLst>
                      <a:gd name="adj1" fmla="val 70389"/>
                      <a:gd name="adj2" fmla="val 8061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圆角矩形 38"/>
                  <p:cNvSpPr/>
                  <p:nvPr/>
                </p:nvSpPr>
                <p:spPr>
                  <a:xfrm>
                    <a:off x="5663160" y="3962880"/>
                    <a:ext cx="1836360" cy="723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291640" y="3963600"/>
                  <a:ext cx="702000" cy="722880"/>
                  <a:chOff x="5291640" y="3963600"/>
                  <a:chExt cx="702000" cy="72288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291640" y="3963600"/>
                    <a:ext cx="702000" cy="722880"/>
                    <a:chOff x="5291640" y="3963600"/>
                    <a:chExt cx="702000" cy="722880"/>
                  </a:xfrm>
                </p:grpSpPr>
                <p:pic>
                  <p:nvPicPr>
                    <p:cNvPr id="222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91640" y="3963600"/>
                      <a:ext cx="70200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435640" y="4084920"/>
                      <a:ext cx="420480" cy="43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5312160" y="3973680"/>
                    <a:ext cx="614520" cy="640440"/>
                    <a:chOff x="5312160" y="3973680"/>
                    <a:chExt cx="614520" cy="640440"/>
                  </a:xfrm>
                </p:grpSpPr>
                <p:pic>
                  <p:nvPicPr>
                    <p:cNvPr id="225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12160" y="3973680"/>
                      <a:ext cx="614520" cy="6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441760" y="4088880"/>
                      <a:ext cx="359280" cy="37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7" name="Rectangle 26"/>
              <p:cNvSpPr/>
              <p:nvPr/>
            </p:nvSpPr>
            <p:spPr>
              <a:xfrm>
                <a:off x="5427720" y="4144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943960" y="416304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949320" y="1425600"/>
            <a:ext cx="7408800" cy="3639960"/>
            <a:chOff x="949320" y="1425600"/>
            <a:chExt cx="7408800" cy="3639960"/>
          </a:xfrm>
        </p:grpSpPr>
        <p:grpSp>
          <p:nvGrpSpPr>
            <p:cNvPr id="231" name=""/>
            <p:cNvGrpSpPr/>
            <p:nvPr/>
          </p:nvGrpSpPr>
          <p:grpSpPr>
            <a:xfrm>
              <a:off x="949320" y="1425600"/>
              <a:ext cx="7408800" cy="3639960"/>
              <a:chOff x="949320" y="1425600"/>
              <a:chExt cx="7408800" cy="3639960"/>
            </a:xfrm>
          </p:grpSpPr>
          <p:sp>
            <p:nvSpPr>
              <p:cNvPr id="232" name="AutoShape 5"/>
              <p:cNvSpPr/>
              <p:nvPr/>
            </p:nvSpPr>
            <p:spPr>
              <a:xfrm>
                <a:off x="949320" y="1425600"/>
                <a:ext cx="7408800" cy="363996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1071000" y="1534680"/>
                <a:ext cx="7165440" cy="3421440"/>
              </a:xfrm>
              <a:prstGeom prst="roundRect">
                <a:avLst>
                  <a:gd name="adj" fmla="val 3486"/>
                </a:avLst>
              </a:prstGeom>
              <a:solidFill>
                <a:srgbClr val="000000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375920" y="2031120"/>
              <a:ext cx="6475680" cy="2741760"/>
              <a:chOff x="1375920" y="2031120"/>
              <a:chExt cx="6475680" cy="2741760"/>
            </a:xfrm>
          </p:grpSpPr>
          <p:sp>
            <p:nvSpPr>
              <p:cNvPr id="235" name="Line 11"/>
              <p:cNvSpPr/>
              <p:nvPr/>
            </p:nvSpPr>
            <p:spPr>
              <a:xfrm>
                <a:off x="298368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2"/>
              <p:cNvSpPr/>
              <p:nvPr/>
            </p:nvSpPr>
            <p:spPr>
              <a:xfrm>
                <a:off x="4644720" y="2439360"/>
                <a:ext cx="144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3"/>
              <p:cNvSpPr/>
              <p:nvPr/>
            </p:nvSpPr>
            <p:spPr>
              <a:xfrm>
                <a:off x="6294600" y="2439360"/>
                <a:ext cx="2880" cy="1980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6"/>
              <p:cNvSpPr/>
              <p:nvPr/>
            </p:nvSpPr>
            <p:spPr>
              <a:xfrm>
                <a:off x="186840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57"/>
              <p:cNvSpPr/>
              <p:nvPr/>
            </p:nvSpPr>
            <p:spPr>
              <a:xfrm>
                <a:off x="352764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51897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59"/>
              <p:cNvSpPr/>
              <p:nvPr/>
            </p:nvSpPr>
            <p:spPr>
              <a:xfrm>
                <a:off x="6858360" y="44658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25"/>
              <p:cNvSpPr/>
              <p:nvPr/>
            </p:nvSpPr>
            <p:spPr>
              <a:xfrm>
                <a:off x="1677600" y="4300560"/>
                <a:ext cx="479160" cy="1234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26"/>
              <p:cNvSpPr/>
              <p:nvPr/>
            </p:nvSpPr>
            <p:spPr>
              <a:xfrm>
                <a:off x="3331800" y="4013280"/>
                <a:ext cx="476280" cy="4111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27"/>
              <p:cNvSpPr/>
              <p:nvPr/>
            </p:nvSpPr>
            <p:spPr>
              <a:xfrm>
                <a:off x="4992480" y="3611520"/>
                <a:ext cx="479160" cy="81288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28"/>
              <p:cNvSpPr/>
              <p:nvPr/>
            </p:nvSpPr>
            <p:spPr>
              <a:xfrm>
                <a:off x="6643800" y="3489480"/>
                <a:ext cx="477720" cy="934920"/>
              </a:xfrm>
              <a:prstGeom prst="rect">
                <a:avLst/>
              </a:prstGeom>
              <a:solidFill>
                <a:srgbClr val="ffff00">
                  <a:alpha val="47000"/>
                </a:srgbClr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29"/>
              <p:cNvSpPr/>
              <p:nvPr/>
            </p:nvSpPr>
            <p:spPr>
              <a:xfrm>
                <a:off x="2157120" y="3408480"/>
                <a:ext cx="466560" cy="10159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30"/>
              <p:cNvSpPr/>
              <p:nvPr/>
            </p:nvSpPr>
            <p:spPr>
              <a:xfrm>
                <a:off x="3808080" y="3568680"/>
                <a:ext cx="479160" cy="85572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31"/>
              <p:cNvSpPr/>
              <p:nvPr/>
            </p:nvSpPr>
            <p:spPr>
              <a:xfrm>
                <a:off x="5472000" y="3076560"/>
                <a:ext cx="465120" cy="134784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2"/>
              <p:cNvSpPr/>
              <p:nvPr/>
            </p:nvSpPr>
            <p:spPr>
              <a:xfrm>
                <a:off x="7121520" y="3322440"/>
                <a:ext cx="468000" cy="1101600"/>
              </a:xfrm>
              <a:prstGeom prst="rect">
                <a:avLst/>
              </a:prstGeom>
              <a:solidFill>
                <a:srgbClr val="7345a1">
                  <a:alpha val="70000"/>
                </a:srgbClr>
              </a:solidFill>
              <a:ln w="12600">
                <a:solidFill>
                  <a:srgbClr val="381d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6"/>
              <p:cNvSpPr/>
              <p:nvPr/>
            </p:nvSpPr>
            <p:spPr>
              <a:xfrm>
                <a:off x="2200320" y="31370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6"/>
              <p:cNvSpPr/>
              <p:nvPr/>
            </p:nvSpPr>
            <p:spPr>
              <a:xfrm>
                <a:off x="1731960" y="40323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6"/>
              <p:cNvSpPr/>
              <p:nvPr/>
            </p:nvSpPr>
            <p:spPr>
              <a:xfrm>
                <a:off x="3643200" y="328284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56"/>
              <p:cNvSpPr/>
              <p:nvPr/>
            </p:nvSpPr>
            <p:spPr>
              <a:xfrm>
                <a:off x="3379680" y="3737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6"/>
              <p:cNvSpPr/>
              <p:nvPr/>
            </p:nvSpPr>
            <p:spPr>
              <a:xfrm>
                <a:off x="5357520" y="277020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6"/>
              <p:cNvSpPr/>
              <p:nvPr/>
            </p:nvSpPr>
            <p:spPr>
              <a:xfrm>
                <a:off x="5026320" y="3336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7091280" y="30639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56"/>
              <p:cNvSpPr/>
              <p:nvPr/>
            </p:nvSpPr>
            <p:spPr>
              <a:xfrm>
                <a:off x="6685200" y="32148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1384920" y="2031120"/>
                <a:ext cx="0" cy="238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8"/>
              <p:cNvSpPr/>
              <p:nvPr/>
            </p:nvSpPr>
            <p:spPr>
              <a:xfrm>
                <a:off x="1375920" y="4420080"/>
                <a:ext cx="647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627200" y="1192320"/>
            <a:ext cx="6100920" cy="566640"/>
            <a:chOff x="1627200" y="1192320"/>
            <a:chExt cx="6100920" cy="566640"/>
          </a:xfrm>
        </p:grpSpPr>
        <p:grpSp>
          <p:nvGrpSpPr>
            <p:cNvPr id="261" name=""/>
            <p:cNvGrpSpPr/>
            <p:nvPr/>
          </p:nvGrpSpPr>
          <p:grpSpPr>
            <a:xfrm>
              <a:off x="1627200" y="1192320"/>
              <a:ext cx="6100920" cy="566640"/>
              <a:chOff x="1627200" y="1192320"/>
              <a:chExt cx="6100920" cy="56664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627200" y="1192320"/>
                <a:ext cx="6100920" cy="566640"/>
                <a:chOff x="1627200" y="1192320"/>
                <a:chExt cx="6100920" cy="566640"/>
              </a:xfrm>
            </p:grpSpPr>
            <p:pic>
              <p:nvPicPr>
                <p:cNvPr id="26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27200" y="1192320"/>
                  <a:ext cx="61009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1719360" y="1247040"/>
                  <a:ext cx="592020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27200" y="1261080"/>
                <a:ext cx="6095160" cy="423720"/>
                <a:chOff x="1627200" y="1261080"/>
                <a:chExt cx="6095160" cy="423720"/>
              </a:xfrm>
            </p:grpSpPr>
            <p:pic>
              <p:nvPicPr>
                <p:cNvPr id="26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27200" y="1261080"/>
                  <a:ext cx="6095160" cy="42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1711080" y="1309680"/>
                  <a:ext cx="593460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Rectangle 13"/>
            <p:cNvSpPr/>
            <p:nvPr/>
          </p:nvSpPr>
          <p:spPr>
            <a:xfrm>
              <a:off x="4175640" y="12751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C:\Documents and Settings\Administrator\My Documents\My Pictures\1018410_153103002_2.jpg"/>
          <p:cNvPicPr/>
          <p:nvPr/>
        </p:nvPicPr>
        <p:blipFill>
          <a:blip r:embed="rId1"/>
          <a:stretch/>
        </p:blipFill>
        <p:spPr>
          <a:xfrm>
            <a:off x="1523880" y="957240"/>
            <a:ext cx="3432240" cy="4065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249120" y="36360"/>
            <a:ext cx="23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8560" y="5060880"/>
            <a:ext cx="371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2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8:32:55Z</dcterms:created>
  <dc:creator/>
  <dc:description/>
  <dc:language>en-US</dc:language>
  <cp:lastModifiedBy>chenkui</cp:lastModifiedBy>
  <dcterms:modified xsi:type="dcterms:W3CDTF">2014-11-02T01:01:03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