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7069-768B-4953-997B-D8A0FEF6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606B-B33B-4162-A92D-E17E3095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8242-1173-419D-AAFB-589D69F2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7A29-FBBB-4A75-9C76-09773422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3F2B-3D0B-4265-86E1-0E74F8E5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E5DD-21F7-4A4D-BE27-F01198DC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421E-5404-47AE-91F7-4BF28A6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95D1-402B-4CBE-9173-8B6F80A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5068-470F-45E1-B499-14843C7B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70D9-6E65-41E4-B737-D7DCC4E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D1A4-D04C-41D0-AC3D-F35BB675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7C2F-2D40-4ACD-8DD4-FB0687F4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053373A-A49F-4FDA-9F38-86801C30E6D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C566-16B5-4E53-AD4F-E2B203E6AD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DDF-76F1-49C9-BE55-AC1290A7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68360" y="364320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™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9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30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51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55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59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1479600" y="306864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75600" y="486900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E5DB-246A-4544-953E-63E6D7802F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ERICLAU</cp:lastModifiedBy>
  <cp:lastPrinted>1899-12-30T00:00:00Z</cp:lastPrinted>
  <dcterms:modified xsi:type="dcterms:W3CDTF">2014-05-16T06:50:20Z</dcterms:modified>
  <cp:revision>2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