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80200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81120" y="4808520"/>
            <a:ext cx="80200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9088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1120" y="480852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90880" y="480852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93000" y="205848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04520" y="205848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81120" y="480852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93000" y="480852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04520" y="4808520"/>
            <a:ext cx="25822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81120" y="2058480"/>
            <a:ext cx="8020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802008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391356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90880" y="2058480"/>
            <a:ext cx="391356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500040"/>
            <a:ext cx="90676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90880" y="2058480"/>
            <a:ext cx="391356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81120" y="480852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391356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9088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90880" y="480852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8112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90880" y="2058480"/>
            <a:ext cx="391356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81120" y="4808520"/>
            <a:ext cx="8020080" cy="251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onald_bkg01"/>
          <p:cNvPicPr/>
          <p:nvPr/>
        </p:nvPicPr>
        <p:blipFill>
          <a:blip r:embed="rId2"/>
          <a:stretch/>
        </p:blipFill>
        <p:spPr>
          <a:xfrm>
            <a:off x="0" y="0"/>
            <a:ext cx="10158480" cy="7618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500040"/>
            <a:ext cx="906768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5600" spc="-1" strike="noStrike">
                <a:solidFill>
                  <a:srgbClr val="b60023"/>
                </a:solidFill>
                <a:latin typeface="Arial Narrow"/>
              </a:rPr>
              <a:t>Click to edit the title text format</a:t>
            </a: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81120" y="2058480"/>
            <a:ext cx="8020080" cy="5264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91960" indent="-291960">
              <a:lnSpc>
                <a:spcPct val="90000"/>
              </a:lnSpc>
              <a:spcBef>
                <a:spcPts val="1250"/>
              </a:spcBef>
              <a:buClr>
                <a:srgbClr val="b00000"/>
              </a:buClr>
              <a:buFont typeface="Arial Narrow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Click to edit the outline text format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1" marL="914400" indent="-398520">
              <a:lnSpc>
                <a:spcPct val="90000"/>
              </a:lnSpc>
              <a:spcBef>
                <a:spcPts val="1250"/>
              </a:spcBef>
              <a:buClr>
                <a:srgbClr val="b00000"/>
              </a:buClr>
              <a:buFont typeface="Arial Narrow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Second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2" marL="1282680" indent="-253800">
              <a:lnSpc>
                <a:spcPct val="90000"/>
              </a:lnSpc>
              <a:spcBef>
                <a:spcPts val="1250"/>
              </a:spcBef>
              <a:buClr>
                <a:srgbClr val="b00000"/>
              </a:buClr>
              <a:buFont typeface="Arial Narrow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Third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3" marL="1778040" indent="-2541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Fourth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4" marL="2286000" indent="-2541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Fifth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5" marL="2286000" indent="-2541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Sixth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  <a:p>
            <a:pPr lvl="6" marL="2286000" indent="-2541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322100"/>
                </a:solidFill>
                <a:latin typeface="Arial Narrow"/>
              </a:rPr>
              <a:t>Seventh Outline Level</a:t>
            </a:r>
            <a:endParaRPr b="1" lang="en-US" sz="4000" spc="-1" strike="noStrike">
              <a:solidFill>
                <a:srgbClr val="3221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63480" y="2438280"/>
            <a:ext cx="8910720" cy="41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演出工作报告</a:t>
            </a:r>
            <a:r>
              <a:rPr b="1" lang="zh-CN" sz="5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PPT</a:t>
            </a:r>
            <a:r>
              <a:rPr b="1" lang="zh-CN" sz="5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模板</a:t>
            </a:r>
            <a:br>
              <a:rPr sz="5400"/>
            </a:br>
            <a:r>
              <a:rPr b="1" lang="en-US" sz="5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br>
              <a:rPr sz="5400"/>
            </a:br>
            <a:br>
              <a:rPr sz="5400"/>
            </a:br>
            <a:r>
              <a:rPr b="1" lang="en-US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201</a:t>
            </a:r>
            <a:r>
              <a:rPr b="1" lang="zh-CN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4</a:t>
            </a:r>
            <a:r>
              <a:rPr b="1" lang="en-US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.8.20/8.21/8.26</a:t>
            </a:r>
            <a:r>
              <a:rPr b="1" lang="en-US" sz="4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                    </a:t>
            </a:r>
            <a:endParaRPr b="1" lang="en-US" sz="40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40" name=""/>
          <p:cNvSpPr/>
          <p:nvPr/>
        </p:nvSpPr>
        <p:spPr>
          <a:xfrm>
            <a:off x="-17280" y="714384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0"/>
          <p:cNvSpPr/>
          <p:nvPr/>
        </p:nvSpPr>
        <p:spPr>
          <a:xfrm>
            <a:off x="0" y="0"/>
            <a:ext cx="10158480" cy="7616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4000" y="19080"/>
            <a:ext cx="708660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zh-CN" sz="4400" spc="-1" strike="noStrike">
                <a:solidFill>
                  <a:srgbClr val="b60023"/>
                </a:solidFill>
                <a:latin typeface="Arial Unicode MS"/>
                <a:ea typeface="Arial Unicode MS"/>
              </a:rPr>
              <a:t>当月演出完成场次达成分析</a:t>
            </a:r>
            <a:endParaRPr b="1" lang="en-US" sz="44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43" name="圆角矩形 8"/>
          <p:cNvSpPr/>
          <p:nvPr/>
        </p:nvSpPr>
        <p:spPr>
          <a:xfrm>
            <a:off x="736560" y="977760"/>
            <a:ext cx="8634600" cy="133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57480" y="1455840"/>
          <a:ext cx="7734240" cy="4944960"/>
        </p:xfrm>
        <a:graphic>
          <a:graphicData uri="http://schemas.openxmlformats.org/drawingml/2006/table">
            <a:tbl>
              <a:tblPr/>
              <a:tblGrid>
                <a:gridCol w="2614680"/>
                <a:gridCol w="2560680"/>
                <a:gridCol w="25588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演出类型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规划场次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完成场次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chool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how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tore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how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ay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Hello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十周年晚宴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ub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Total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6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6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7063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 Narrow"/>
                          <a:ea typeface="宋体"/>
                        </a:rPr>
                        <a:t>备注：   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0"/>
          <p:cNvSpPr/>
          <p:nvPr/>
        </p:nvSpPr>
        <p:spPr>
          <a:xfrm>
            <a:off x="0" y="0"/>
            <a:ext cx="10158480" cy="7616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7280" y="0"/>
            <a:ext cx="906768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zh-CN" sz="4400" spc="-1" strike="noStrike">
                <a:solidFill>
                  <a:srgbClr val="b60023"/>
                </a:solidFill>
                <a:latin typeface="Arial Unicode MS"/>
                <a:ea typeface="Arial Unicode MS"/>
              </a:rPr>
              <a:t>演出观众人数与全年目标达成分析</a:t>
            </a:r>
            <a:endParaRPr b="1" lang="en-US" sz="44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47" name="圆角矩形 7"/>
          <p:cNvSpPr/>
          <p:nvPr/>
        </p:nvSpPr>
        <p:spPr>
          <a:xfrm>
            <a:off x="838080" y="1098720"/>
            <a:ext cx="8634600" cy="133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1840" y="1409760"/>
          <a:ext cx="8518680" cy="5192640"/>
        </p:xfrm>
        <a:graphic>
          <a:graphicData uri="http://schemas.openxmlformats.org/drawingml/2006/table">
            <a:tbl>
              <a:tblPr/>
              <a:tblGrid>
                <a:gridCol w="1419120"/>
                <a:gridCol w="1738440"/>
                <a:gridCol w="2521080"/>
                <a:gridCol w="2840040"/>
              </a:tblGrid>
              <a:tr h="7873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演出类型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平均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Narrow"/>
                          <a:ea typeface="宋体"/>
                        </a:rPr>
                        <a:t>目标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人数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平均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Narrow"/>
                          <a:ea typeface="宋体"/>
                        </a:rPr>
                        <a:t>实际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人数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16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tore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how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25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25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741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ay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Hello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00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G O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4124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chool</a:t>
                      </a: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how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小学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幼儿园</a:t>
                      </a:r>
                      <a:endParaRPr b="1" lang="en-US" sz="28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英语学校</a:t>
                      </a: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3480" y="711036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4"/>
          <p:cNvSpPr/>
          <p:nvPr/>
        </p:nvSpPr>
        <p:spPr>
          <a:xfrm>
            <a:off x="0" y="0"/>
            <a:ext cx="10158480" cy="7616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6240" y="23760"/>
            <a:ext cx="584856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zh-CN" sz="4400" spc="-1" strike="noStrike">
                <a:solidFill>
                  <a:srgbClr val="b60023"/>
                </a:solidFill>
                <a:latin typeface="Arial Unicode MS"/>
                <a:ea typeface="Arial Unicode MS"/>
              </a:rPr>
              <a:t>演出执行状况汇总</a:t>
            </a:r>
            <a:endParaRPr b="1" lang="en-US" sz="44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52" name="圆角矩形 14"/>
          <p:cNvSpPr/>
          <p:nvPr/>
        </p:nvSpPr>
        <p:spPr>
          <a:xfrm>
            <a:off x="1504800" y="971640"/>
            <a:ext cx="8634600" cy="133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281240"/>
          <a:ext cx="9891720" cy="6146640"/>
        </p:xfrm>
        <a:graphic>
          <a:graphicData uri="http://schemas.openxmlformats.org/drawingml/2006/table">
            <a:tbl>
              <a:tblPr/>
              <a:tblGrid>
                <a:gridCol w="4610160"/>
                <a:gridCol w="1238040"/>
                <a:gridCol w="1638360"/>
                <a:gridCol w="2405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执行项目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完成情况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未达标餐厅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Remark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经理到达活动现场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经理发言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N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活动负责人员准时到场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准时演出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主题表演前</a:t>
                      </a:r>
                      <a:r>
                        <a:rPr b="1" lang="en-US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MSM</a:t>
                      </a: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活动配合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是否有欢迎麦当劳叔叔仪式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是否做好</a:t>
                      </a:r>
                      <a:r>
                        <a:rPr b="1" lang="en-US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Show</a:t>
                      </a: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前准备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护卫是否穿着整齐、佩戴手套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护卫是否了解职责、流程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餐厅协调人员是否知道流程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顾客服务大使是否具备暖场能力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顾客服务大使是否组织好观众有序观看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员工是否热情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22100"/>
                          </a:solidFill>
                          <a:latin typeface="Arial Narrow"/>
                          <a:ea typeface="宋体"/>
                        </a:rPr>
                        <a:t>小朋友人数是否达标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00"/>
                          </a:solidFill>
                          <a:latin typeface="Arial Narrow"/>
                          <a:ea typeface="宋体"/>
                        </a:rPr>
                        <a:t>Y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10158480" cy="7616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120" y="4680"/>
            <a:ext cx="788652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zh-CN" sz="4400" spc="-1" strike="noStrike">
                <a:solidFill>
                  <a:srgbClr val="b60023"/>
                </a:solidFill>
                <a:latin typeface="Arial Unicode MS"/>
                <a:ea typeface="Arial Unicode MS"/>
              </a:rPr>
              <a:t>演出执行状况“机会点”汇总</a:t>
            </a:r>
            <a:endParaRPr b="1" lang="en-US" sz="44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56" name="圆角矩形 8"/>
          <p:cNvSpPr/>
          <p:nvPr/>
        </p:nvSpPr>
        <p:spPr>
          <a:xfrm>
            <a:off x="1504800" y="971640"/>
            <a:ext cx="8634600" cy="133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46160" y="1936800"/>
          <a:ext cx="8231040" cy="2521080"/>
        </p:xfrm>
        <a:graphic>
          <a:graphicData uri="http://schemas.openxmlformats.org/drawingml/2006/table">
            <a:tbl>
              <a:tblPr/>
              <a:tblGrid>
                <a:gridCol w="823104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★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餐会的气氛很好，麦当劳叔叔带来的新游戏和节目受到小朋友的喜欢，能跟麦当劳叔叔一起过生日小朋友们都非常开心。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3221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ccb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168560" y="3225960"/>
            <a:ext cx="168120" cy="13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5840" y="7128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14040" y="3241440"/>
            <a:ext cx="6115320" cy="12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2800"/>
            </a:outerShdw>
          </a:effectLst>
        </p:spPr>
        <p:txBody>
          <a:bodyPr lIns="101520" rIns="101520" tIns="50760" bIns="507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5600" spc="-1" strike="noStrike">
                <a:solidFill>
                  <a:srgbClr val="b60023"/>
                </a:solidFill>
                <a:latin typeface="Arial Unicode MS"/>
                <a:ea typeface="Arial Unicode MS"/>
              </a:rPr>
              <a:t>THANK YOU</a:t>
            </a:r>
            <a:endParaRPr b="1" lang="en-US" sz="5600" spc="-1" strike="noStrike">
              <a:solidFill>
                <a:srgbClr val="b60023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1352520" y="7093080"/>
            <a:ext cx="74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2400" spc="-1" strike="noStrike">
              <a:solidFill>
                <a:srgbClr val="3221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406080" cy="7616880"/>
            <a:chOff x="0" y="0"/>
            <a:chExt cx="9406080" cy="7616880"/>
          </a:xfrm>
        </p:grpSpPr>
        <p:sp>
          <p:nvSpPr>
            <p:cNvPr id="63" name="矩形 4"/>
            <p:cNvSpPr/>
            <p:nvPr/>
          </p:nvSpPr>
          <p:spPr>
            <a:xfrm>
              <a:off x="10166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221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3221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3221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3221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322100"/>
                </a:solidFill>
                <a:latin typeface="Comic Sans MS"/>
              </a:endParaRPr>
            </a:p>
          </p:txBody>
        </p:sp>
        <p:pic>
          <p:nvPicPr>
            <p:cNvPr id="6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904040"/>
              <a:ext cx="9406080" cy="57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7"/>
            <p:cNvSpPr/>
            <p:nvPr/>
          </p:nvSpPr>
          <p:spPr>
            <a:xfrm rot="20926800">
              <a:off x="2121120" y="3968640"/>
              <a:ext cx="518508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3221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20:41:06Z</dcterms:created>
  <dc:creator>elaine</dc:creator>
  <dc:description/>
  <dc:language>en-US</dc:language>
  <cp:lastModifiedBy>雨林木风</cp:lastModifiedBy>
  <cp:lastPrinted>2002-10-02T21:10:54Z</cp:lastPrinted>
  <dcterms:modified xsi:type="dcterms:W3CDTF">2014-10-27T01:11:36Z</dcterms:modified>
  <cp:revision>8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