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437-681D-47DE-8418-32DC6ADA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3D6-AEC4-4B45-BFB6-5FA6F6AB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1B3-E8C1-42A5-A488-3D51F2D6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7C8-FF26-47A5-95B2-18DA5DA4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EFBE-9BBE-40BC-8AF6-3E24B649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DC0E-1AA5-4643-9426-F73E232E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2571-A13F-4947-B24F-4AA3C753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F6BA-876D-4167-A446-0184E66B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D87C-21C1-4E25-81E1-AB198967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9155-D09F-441B-8B48-95F0F676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5F9A-E028-4FD0-BB38-51E24572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8B0-340C-4552-97A6-40978FCC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E887-C740-4879-8FA5-E4FF77D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9FDE-3037-4A06-82C7-F976B80B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33F2-591B-41F9-A8B6-8C6A89A3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8F8D-BAF1-4DA0-BC20-157B0A3C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0B9A-0C8E-4133-A3C5-41F0D313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1663-D2FA-4FCA-B60C-A0B3818A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C8DF-5319-4405-B80E-66453C7C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D21A-68A1-4FFF-8D7C-6C6FA2FD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C7B0A-C2C6-4C5E-8EA2-0F4F94F7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E96D-B297-4D28-9031-23DB3118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E00-1911-4639-AA97-7FA752C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3C80-FAC8-4E7D-81A0-24288625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A6F1-2191-4D56-8A82-F02D8C36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34CB-BF8C-4108-A62F-F2718918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AE468-49F5-449C-B31A-01B02A58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F22A8-89DB-4839-9A5E-337AF405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76A1D-369C-4861-9C78-9B6D50AD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AB9D-6AFA-44C5-AE90-A7F4EB47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036A4-4E9F-4A7A-9DB5-1B79B137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587AC-F9E3-4D29-9612-2BFBBDFE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21D8-69C9-4850-BB5D-F70A2F13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5A0-6212-4662-86A3-AE83B9F4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82F21-0E18-4709-8225-26D7E5B5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C521-5C1D-43C7-8BB7-917AA1D9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0EEEA-45F9-42A7-ADA2-21D050AF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B1E22-9C3F-48CB-9244-764AB07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A49C0-CFE2-4F58-BFE3-56BEAF33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418C2-1001-434C-9549-850C3137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9E546-99CF-4989-B9E1-DF164157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7E598-A27B-47D9-AC09-88919B50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96CB-1B8F-4E4B-90DF-64EFDE6B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101-9729-4A44-A708-4FA5C4FB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BBF-457F-44E1-9256-958DDCC0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499-1350-4660-B272-C0FAEE54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FBB-2BD3-45F0-8486-ECD0FAEF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C78-2604-4A8E-B27C-AB27F3A2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E880-78AA-42EC-828F-E1A3B47FD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E35D-69C5-4DBA-9172-707C9A84A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2551" t="39213" r="20915" b="6997"/>
          <a:stretch/>
        </p:blipFill>
        <p:spPr>
          <a:xfrm>
            <a:off x="0" y="-1908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260280"/>
            <a:ext cx="8209080" cy="58579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D3E1-1B73-40B1-BF3C-167D4FFE0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rcRect l="2551" t="39213" r="20915" b="6997"/>
          <a:stretch/>
        </p:blipFill>
        <p:spPr>
          <a:xfrm>
            <a:off x="0" y="-1908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2720" y="838080"/>
            <a:ext cx="568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DC3A-8E17-451B-A8AB-A47E67343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838080"/>
            <a:ext cx="568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滴水穿石的启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12360" y="2374920"/>
            <a:ext cx="5689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20000" y="3933720"/>
            <a:ext cx="1317600" cy="1914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51640" y="2779560"/>
            <a:ext cx="29232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0.02266 L -0.00799 0.24092 E">
                                      <p:cBhvr>
                                        <p:cTn id="6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050920" y="242100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汉鼎繁颜体"/>
              </a:rPr>
              <a:t>我来介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0" y="2768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马克思的脚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伦敦，有一座举世闻名的博物馆——大英博物馆。虽然它与我们远隔千山万水，但很多中国人对它并不陌生。由于马克思成年累月在大英博物馆的圆形阅览室里阅读、写作，竟然在坚硬的水泥地上磨出了两个清晰的脚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5805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马克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498920" y="2922120"/>
            <a:ext cx="46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贝多芬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开始听力逐渐减退，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双耳全聋。这对一位作曲家来说是一个致命的打击。但他没有放弃对音乐的追求，他的目标只有一个：创造出最美的音乐。他说过一句有名的话：呃住命运的喉咙，绝不能向它屈服。二十多年来，他一直在无声的世界里谱写最美的乐章。持之以恒的努力使他取得了巨大的成功。他的曲子在世界乐坛掀起狂澜，他的作品成为人类音乐宝库中光芒万丈的珍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332000" y="580536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贝多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55640" y="1463400"/>
            <a:ext cx="7920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你看，古今中外，所有成就事业的人，在前进的道路上，不都是靠着这种“滴水穿石”的精神，才“滴穿”一块块“顽石”，最终取得成功的吗？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3141720"/>
            <a:ext cx="0" cy="1224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27640" y="2492280"/>
            <a:ext cx="0" cy="29527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86040" y="4346640"/>
            <a:ext cx="18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克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0" y="4365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困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5516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目标专一   持之以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3141720"/>
            <a:ext cx="0" cy="1224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40120" y="54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古今中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89160" y="32925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是什么原因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3284640"/>
            <a:ext cx="75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因为它没有专     一的目标，也不能持之以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486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我们也能像水滴那样，还有什么事情做不成呢？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404640"/>
            <a:ext cx="849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自学指导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自由朗读课文的第四自然段，思考：雨水为什么没把石块滴穿？试着结合“滴水穿石”的精神来谈一谈。</a:t>
            </a:r>
            <a:r>
              <a:rPr b="0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126828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"/>
              </a:rPr>
              <a:t>目标专一而不三心二意，持之以恒而不半途而废，就一定能够实现我们美好的理想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116000" y="2017800"/>
            <a:ext cx="7315200" cy="698040"/>
            <a:chOff x="1116000" y="2017800"/>
            <a:chExt cx="7315200" cy="698040"/>
          </a:xfrm>
        </p:grpSpPr>
        <p:grpSp>
          <p:nvGrpSpPr>
            <p:cNvPr id="251" name=""/>
            <p:cNvGrpSpPr/>
            <p:nvPr/>
          </p:nvGrpSpPr>
          <p:grpSpPr>
            <a:xfrm>
              <a:off x="1116000" y="2017800"/>
              <a:ext cx="7315200" cy="697680"/>
              <a:chOff x="1116000" y="2017800"/>
              <a:chExt cx="7315200" cy="697680"/>
            </a:xfrm>
          </p:grpSpPr>
          <p:sp>
            <p:nvSpPr>
              <p:cNvPr id="252" name=""/>
              <p:cNvSpPr/>
              <p:nvPr/>
            </p:nvSpPr>
            <p:spPr>
              <a:xfrm>
                <a:off x="1116000" y="2017800"/>
                <a:ext cx="7315200" cy="69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愚公移山，贵在坚持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16000" y="2017800"/>
                <a:ext cx="7315200" cy="697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116000" y="2017800"/>
              <a:ext cx="7315200" cy="698040"/>
            </a:xfrm>
            <a:prstGeom prst="rect">
              <a:avLst/>
            </a:prstGeom>
            <a:noFill/>
            <a:ln w="0">
              <a:solidFill>
                <a:srgbClr val="dcf0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116000" y="644400"/>
            <a:ext cx="7315200" cy="990360"/>
            <a:chOff x="1116000" y="644400"/>
            <a:chExt cx="7315200" cy="990360"/>
          </a:xfrm>
        </p:grpSpPr>
        <p:grpSp>
          <p:nvGrpSpPr>
            <p:cNvPr id="256" name=""/>
            <p:cNvGrpSpPr/>
            <p:nvPr/>
          </p:nvGrpSpPr>
          <p:grpSpPr>
            <a:xfrm>
              <a:off x="1116000" y="644400"/>
              <a:ext cx="7315200" cy="990000"/>
              <a:chOff x="1116000" y="644400"/>
              <a:chExt cx="7315200" cy="990000"/>
            </a:xfrm>
          </p:grpSpPr>
          <p:sp>
            <p:nvSpPr>
              <p:cNvPr id="257" name=""/>
              <p:cNvSpPr/>
              <p:nvPr/>
            </p:nvSpPr>
            <p:spPr>
              <a:xfrm>
                <a:off x="1116000" y="644400"/>
                <a:ext cx="7315200" cy="99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一日无书，百事荒芜。读书要持之以恒，一日不可间断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16000" y="644400"/>
                <a:ext cx="7315200" cy="990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116000" y="644400"/>
              <a:ext cx="7315200" cy="990360"/>
            </a:xfrm>
            <a:prstGeom prst="rect">
              <a:avLst/>
            </a:prstGeom>
            <a:noFill/>
            <a:ln w="0">
              <a:solidFill>
                <a:srgbClr val="dcf0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16000" y="3048120"/>
            <a:ext cx="7315200" cy="698040"/>
            <a:chOff x="1116000" y="3048120"/>
            <a:chExt cx="7315200" cy="698040"/>
          </a:xfrm>
        </p:grpSpPr>
        <p:grpSp>
          <p:nvGrpSpPr>
            <p:cNvPr id="261" name=""/>
            <p:cNvGrpSpPr/>
            <p:nvPr/>
          </p:nvGrpSpPr>
          <p:grpSpPr>
            <a:xfrm>
              <a:off x="1116000" y="3048120"/>
              <a:ext cx="7315200" cy="697680"/>
              <a:chOff x="1116000" y="3048120"/>
              <a:chExt cx="7315200" cy="697680"/>
            </a:xfrm>
          </p:grpSpPr>
          <p:sp>
            <p:nvSpPr>
              <p:cNvPr id="262" name=""/>
              <p:cNvSpPr/>
              <p:nvPr/>
            </p:nvSpPr>
            <p:spPr>
              <a:xfrm>
                <a:off x="1116000" y="3048120"/>
                <a:ext cx="7315200" cy="69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学贵有恒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116000" y="3048120"/>
                <a:ext cx="7315200" cy="697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116000" y="3048120"/>
              <a:ext cx="7315200" cy="698040"/>
            </a:xfrm>
            <a:prstGeom prst="rect">
              <a:avLst/>
            </a:prstGeom>
            <a:noFill/>
            <a:ln w="0">
              <a:solidFill>
                <a:srgbClr val="dcf0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116000" y="4149720"/>
            <a:ext cx="7315200" cy="698040"/>
            <a:chOff x="1116000" y="4149720"/>
            <a:chExt cx="7315200" cy="698040"/>
          </a:xfrm>
        </p:grpSpPr>
        <p:grpSp>
          <p:nvGrpSpPr>
            <p:cNvPr id="266" name=""/>
            <p:cNvGrpSpPr/>
            <p:nvPr/>
          </p:nvGrpSpPr>
          <p:grpSpPr>
            <a:xfrm>
              <a:off x="1116000" y="4149720"/>
              <a:ext cx="7315200" cy="697680"/>
              <a:chOff x="1116000" y="4149720"/>
              <a:chExt cx="7315200" cy="697680"/>
            </a:xfrm>
          </p:grpSpPr>
          <p:sp>
            <p:nvSpPr>
              <p:cNvPr id="267" name=""/>
              <p:cNvSpPr/>
              <p:nvPr/>
            </p:nvSpPr>
            <p:spPr>
              <a:xfrm>
                <a:off x="1116000" y="4149720"/>
                <a:ext cx="7315200" cy="69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坚持到底，就是胜利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116000" y="4149720"/>
                <a:ext cx="7315200" cy="697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16000" y="4149720"/>
              <a:ext cx="7315200" cy="698040"/>
            </a:xfrm>
            <a:prstGeom prst="rect">
              <a:avLst/>
            </a:prstGeom>
            <a:noFill/>
            <a:ln w="0">
              <a:solidFill>
                <a:srgbClr val="dcf0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116000" y="5229360"/>
            <a:ext cx="7315200" cy="609120"/>
            <a:chOff x="1116000" y="5229360"/>
            <a:chExt cx="7315200" cy="609120"/>
          </a:xfrm>
        </p:grpSpPr>
        <p:grpSp>
          <p:nvGrpSpPr>
            <p:cNvPr id="271" name=""/>
            <p:cNvGrpSpPr/>
            <p:nvPr/>
          </p:nvGrpSpPr>
          <p:grpSpPr>
            <a:xfrm>
              <a:off x="1116000" y="5229360"/>
              <a:ext cx="7315200" cy="608760"/>
              <a:chOff x="1116000" y="5229360"/>
              <a:chExt cx="7315200" cy="608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116000" y="5229360"/>
                <a:ext cx="731520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壮志与毅力是事业的双翼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116000" y="5229360"/>
                <a:ext cx="7315200" cy="608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116000" y="5229360"/>
              <a:ext cx="7315200" cy="609120"/>
            </a:xfrm>
            <a:prstGeom prst="rect">
              <a:avLst/>
            </a:prstGeom>
            <a:noFill/>
            <a:ln w="0">
              <a:solidFill>
                <a:srgbClr val="dcf0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6498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9079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安徽广德太极洞内，有一块状如卧兔的石头，石头正中有一个光滑圆润的小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31370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原来在这块石头的上方，有水滴接连不断地从岩缝中滴落下来，而且总是滴在同一个地方。几百年过去了，几千年、几万年过去了……水滴锲而不舍，日雕月琢，终于滴穿了石块，成为今天太极洞内的一大奇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10249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水滴的力量是微不足道的，可是它目标专一、持之以恒，所以能把石块滴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2349360"/>
            <a:ext cx="828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自学指导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读一读课文第一自然段描写小水滴把石头滴穿的句子，看看哪些词写出水滴的目标专一，哪些词写出了水滴的持之以恒，分别用横线和波浪线画出，并将自己的感受和同桌交流交流。</a:t>
            </a:r>
            <a:r>
              <a:rPr b="0" lang="en-US" sz="3600" spc="-1" strike="noStrike">
                <a:solidFill>
                  <a:srgbClr val="333399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31370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原来在这块石头的上方，有水滴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接连不断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地从岩缝中滴落下来，而且</a:t>
            </a:r>
            <a:r>
              <a:rPr b="1" lang="zh-CN" sz="3600" spc="-1" strike="noStrike">
                <a:solidFill>
                  <a:srgbClr val="cc0099"/>
                </a:solidFill>
                <a:latin typeface="楷体"/>
                <a:ea typeface="楷体"/>
              </a:rPr>
              <a:t>总是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滴在</a:t>
            </a:r>
            <a:r>
              <a:rPr b="1" lang="zh-CN" sz="3600" spc="-1" strike="noStrike">
                <a:solidFill>
                  <a:srgbClr val="cc0099"/>
                </a:solidFill>
                <a:latin typeface="楷体"/>
                <a:ea typeface="楷体"/>
              </a:rPr>
              <a:t>同一个地方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几百年过去了，几千年、几万年过去了</a:t>
            </a: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……水滴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锲而不舍，日雕月琢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终于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滴穿了石块，成为今天太极洞内的一大奇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10249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水滴的力量是微不足道的，可是它目标专一、持之以恒，所以能把石块滴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15908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果我们也能像水滴那样，还有什么事情做不成呢？</a:t>
            </a:r>
            <a:r>
              <a:rPr b="0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2637000"/>
            <a:ext cx="15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21300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78936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404640"/>
            <a:ext cx="849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自学指导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默读课文的第三自然段，思考：这一小节介绍了哪几位名人？文中哪些词句可以体现他们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目标专一，持之以恒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的精神？在文中圈画出来，并完成下面的表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4000" y="3860640"/>
          <a:ext cx="8424720" cy="2449440"/>
        </p:xfrm>
        <a:graphic>
          <a:graphicData uri="http://schemas.openxmlformats.org/drawingml/2006/table">
            <a:tbl>
              <a:tblPr/>
              <a:tblGrid>
                <a:gridCol w="1584360"/>
                <a:gridCol w="2376360"/>
                <a:gridCol w="2376720"/>
                <a:gridCol w="208728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目标专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持之以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成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4000" y="2637000"/>
            <a:ext cx="15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21300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378936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61440" y="6383160"/>
            <a:ext cx="431640" cy="285840"/>
          </a:xfrm>
          <a:custGeom>
            <a:avLst/>
            <a:gdLst>
              <a:gd name="textAreaLeft" fmla="*/ 17640 w 431640"/>
              <a:gd name="textAreaRight" fmla="*/ 414000 w 431640"/>
              <a:gd name="textAreaTop" fmla="*/ 17640 h 285840"/>
              <a:gd name="textAreaBottom" fmla="*/ 268200 h 285840"/>
            </a:gdLst>
            <a:ahLst/>
            <a:rect l="textAreaLeft" t="textAreaTop" r="textAreaRight" b="textAreaBottom"/>
            <a:pathLst>
              <a:path w="32604" h="21600">
                <a:moveTo>
                  <a:pt x="0" y="0"/>
                </a:moveTo>
                <a:lnTo>
                  <a:pt x="32604" y="0"/>
                </a:lnTo>
                <a:lnTo>
                  <a:pt x="32604" y="21600"/>
                </a:lnTo>
                <a:lnTo>
                  <a:pt x="0" y="21600"/>
                </a:lnTo>
                <a:close/>
              </a:path>
              <a:path fill="lightenLess" w="32604" h="21600">
                <a:moveTo>
                  <a:pt x="0" y="0"/>
                </a:moveTo>
                <a:lnTo>
                  <a:pt x="32604" y="0"/>
                </a:lnTo>
                <a:lnTo>
                  <a:pt x="31254" y="1350"/>
                </a:lnTo>
                <a:lnTo>
                  <a:pt x="1350" y="1350"/>
                </a:lnTo>
                <a:close/>
              </a:path>
              <a:path fill="darken" w="32604" h="21600">
                <a:moveTo>
                  <a:pt x="32604" y="0"/>
                </a:moveTo>
                <a:lnTo>
                  <a:pt x="32604" y="21600"/>
                </a:lnTo>
                <a:lnTo>
                  <a:pt x="31254" y="20250"/>
                </a:lnTo>
                <a:lnTo>
                  <a:pt x="31254" y="1350"/>
                </a:lnTo>
                <a:close/>
              </a:path>
              <a:path fill="darkenLess" w="32604" h="21600">
                <a:moveTo>
                  <a:pt x="3260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254" y="20250"/>
                </a:lnTo>
                <a:close/>
              </a:path>
              <a:path fill="lighten" w="3260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604" h="21600">
                <a:moveTo>
                  <a:pt x="9258" y="3756"/>
                </a:moveTo>
                <a:lnTo>
                  <a:pt x="23346" y="10800"/>
                </a:lnTo>
                <a:lnTo>
                  <a:pt x="925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04640"/>
            <a:ext cx="849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自学指导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默读课文的第三自然段，思考：这一小节介绍了哪几位名人？文中哪些词句可以体现他们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目标专一，持之以恒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的精神？在文中圈画出来，并完成下面的表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3860640"/>
          <a:ext cx="8424720" cy="2449440"/>
        </p:xfrm>
        <a:graphic>
          <a:graphicData uri="http://schemas.openxmlformats.org/drawingml/2006/table">
            <a:tbl>
              <a:tblPr/>
              <a:tblGrid>
                <a:gridCol w="1584360"/>
                <a:gridCol w="2376360"/>
                <a:gridCol w="2376720"/>
                <a:gridCol w="208728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目标专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持之以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成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李时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爱迪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齐白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690560" y="6381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38560" y="6381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5280" y="638172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3997440" cy="568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356000" y="981000"/>
            <a:ext cx="3240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《本草纲目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药学著作，五十二卷，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李时珍所作，成书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59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。全书共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9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多万字，载有药物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89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种，收集医方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109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个，绘制精美插图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1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幅，分为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部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6338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633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63388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6381720"/>
            <a:ext cx="79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630864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6237360"/>
            <a:ext cx="936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08720" y="6237360"/>
            <a:ext cx="720720" cy="404640"/>
          </a:xfrm>
          <a:custGeom>
            <a:avLst/>
            <a:gdLst>
              <a:gd name="textAreaLeft" fmla="*/ 25200 w 720720"/>
              <a:gd name="textAreaRight" fmla="*/ 695520 w 72072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108" y="1350"/>
                </a:lnTo>
                <a:lnTo>
                  <a:pt x="1350" y="135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108" y="20250"/>
                </a:lnTo>
                <a:lnTo>
                  <a:pt x="37108" y="135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108" y="2025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458" h="21600">
                <a:moveTo>
                  <a:pt x="22746" y="10800"/>
                </a:moveTo>
                <a:lnTo>
                  <a:pt x="12185" y="17844"/>
                </a:lnTo>
                <a:lnTo>
                  <a:pt x="12185" y="3756"/>
                </a:lnTo>
                <a:close/>
              </a:path>
              <a:path fill="darken" w="38458" h="21600">
                <a:moveTo>
                  <a:pt x="24601" y="3756"/>
                </a:moveTo>
                <a:lnTo>
                  <a:pt x="24601" y="17844"/>
                </a:lnTo>
                <a:lnTo>
                  <a:pt x="26273" y="17844"/>
                </a:lnTo>
                <a:lnTo>
                  <a:pt x="26273" y="375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9880" y="5661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3889440" cy="561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140360" y="7650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美国发明家爱迪生，没有受过正规教育，幼年就自谋生计，当小贩、报务员等。但他迷恋电学实验研究，毕生孜孜不倦，竟拥有白炽灯、留声机、碳粒电话筒、电影放映机等一千多项发明专利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63388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5280" y="633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63388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9640" y="630864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6308640"/>
            <a:ext cx="7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6165720"/>
            <a:ext cx="790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20000" y="6165720"/>
            <a:ext cx="792000" cy="476280"/>
          </a:xfrm>
          <a:custGeom>
            <a:avLst/>
            <a:gdLst>
              <a:gd name="textAreaLeft" fmla="*/ 29520 w 792000"/>
              <a:gd name="textAreaRight" fmla="*/ 762480 w 79200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58" y="1350"/>
                </a:lnTo>
                <a:lnTo>
                  <a:pt x="1350" y="135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58" y="20250"/>
                </a:lnTo>
                <a:lnTo>
                  <a:pt x="34558" y="135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558" y="2025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908" h="21600">
                <a:moveTo>
                  <a:pt x="21471" y="10800"/>
                </a:moveTo>
                <a:lnTo>
                  <a:pt x="10910" y="17844"/>
                </a:lnTo>
                <a:lnTo>
                  <a:pt x="10910" y="3756"/>
                </a:lnTo>
                <a:close/>
              </a:path>
              <a:path fill="darken" w="35908" h="21600">
                <a:moveTo>
                  <a:pt x="23326" y="3756"/>
                </a:moveTo>
                <a:lnTo>
                  <a:pt x="23326" y="17844"/>
                </a:lnTo>
                <a:lnTo>
                  <a:pt x="24998" y="17844"/>
                </a:lnTo>
                <a:lnTo>
                  <a:pt x="24998" y="375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3745080" cy="568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95640" y="162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不教一日闲过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6338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6338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24360" y="63388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6381720"/>
            <a:ext cx="72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6308640"/>
            <a:ext cx="64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6381720"/>
            <a:ext cx="71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8720" y="6308640"/>
            <a:ext cx="934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0000" y="6165720"/>
            <a:ext cx="790560" cy="549360"/>
          </a:xfrm>
          <a:custGeom>
            <a:avLst/>
            <a:gdLst>
              <a:gd name="textAreaLeft" fmla="*/ 34200 w 790560"/>
              <a:gd name="textAreaRight" fmla="*/ 756360 w 790560"/>
              <a:gd name="textAreaTop" fmla="*/ 34200 h 549360"/>
              <a:gd name="textAreaBottom" fmla="*/ 515160 h 549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727" y="1350"/>
                </a:lnTo>
                <a:lnTo>
                  <a:pt x="1350" y="135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727" y="20250"/>
                </a:lnTo>
                <a:lnTo>
                  <a:pt x="29727" y="135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727" y="2025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077" h="21600">
                <a:moveTo>
                  <a:pt x="19056" y="10800"/>
                </a:moveTo>
                <a:lnTo>
                  <a:pt x="8495" y="17844"/>
                </a:lnTo>
                <a:lnTo>
                  <a:pt x="8495" y="3756"/>
                </a:lnTo>
                <a:close/>
              </a:path>
              <a:path fill="darken" w="31077" h="21600">
                <a:moveTo>
                  <a:pt x="20911" y="3756"/>
                </a:moveTo>
                <a:lnTo>
                  <a:pt x="20911" y="17844"/>
                </a:lnTo>
                <a:lnTo>
                  <a:pt x="22582" y="17844"/>
                </a:lnTo>
                <a:lnTo>
                  <a:pt x="22582" y="375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27082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自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00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2852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珍惜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4:01:18Z</dcterms:created>
  <dc:creator>walkinnet</dc:creator>
  <dc:description/>
  <dc:language>en-US</dc:language>
  <cp:lastModifiedBy>aoxin</cp:lastModifiedBy>
  <cp:lastPrinted>1899-12-30T00:00:00Z</cp:lastPrinted>
  <dcterms:modified xsi:type="dcterms:W3CDTF">2014-06-07T06:45:48Z</dcterms:modified>
  <cp:revision>10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