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416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112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675-CA3A-4A13-B2CA-1846E41A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BB5-5D0F-47A4-91DE-83BAE0D9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6CA-C7E5-4E81-B3B4-80259ECB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035-2822-4825-8A7D-5396CA1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B5E-A4CF-46DA-B50C-E6DA12C6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1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DCB-1FBB-40DB-B60D-3535D581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0AC-C51B-460D-8478-517AF19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A6A-31EB-4547-BAF0-4D3AF34A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D1E-5B34-49C3-B7D3-297A318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619-8D93-4C9D-B0D0-9FAE770D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C32-D2FF-4F2D-83AC-37A1C423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416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112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470-4B8A-424C-99C5-1A456B25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42A5-C2AB-4611-948A-AEFACCAA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7DB0-9726-4D80-B2F1-58FF2499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6DD2-8882-4D12-BC90-96FD64AA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10B-AB36-447F-B0DF-C1EF34B5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C72A-868B-40E6-853C-93C24BC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1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15CA-A8A4-471F-A589-4EFB1E2B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1A98-6AAC-49F2-8D65-C4C689E8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30A7-8DC9-4299-9937-CC8D7A6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8903-CA4D-4568-9B6E-25FAD2C8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76CC-4B9A-4B9C-B52B-F8D95386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7AF2-CEA0-4BC1-9F0E-022DC95D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16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112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429B-DBA7-4ED5-A98B-4545477B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1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4120"/>
            <a:ext cx="8285040" cy="620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1e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474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4A63-3137-497D-8AA4-DF7E70BAF921}" type="slidenum">
              <a:rPr b="0" lang="en-US" sz="1400" spc="-1" strike="noStrike">
                <a:solidFill>
                  <a:srgbClr val="5947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474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7FB7-6FE8-4467-9DE5-E3CFA4271FE9}" type="slidenum">
              <a:rPr b="0" lang="en-US" sz="1400" spc="-1" strike="noStrike">
                <a:solidFill>
                  <a:srgbClr val="5947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2280" y="5237280"/>
            <a:ext cx="77752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4670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679040"/>
            <a:ext cx="82580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21360" y="5977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b935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594747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594747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594747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594747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94747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b935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b935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b935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9474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23:05:01Z</dcterms:created>
  <dc:creator>Presentation Magazine</dc:creator>
  <dc:description/>
  <dc:language>en-US</dc:language>
  <cp:lastModifiedBy>Clearly Presented</cp:lastModifiedBy>
  <cp:lastPrinted>1899-12-30T00:00:00Z</cp:lastPrinted>
  <dcterms:modified xsi:type="dcterms:W3CDTF">2014-05-28T05:49:23Z</dcterms:modified>
  <cp:revision>76</cp:revision>
  <dc:subject/>
  <dc:title>Autumn leaves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