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6720" y="43920"/>
            <a:ext cx="822816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2803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23640" y="3869640"/>
            <a:ext cx="82803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6720" y="43920"/>
            <a:ext cx="822816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4040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6600" y="1483920"/>
            <a:ext cx="4040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23640" y="3869640"/>
            <a:ext cx="4040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6600" y="3869640"/>
            <a:ext cx="4040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6720" y="43920"/>
            <a:ext cx="822816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2666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23360" y="1483920"/>
            <a:ext cx="2666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3440" y="1483920"/>
            <a:ext cx="2666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23640" y="3869640"/>
            <a:ext cx="2666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23360" y="3869640"/>
            <a:ext cx="2666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3440" y="3869640"/>
            <a:ext cx="2666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6720" y="43920"/>
            <a:ext cx="822816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28036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6720" y="43920"/>
            <a:ext cx="822816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28036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6720" y="43920"/>
            <a:ext cx="822816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4040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66600" y="1483920"/>
            <a:ext cx="4040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6720" y="43920"/>
            <a:ext cx="822816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6720" y="43920"/>
            <a:ext cx="8228160" cy="42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6720" y="43920"/>
            <a:ext cx="822816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4040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66600" y="1483920"/>
            <a:ext cx="4040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23640" y="3869640"/>
            <a:ext cx="4040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6720" y="43920"/>
            <a:ext cx="822816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28036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6720" y="43920"/>
            <a:ext cx="822816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4040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66600" y="1483920"/>
            <a:ext cx="4040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6600" y="3869640"/>
            <a:ext cx="4040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6720" y="43920"/>
            <a:ext cx="822816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4040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6600" y="1483920"/>
            <a:ext cx="4040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23640" y="3869640"/>
            <a:ext cx="82803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6720" y="43920"/>
            <a:ext cx="822816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2803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640" y="3869640"/>
            <a:ext cx="82803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6720" y="43920"/>
            <a:ext cx="822816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4040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6600" y="1483920"/>
            <a:ext cx="4040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23640" y="3869640"/>
            <a:ext cx="4040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66600" y="3869640"/>
            <a:ext cx="4040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6720" y="43920"/>
            <a:ext cx="822816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2666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23360" y="1483920"/>
            <a:ext cx="2666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23440" y="1483920"/>
            <a:ext cx="2666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23640" y="3869640"/>
            <a:ext cx="2666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23360" y="3869640"/>
            <a:ext cx="2666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23440" y="3869640"/>
            <a:ext cx="2666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6720" y="43920"/>
            <a:ext cx="822816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28036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6720" y="43920"/>
            <a:ext cx="822816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4040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66600" y="1483920"/>
            <a:ext cx="4040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6720" y="43920"/>
            <a:ext cx="822816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6720" y="43920"/>
            <a:ext cx="8228160" cy="42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6720" y="43920"/>
            <a:ext cx="822816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4040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66600" y="1483920"/>
            <a:ext cx="4040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23640" y="3869640"/>
            <a:ext cx="4040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6720" y="43920"/>
            <a:ext cx="822816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4040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66600" y="1483920"/>
            <a:ext cx="4040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6600" y="3869640"/>
            <a:ext cx="4040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6720" y="43920"/>
            <a:ext cx="822816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4040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6600" y="1483920"/>
            <a:ext cx="4040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23640" y="3869640"/>
            <a:ext cx="82803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516720" y="-19080"/>
            <a:ext cx="2593800" cy="1244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6720" y="43920"/>
            <a:ext cx="822816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96720" y="6165720"/>
            <a:ext cx="8425080" cy="2890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396720" y="5013360"/>
            <a:ext cx="2016360" cy="115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3640" y="1483920"/>
            <a:ext cx="8280360" cy="456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24000" y="1268280"/>
            <a:ext cx="8424720" cy="1800"/>
          </a:xfrm>
          <a:prstGeom prst="line">
            <a:avLst/>
          </a:prstGeom>
          <a:ln w="4428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9680" y="1773360"/>
            <a:ext cx="4000680" cy="2376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4076640"/>
            <a:ext cx="9140760" cy="2806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40000" y="2491920"/>
            <a:ext cx="3889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34920" y="2420640"/>
            <a:ext cx="539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636720" y="907560"/>
            <a:ext cx="5398920" cy="151308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6720" y="43920"/>
            <a:ext cx="822816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280360" cy="456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22960" y="645336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20:19:43Z</dcterms:created>
  <dc:creator>Administrator</dc:creator>
  <dc:description/>
  <dc:language>en-US</dc:language>
  <cp:lastModifiedBy/>
  <cp:lastPrinted>1899-12-30T00:00:00Z</cp:lastPrinted>
  <dcterms:modified xsi:type="dcterms:W3CDTF">2014-05-15T07:26:1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