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EF1-D56F-44C2-881D-542076D7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998-B9B8-4296-B894-B328D646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67A-E4F1-4C77-B310-4E4C5263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7A60-D4F0-4710-885F-6537BA46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8FFA-2E22-4621-B4EA-040FF708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C627-4AD5-4E90-84A9-341DDCC3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2C69-5316-495D-9872-56CBF407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05AA-72B2-4869-8A54-CE777DC9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9F61-0067-4C26-9724-1E50FD9A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806E-51E9-4469-83C1-BBCF36B0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608C-5B9C-4291-8B60-0385D9E4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FDC-0FBF-42D0-A806-8B7DFB63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FCAB-7243-420C-93F3-D22CFEAC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F5ED-53BC-4D1C-A116-B826272A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8A75-AAA9-4328-B46F-E4F2A246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3228-D3C5-4D60-AC67-44F57C0F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7D79-6720-404B-AEB4-548E40D8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F15-8F38-42A3-ADF2-DCAC7096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FB3-B4E3-456A-9A8C-4F79F0EC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C1A-17D5-41C8-8D76-DCEA318D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7D5-D5F7-4069-BBD2-91A040C3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ACB-D607-447C-B5DE-553B9684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884-083D-42FE-87CF-2145D9B7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F1C-3147-4864-8BAE-D92B2E0E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621C-A90B-485C-B332-6162899FA7DC}" type="slidenum"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DEEC-321C-4571-8B11-168812259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珍惜粮食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PPT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0" y="1945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11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460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2296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7:00:08Z</dcterms:created>
  <dc:creator>Administrator</dc:creator>
  <dc:description/>
  <dc:language>en-US</dc:language>
  <cp:lastModifiedBy/>
  <dcterms:modified xsi:type="dcterms:W3CDTF">2014-10-27T01:05:2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