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type.wav" ContentType="audio/x-wav"/>
  <Override PartName="/ppt/media/image3.jpeg" ContentType="image/jpeg"/>
  <Override PartName="/ppt/media/image4.jpeg" ContentType="image/jpeg"/>
  <Override PartName="/ppt/media/image5.jpeg" ContentType="image/jpeg"/>
  <Override PartName="/ppt/media/applause.wav" ContentType="audio/x-wav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408D-765A-4000-9D31-364E23FA6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A1C3-7A5C-4E17-8F9B-4B36EF91B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1D28-7003-4E42-801F-C0A147C1F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AC18-7D0D-462E-BFEC-3A36873D7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8CFDA-DD96-40A6-9AD8-CCD3DD4FE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26A5C-0B84-45F2-ACD1-4862252C1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8B460-5BC9-40E0-BB4D-2C4415F5C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33310-C093-4360-9EA0-F467FBF0C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7490A-CA2F-4961-91F9-4BB8324E2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F45DB-C485-497A-BB78-65A931D70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5CE96-6DA2-438C-A822-E395307D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8536-78CF-4F9E-BD55-3505A5777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89CA8-A8BF-4F96-9EEB-B4C2593E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D0EB6-9CEA-464E-8AB7-ACEA6BDD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95E4A-5FB8-4377-B181-DF619D0AB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F172E-7582-4F30-BDC7-DA4599991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EBAB2-056C-4EBA-A2F5-0F791A5A2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207DE-5A14-435C-8CF5-032AEF347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78A24-24DD-438F-8E94-95E04EFA5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2F6D3-6EC9-4AF4-80CA-3D0020694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9A7F1-B51D-4E3F-B96D-7AB1D1AD3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F4DA0-E4D8-4D58-9FDB-D8BA88ED0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0139-050B-40BC-B7F2-54FE1A46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263A1-0160-4255-8492-CF6666F65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68614-7D4A-4405-8845-60E91260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34154-F5D9-4C48-B1EE-11C05B45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43F55-9D75-4E1E-A42E-F09081A9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F75B3-5DDB-48E4-B97E-D9F5F6492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D4543-9531-46FD-8C38-E07E8064F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7916A-1A1E-4EC9-8806-FD7CBFDC6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EFF1-A787-434F-BE80-53E4D354F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7460-B4F0-4929-AD67-36D677E13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F3E9-BC23-42A0-8502-930DBD7E9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907F-5DBE-4410-99CC-38D4F5E3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E7BB-8B01-48E3-8547-F4453681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9FD9-0693-4772-8543-F54C72E04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79280" y="1600200"/>
            <a:ext cx="670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B29E9-3F46-48E7-8105-875AF6FFBAE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0C190-0611-44D6-8545-0008EAD7E7A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BC57B-4F4F-4906-A650-99D42BDE631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979280" y="1600200"/>
            <a:ext cx="670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6CC8C-F616-448A-8548-8B5534F53D5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0760" y="361800"/>
            <a:ext cx="7770600" cy="116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5f5f5f"/>
                </a:solidFill>
                <a:latin typeface="Arial Black"/>
              </a:rPr>
              <a:t>From  </a:t>
            </a:r>
            <a:r>
              <a:rPr b="1" lang="zh-CN" sz="6000" spc="-1" strike="noStrike">
                <a:solidFill>
                  <a:srgbClr val="5f5f5f"/>
                </a:solidFill>
                <a:latin typeface="Arial Black"/>
              </a:rPr>
              <a:t>斜塔的问候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050920" y="535932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 Black"/>
              </a:rPr>
              <a:t>      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Arial Black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" dur="1" fill="hold"/>
                                  <p:tgtEl>
                                    <p:spTgt spid="12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埃菲尔铁塔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简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95680" y="1600200"/>
            <a:ext cx="3290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埃菲尔铁塔（法语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a Tour Eiffe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是一座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88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建成位于法国巴黎战神广场上的镂空结构铁塔，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米，天线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米，总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2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米。埃菲尔铁塔得名于设计它的桥梁工程师居斯塔夫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·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埃菲尔。铁塔设计新颖独特，是世界建筑史上的技术杰作，因而成为法国和巴黎的一个重要景点和突出标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pic"/>
          <p:cNvPicPr/>
          <p:nvPr/>
        </p:nvPicPr>
        <p:blipFill>
          <a:blip r:embed="rId1"/>
          <a:stretch/>
        </p:blipFill>
        <p:spPr>
          <a:xfrm>
            <a:off x="1979640" y="1600200"/>
            <a:ext cx="3024000" cy="470844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indefinite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黑体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埃菲尔铁塔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美图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276360" y="1600200"/>
            <a:ext cx="3289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google_temp"/>
          <p:cNvPicPr/>
          <p:nvPr/>
        </p:nvPicPr>
        <p:blipFill>
          <a:blip r:embed="rId1"/>
          <a:stretch/>
        </p:blipFill>
        <p:spPr>
          <a:xfrm>
            <a:off x="1981080" y="1197000"/>
            <a:ext cx="4586400" cy="5661000"/>
          </a:xfrm>
          <a:prstGeom prst="rect">
            <a:avLst/>
          </a:prstGeom>
          <a:ln w="0">
            <a:noFill/>
          </a:ln>
        </p:spPr>
      </p:pic>
      <p:sp>
        <p:nvSpPr>
          <p:cNvPr id="131" name="WordArt 5"/>
          <p:cNvSpPr txBox="1"/>
          <p:nvPr/>
        </p:nvSpPr>
        <p:spPr>
          <a:xfrm>
            <a:off x="2195640" y="2367000"/>
            <a:ext cx="3200400" cy="52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宋体"/>
              </a:rPr>
              <a:t>埃菲尔铁塔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宋体"/>
              </a:rPr>
              <a:t>* *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宋体"/>
              <a:ea typeface="宋体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6931080" y="1263600"/>
            <a:ext cx="196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埃菲尔铁塔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88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起建，分为三楼，分别在离地面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7.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米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15.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米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76.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米处，其中一、二楼设有餐厅，第三楼建有观景台，从塔座到塔顶共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71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级阶梯，共用去钢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70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吨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20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个金属部件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万只铆钉，极为壮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newsflash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indefinite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黑体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埃菲尔铁塔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标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979280" y="1600200"/>
            <a:ext cx="67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如果说，巴黎圣母院是古代巴黎的象征，那么，埃菲尔铁塔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Eiffel Tower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就是现代巴黎的标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88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适逢法国大革命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周年纪念，法国政府决定隆重庆祝，在巴黎举行一次规模空前的世界博览会，以展示工业技术和文化方面的成就，并建造一座象征法国革命和巴黎的纪念碑。筹委会本来希望建造一所古典式的、有雕像、碑体、园林和庙堂的纪念性群体，但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7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多件应征方案里，选中了桥梁工程师居斯塔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埃菲尔的设计：一座象征机器文明、在巴黎任何角落都能望见的巨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newsflash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8194 -0.359722 L 0.021806 -0.026392 E">
                                      <p:cBhvr>
                                        <p:cTn id="46" dur="2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98958 -0.383704 L -0.015556 -0.005648 E">
                                      <p:cBhvr>
                                        <p:cTn id="50" dur="2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黑体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625920" y="3068280"/>
            <a:ext cx="5060880" cy="24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 Black"/>
                <a:ea typeface="黑体"/>
              </a:rPr>
              <a:t>幻灯片已结束，谢谢观看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埃菲尔铁塔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结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63f47090xb26359ee72bc&amp;690"/>
          <p:cNvPicPr/>
          <p:nvPr/>
        </p:nvPicPr>
        <p:blipFill>
          <a:blip r:embed="rId1"/>
          <a:stretch/>
        </p:blipFill>
        <p:spPr>
          <a:xfrm>
            <a:off x="0" y="2276640"/>
            <a:ext cx="3292560" cy="4525920"/>
          </a:xfrm>
          <a:prstGeom prst="rect">
            <a:avLst/>
          </a:prstGeom>
          <a:ln w="0">
            <a:noFill/>
          </a:ln>
        </p:spPr>
      </p:pic>
    </p:spTree>
  </p:cSld>
  <p:transition spd="slow" advTm="0">
    <p:newsflash/>
    <p:sndAc>
      <p:stSnd>
        <p:snd r:embed="rId2" name="applause.wav"/>
      </p:stSnd>
    </p:sndAc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indefinite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黑体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0T08:05:15Z</dcterms:created>
  <dc:creator>Administrator</dc:creator>
  <dc:description/>
  <cp:keywords/>
  <dc:language>en-US</dc:language>
  <cp:lastModifiedBy>a</cp:lastModifiedBy>
  <dcterms:modified xsi:type="dcterms:W3CDTF">2014-05-20T07:58:47Z</dcterms:modified>
  <cp:revision>1</cp:revision>
  <dc:subject/>
  <dc:title>From  斜塔的问候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