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B1F-33C8-41B6-A9BF-ABB2CEB5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166-C989-413F-97F6-13ADFC4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943-0261-40EB-9906-3FE6307E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5EA-7859-46A8-9124-8F9AE19A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2F0-68AE-414D-8D4A-2AF94704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35F2-C3FE-406A-82B9-7D7FB3E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88E-927A-4F29-85BD-D475EF43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C158-1BE1-44A6-979E-E5513C9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2FA6-35E1-4C5A-B351-516B491B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C8C1-F72E-4B2E-BA08-E75CF714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FB1F-B0A9-494A-AF1C-A8A90A7E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C69-1257-45CD-BFDD-7F28E97B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8721-7A1D-40B3-BD72-748A626B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A63A-0E6B-490F-AF92-01AEBAD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FA0F-A951-40D3-A630-2854781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70F8-D580-41FA-8DC4-281D2018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D877-AF81-435D-BB9B-CC9E7C65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25E1-4CE9-4638-9242-67E1D772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6CE4-418E-4200-AD36-9277398F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0B9E-9DF2-45B3-9B02-2C445EEF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6B35-5CA0-4833-BE13-2C0B7A23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8C1F-0714-489C-876C-3F545B2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199-763A-4BFF-9719-27096D24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EF3E-8FB9-4700-A3B7-1E986BF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8188-F574-4893-9197-BE938D5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C054-A315-4538-BAA0-373176B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D097-4FFE-4155-BB24-DCE2002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E19F-7699-4EF2-B054-134B2C01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959E-8B5F-4AE7-B56F-899C1C7A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B4BC-6634-4D60-BB54-7A7A87F1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328-51CF-4763-898E-C2DC8671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CB4-10FA-4B00-887D-3AE5517D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EB3-F019-4B0E-87F8-052C9814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BC5-2614-4357-8540-A33FAF5D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B0A-0174-432B-B19A-AE7C72F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B58-7CD4-401D-BA46-FAEBDEE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F1D9-2313-45B2-8DA8-E58B374713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CCAE-3EEF-40DD-9B58-26FC3E588EA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B39A-3A04-4279-965E-66C72D1F401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7C6-32A7-4241-BEA8-CBFDF35AB1E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6118920" y="454644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酒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13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46" name="Group 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57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58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44160" y="2724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93480" y="2738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77360" y="27842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69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8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4d4d4d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83" name="Group 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6776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205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206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217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20932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7232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22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230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231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42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5"/>
            <p:cNvGrpSpPr/>
            <p:nvPr/>
          </p:nvGrpSpPr>
          <p:grpSpPr>
            <a:xfrm>
              <a:off x="2012400" y="3519000"/>
              <a:ext cx="434520" cy="382320"/>
              <a:chOff x="2012400" y="3519000"/>
              <a:chExt cx="434520" cy="382320"/>
            </a:xfrm>
          </p:grpSpPr>
          <p:grpSp>
            <p:nvGrpSpPr>
              <p:cNvPr id="253" name="Group 126"/>
              <p:cNvGrpSpPr/>
              <p:nvPr/>
            </p:nvGrpSpPr>
            <p:grpSpPr>
              <a:xfrm>
                <a:off x="2012400" y="3519000"/>
                <a:ext cx="417960" cy="371160"/>
                <a:chOff x="2012400" y="3519000"/>
                <a:chExt cx="417960" cy="371160"/>
              </a:xfrm>
            </p:grpSpPr>
            <p:grpSp>
              <p:nvGrpSpPr>
                <p:cNvPr id="254" name="Group 127"/>
                <p:cNvGrpSpPr/>
                <p:nvPr/>
              </p:nvGrpSpPr>
              <p:grpSpPr>
                <a:xfrm>
                  <a:off x="2012400" y="3519000"/>
                  <a:ext cx="417960" cy="371160"/>
                  <a:chOff x="2012400" y="3519000"/>
                  <a:chExt cx="417960" cy="371160"/>
                </a:xfrm>
              </p:grpSpPr>
              <p:grpSp>
                <p:nvGrpSpPr>
                  <p:cNvPr id="255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3"/>
                  <p:cNvGrpSpPr/>
                  <p:nvPr/>
                </p:nvGrpSpPr>
                <p:grpSpPr>
                  <a:xfrm>
                    <a:off x="2116080" y="3520800"/>
                    <a:ext cx="314280" cy="369360"/>
                    <a:chOff x="2116080" y="3520800"/>
                    <a:chExt cx="314280" cy="36936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220840" y="349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59360" y="3526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38"/>
                <p:cNvGrpSpPr/>
                <p:nvPr/>
              </p:nvGrpSpPr>
              <p:grpSpPr>
                <a:xfrm>
                  <a:off x="2054160" y="3547800"/>
                  <a:ext cx="342360" cy="303120"/>
                  <a:chOff x="2054160" y="3547800"/>
                  <a:chExt cx="342360" cy="303120"/>
                </a:xfrm>
              </p:grpSpPr>
              <p:grpSp>
                <p:nvGrpSpPr>
                  <p:cNvPr id="266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4"/>
                  <p:cNvGrpSpPr/>
                  <p:nvPr/>
                </p:nvGrpSpPr>
                <p:grpSpPr>
                  <a:xfrm>
                    <a:off x="2138760" y="3548880"/>
                    <a:ext cx="257760" cy="302040"/>
                    <a:chOff x="2138760" y="3548880"/>
                    <a:chExt cx="257760" cy="30204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224440" y="35262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56120" y="35542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49"/>
              <p:cNvGrpSpPr/>
              <p:nvPr/>
            </p:nvGrpSpPr>
            <p:grpSpPr>
              <a:xfrm>
                <a:off x="2028600" y="3530160"/>
                <a:ext cx="418320" cy="371160"/>
                <a:chOff x="2028600" y="3530160"/>
                <a:chExt cx="418320" cy="371160"/>
              </a:xfrm>
            </p:grpSpPr>
            <p:grpSp>
              <p:nvGrpSpPr>
                <p:cNvPr id="277" name="Group 150"/>
                <p:cNvGrpSpPr/>
                <p:nvPr/>
              </p:nvGrpSpPr>
              <p:grpSpPr>
                <a:xfrm>
                  <a:off x="2028600" y="3530160"/>
                  <a:ext cx="418320" cy="371160"/>
                  <a:chOff x="2028600" y="3530160"/>
                  <a:chExt cx="418320" cy="371160"/>
                </a:xfrm>
              </p:grpSpPr>
              <p:grpSp>
                <p:nvGrpSpPr>
                  <p:cNvPr id="278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56"/>
                  <p:cNvGrpSpPr/>
                  <p:nvPr/>
                </p:nvGrpSpPr>
                <p:grpSpPr>
                  <a:xfrm>
                    <a:off x="2132280" y="3531960"/>
                    <a:ext cx="314640" cy="369360"/>
                    <a:chOff x="2132280" y="3531960"/>
                    <a:chExt cx="314640" cy="36936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237040" y="3504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75560" y="3537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1"/>
                <p:cNvGrpSpPr/>
                <p:nvPr/>
              </p:nvGrpSpPr>
              <p:grpSpPr>
                <a:xfrm>
                  <a:off x="2070720" y="3558960"/>
                  <a:ext cx="342000" cy="303120"/>
                  <a:chOff x="2070720" y="3558960"/>
                  <a:chExt cx="342000" cy="303120"/>
                </a:xfrm>
              </p:grpSpPr>
              <p:grpSp>
                <p:nvGrpSpPr>
                  <p:cNvPr id="289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67"/>
                  <p:cNvGrpSpPr/>
                  <p:nvPr/>
                </p:nvGrpSpPr>
                <p:grpSpPr>
                  <a:xfrm>
                    <a:off x="2155320" y="3560040"/>
                    <a:ext cx="257400" cy="302040"/>
                    <a:chOff x="2155320" y="3560040"/>
                    <a:chExt cx="257400" cy="30204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41000" y="35373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72680" y="35654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30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333333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302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303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314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5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6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7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0"/>
                <p:cNvGrpSpPr/>
                <p:nvPr/>
              </p:nvGrpSpPr>
              <p:grpSpPr>
                <a:xfrm>
                  <a:off x="2050920" y="1179000"/>
                  <a:ext cx="353160" cy="311760"/>
                  <a:chOff x="2050920" y="1179000"/>
                  <a:chExt cx="353160" cy="311760"/>
                </a:xfrm>
              </p:grpSpPr>
              <p:grpSp>
                <p:nvGrpSpPr>
                  <p:cNvPr id="338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16"/>
                  <p:cNvGrpSpPr/>
                  <p:nvPr/>
                </p:nvGrpSpPr>
                <p:grpSpPr>
                  <a:xfrm>
                    <a:off x="2139120" y="1180080"/>
                    <a:ext cx="264960" cy="310680"/>
                    <a:chOff x="2139120" y="1180080"/>
                    <a:chExt cx="264960" cy="31068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227320" y="11574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59000" y="11851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49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0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3"/>
                <p:cNvGrpSpPr/>
                <p:nvPr/>
              </p:nvGrpSpPr>
              <p:grpSpPr>
                <a:xfrm>
                  <a:off x="2068200" y="1190160"/>
                  <a:ext cx="352800" cy="312120"/>
                  <a:chOff x="2068200" y="1190160"/>
                  <a:chExt cx="352800" cy="312120"/>
                </a:xfrm>
              </p:grpSpPr>
              <p:grpSp>
                <p:nvGrpSpPr>
                  <p:cNvPr id="361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39"/>
                  <p:cNvGrpSpPr/>
                  <p:nvPr/>
                </p:nvGrpSpPr>
                <p:grpSpPr>
                  <a:xfrm>
                    <a:off x="2156040" y="1191600"/>
                    <a:ext cx="264960" cy="310680"/>
                    <a:chOff x="2156040" y="1191600"/>
                    <a:chExt cx="264960" cy="31068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44240" y="11689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75920" y="1196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0"/>
          <p:cNvGrpSpPr/>
          <p:nvPr/>
        </p:nvGrpSpPr>
        <p:grpSpPr>
          <a:xfrm>
            <a:off x="1830240" y="4308480"/>
            <a:ext cx="615960" cy="628920"/>
            <a:chOff x="1830240" y="4308480"/>
            <a:chExt cx="615960" cy="628920"/>
          </a:xfrm>
        </p:grpSpPr>
        <p:sp>
          <p:nvSpPr>
            <p:cNvPr id="37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a400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02"/>
            <p:cNvGrpSpPr/>
            <p:nvPr/>
          </p:nvGrpSpPr>
          <p:grpSpPr>
            <a:xfrm>
              <a:off x="1830240" y="4631760"/>
              <a:ext cx="475560" cy="305640"/>
              <a:chOff x="1830240" y="4631760"/>
              <a:chExt cx="475560" cy="305640"/>
            </a:xfrm>
          </p:grpSpPr>
          <p:grpSp>
            <p:nvGrpSpPr>
              <p:cNvPr id="377" name="Group 103"/>
              <p:cNvGrpSpPr/>
              <p:nvPr/>
            </p:nvGrpSpPr>
            <p:grpSpPr>
              <a:xfrm>
                <a:off x="1830240" y="4631760"/>
                <a:ext cx="475560" cy="305640"/>
                <a:chOff x="1830240" y="4631760"/>
                <a:chExt cx="475560" cy="305640"/>
              </a:xfrm>
            </p:grpSpPr>
            <p:grpSp>
              <p:nvGrpSpPr>
                <p:cNvPr id="378" name="Group 104"/>
                <p:cNvGrpSpPr/>
                <p:nvPr/>
              </p:nvGrpSpPr>
              <p:grpSpPr>
                <a:xfrm>
                  <a:off x="1884600" y="4718880"/>
                  <a:ext cx="421200" cy="209160"/>
                  <a:chOff x="1884600" y="4718880"/>
                  <a:chExt cx="42120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112480" y="469152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61360" y="4689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1830240" y="4631760"/>
                  <a:ext cx="382320" cy="305640"/>
                  <a:chOff x="1830240" y="4631760"/>
                  <a:chExt cx="382320" cy="30564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69200" y="466236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89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400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401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402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413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424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425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436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6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3333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6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6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7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a400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5"/>
          <p:cNvSpPr txBox="1"/>
          <p:nvPr/>
        </p:nvSpPr>
        <p:spPr>
          <a:xfrm>
            <a:off x="6443640" y="458640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84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1:40:03Z</dcterms:created>
  <dc:creator>admin</dc:creator>
  <dc:description/>
  <dc:language>en-US</dc:language>
  <cp:lastModifiedBy>a</cp:lastModifiedBy>
  <dcterms:modified xsi:type="dcterms:W3CDTF">2014-12-10T15:06:2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