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46" name="PlaceHolder 1"/>
          <p:cNvSpPr>
            <a:spLocks noGrp="1"/>
          </p:cNvSpPr>
          <p:nvPr>
            <p:ph type="sldImg"/>
          </p:nvPr>
        </p:nvSpPr>
        <p:spPr>
          <a:xfrm>
            <a:off x="409320" y="754200"/>
            <a:ext cx="5854680" cy="3294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47"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8"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PlaceHolder 4"/>
          <p:cNvSpPr>
            <a:spLocks noGrp="1"/>
          </p:cNvSpPr>
          <p:nvPr>
            <p:ph type="dt" idx="37"/>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650" name="PlaceHolder 5"/>
          <p:cNvSpPr>
            <a:spLocks noGrp="1"/>
          </p:cNvSpPr>
          <p:nvPr>
            <p:ph type="ftr" idx="38"/>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PlaceHolder 6"/>
          <p:cNvSpPr>
            <a:spLocks noGrp="1"/>
          </p:cNvSpPr>
          <p:nvPr>
            <p:ph type="sldNum" idx="39"/>
          </p:nvPr>
        </p:nvSpPr>
        <p:spPr>
          <a:xfrm>
            <a:off x="3884400" y="868680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8136-BA08-4562-ABF9-02C5AD6A76C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04640" y="749160"/>
            <a:ext cx="5855040" cy="3294360"/>
          </a:xfrm>
          <a:prstGeom prst="rect">
            <a:avLst/>
          </a:prstGeom>
          <a:ln w="0">
            <a:noFill/>
          </a:ln>
        </p:spPr>
      </p:sp>
      <p:sp>
        <p:nvSpPr>
          <p:cNvPr id="677"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请在此页填写作品信息</a:t>
            </a:r>
            <a:r>
              <a:rPr b="0" lang="zh-CN" sz="1200" spc="-1" strike="noStrike">
                <a:solidFill>
                  <a:srgbClr val="000000"/>
                </a:solidFill>
                <a:latin typeface="微软雅黑"/>
                <a:ea typeface="微软雅黑"/>
              </a:rPr>
              <a:t>（此页非设计模板）</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59E95-2883-43C4-BA0D-FB4441A4C3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B4CE19-C54F-4068-98A2-F98F83EE2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4603D5-3402-4A3E-AF58-26AE2EB1CC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7E69F6-6D0A-4406-963C-1D97C7C36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FC258-8267-416F-AE7A-6FC761055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CA2F8-10BF-4D49-ADDD-A843FEC08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F01E51-66B2-4F14-9198-D7658D42E5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BC4190-2EDF-406E-B743-CEC97FA190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16FBBB-8E0E-4A15-B05C-47358E3B79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F53450-792C-4FEF-9BB0-BBD691CED2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B21D5-AF52-4620-804C-B3A4D62F6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045621-6812-4856-AB95-9A04B789ED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590865-711D-4020-B845-F1EE3A553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D9187E-F0C3-48E8-BC01-523E9D0B4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B759CD-F2B7-4227-AB7D-BFB29F9637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96A1C-9748-4B65-B6C1-827F08DD7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D4C3B-3599-4948-881F-F8A0C24D9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C71EC-50B6-456A-8D45-CDAEDF2F3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404716-2802-4A2C-9AC7-F7A8C86844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BF04C5-DF40-405C-9B98-DAEA0CCBAF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FE364D-8DA1-47AD-B12B-220CF10D86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AF3377-5D4E-4674-B139-FE1F0EC0CF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C59819-2FE6-4760-96A1-1FAA66482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80BF58-1378-4010-8296-E9FF2CEDA5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118A82-6CE7-4C40-A632-3367C3306D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46464A-ABE3-4C91-913B-5E8CF222FD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3649B6-78E0-4DD8-9BA6-ED41A3275F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60574-A937-4184-9D9C-B1446160A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691032-F1DE-41F2-951C-0131C3A60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E889D-18F0-4D51-B8E4-47106BF86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6B5D75-D99E-4F85-B1FE-FDB329A594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A410CB-45A4-4B22-B2F8-C9BA3373A8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1CFE85-103A-4F56-8DDC-6C43CF4F71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ABA8CB-1BE6-4430-91B4-BCE28E9411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EBBBE-250E-4DBC-A553-4991C8C962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31D90-2265-4B0F-A4B7-89CAFDDE60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AA6B5B-29A3-41E0-AD9E-04CC7E555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F9428-34AA-4808-9020-8FA5B1DD29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494E25-0735-411D-AB1F-5727146FAB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18D856-C714-4886-BEBC-7FEA5C223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86B85-8168-4D7D-9090-DEEF1B6EE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D2BE8-8C2E-4275-AF95-56EB3AB617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C9DDE2-8BAE-412B-A9FF-6CB6520C77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A76C75-B377-44AA-8AA0-CCDBA29172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87DE82-C672-45A3-A015-01FE55FF13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5E7D10-698F-4A5D-B187-99EBBDE51A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A71240-242C-4C23-AB73-10533E20DC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D56EFC-F480-4E55-BB2B-49BB06BFE2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FE8378-B3C6-4CBF-A171-270911C77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63E96E-CEC6-4056-85E9-38D1C689E9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88ED96-FA23-464F-A8CA-381FCFAF16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9EE2C8-EC0D-4572-98C6-7873617A87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B8BCCF-6E56-4292-A014-52E3ED2A4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3E6B15-58D9-45F8-B69F-C142431BAD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E5E350-1191-4228-9FE1-490EB7F782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9E4744-DECD-49A4-9BA3-0702123021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B4AAF6-E9D3-4E20-9831-F66C488288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B9943A-3B8A-483A-8E31-AEB94A7BD0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CAC59E-704E-41D5-9FFD-852BE11E73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8A78AD-B24E-45B3-842D-10815DC139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A08A07-3BB0-47D7-AA26-DF90F18FD5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2C2FDA-1570-44CA-8A47-20EE869669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01CFD7-F30E-4C9A-BEBB-CFC4AA43F0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E87462-125A-4DE7-A54C-BC021ADE39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652746-8238-4A2C-8A4A-A973995D19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EA6A1B-D184-4494-BCDA-602A1EFA8C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AD3C13-B558-4697-854A-26E5D1C628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8CAEEE-9E8D-4961-A34C-686B835C65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C4F00B-8D73-4BC1-840B-52D221EA2E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558EF0-8C43-4CDA-BE53-65A6CEB23E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E285DD-0758-43F9-BBCD-AA3186EB6D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A5569D-72AE-4701-BC8F-8B6F939A41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935E20-5CD8-4492-8954-2C3FD8EE92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EB5ACE-48F8-4961-8942-CB80AE23F4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4FF601-8881-4C1C-A4F3-7E84F16C51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33532C-F336-4262-8DED-17E3F87567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AA2F27-44F3-4BE9-B131-21750174FC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F07E74-B5F3-4D2A-A765-91822C5372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B0BA1E-2EC8-4E65-BCFA-542CE6699D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5E4B7A-A64C-4BAF-AE4C-331306EF3C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0FA9DD1-4426-455A-BF85-A11667A1A5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B079F4-B517-4976-A350-9D89870EB8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F654EB-F583-443A-8FE0-6CCDE5B52A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476166-A17E-45F7-B33B-24E5748774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830F37-5159-4CCD-AB11-17F2FA1281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9849AF-9640-4868-85F5-681ADEC2E9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FAC738-6971-4106-B55E-9E92E71A1B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38B6BF-E33D-48CF-9BE9-7D85A4E16E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D1D1FA-348A-499D-80EA-6EC53B8EB8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E4D319-7182-4994-860F-229ADED2AE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5503D5-A765-4719-9618-294FC4BF8C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A18B89-4507-41AA-B499-67089871D2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D3EDA6-3607-4520-80CB-D6C006418A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06414-D294-4B39-A147-A5DF6A777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47580-B1E9-4315-A15E-EC83B8266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25901-A102-456D-81C1-BBECD9A38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D3840-C11D-4532-A01B-D490A3E73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C91E5-A9BC-4D6E-999F-85BBB9AFD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4DCA6-08C1-4052-9181-0A4F206AA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457D-F965-4730-81E0-17E17E51D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4E87D-258C-4838-A95D-561963E1F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38052-ACC1-4795-B922-1BFAD1C6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CE48A-3491-430E-ABFB-D3844BBC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C58F1-0E2E-4D6F-885F-03FCEDBE3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358CC-8D1F-4B91-9581-A2CED09BB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DDDDF-C451-49AC-9531-9D4911B85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BA9BF-E557-490C-B089-6396A6125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03885-19AC-4286-A8D9-BB209113C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9AD67-7430-4C56-8545-725222F41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068A0-BDED-4E17-BCA3-648485C96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F62B4-1771-4893-B15D-026750977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DABDA-050A-4A37-A845-8495A3C51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2AC05-A1A7-4A9C-97F0-0BBAED8BF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835C8-3ACF-493F-96DF-4AF84115B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F2ADC-564A-49AA-8AA3-7E828A6CF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381C3-170B-4642-94C3-9F3E2D2E0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2F5A0-0C84-4D83-8048-A2B55C7C2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204534-44E7-417D-A9A6-7FF7DF50A4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00507-D92B-4D85-BE25-0B2CA17CC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DAA97-F8CB-471A-8B6F-46D27805D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B7301-3684-4F52-AB08-622845594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17656-BA48-4A4C-9F6A-1D30BCAFA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AD88E3-CA4F-4615-8251-B498583B8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ABFBB-EFA8-4764-8D0B-34E6D4C72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43241-253F-49AA-98AB-5349DD64F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E803B-4405-4D8E-A4FC-FB9AD8F15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E0907-6451-4BC0-8FCB-C926D92BB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7C3EED-25F8-4218-A0E5-6C007F9AE9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783787-6368-4AAA-8797-2A56FC0584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E233A5-C590-4487-8B1F-3E6E8B2C15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FD677-1B2E-4F47-9A82-94FF71134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D708F-7A89-4648-B477-E604D7365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28493-5B0B-4EC6-ACB3-CD5E840D7F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935EF-B9C3-48BC-BFA7-E47BBAD13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9C9BC4-2E3F-4FFC-87AC-216136476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FF515-F0A2-4C39-B64C-96E4292AF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18B12-BCBE-48D2-A74A-5F33B783C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0A369-0D80-4455-B186-0BA219FEB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F1E243-8557-4C48-8DB0-7231E89D77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A7AD36-AAB5-4157-A015-0BAB193EC8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907918-8627-4977-8C40-26165A5AC3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4FA5E4-4270-42DF-AAA1-EC2D29E1CE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471AB-C5CE-4E91-8757-E74C54CD15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9E5343-72A5-49C7-9A8D-F484489FA952}"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05"/>
          <p:cNvPicPr/>
          <p:nvPr/>
        </p:nvPicPr>
        <p:blipFill>
          <a:blip r:embed="rId2"/>
          <a:srcRect l="0" t="0" r="0" b="23532"/>
          <a:stretch/>
        </p:blipFill>
        <p:spPr>
          <a:xfrm>
            <a:off x="-22320" y="-44280"/>
            <a:ext cx="12246120" cy="694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0" name="PlaceHolder 3"/>
          <p:cNvSpPr>
            <a:spLocks noGrp="1"/>
          </p:cNvSpPr>
          <p:nvPr>
            <p:ph type="dt" idx="16"/>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0442-525B-4182-B931-36C896612152}"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361"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5"/>
          <p:cNvSpPr>
            <a:spLocks noGrp="1"/>
          </p:cNvSpPr>
          <p:nvPr>
            <p:ph type="sldNum" idx="1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3618-9E51-441A-8700-B510C1AAF34A}"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1" name="PlaceHolder 3"/>
          <p:cNvSpPr>
            <a:spLocks noGrp="1"/>
          </p:cNvSpPr>
          <p:nvPr>
            <p:ph type="dt" idx="19"/>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6BF3-5174-4ED7-8988-918C24986B35}"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402"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PlaceHolder 5"/>
          <p:cNvSpPr>
            <a:spLocks noGrp="1"/>
          </p:cNvSpPr>
          <p:nvPr>
            <p:ph type="sldNum" idx="2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1386-12C3-4449-8BA9-CE1966E9E4FA}"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2"/>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B39C-9DF7-40FF-B8BB-6731DA33620B}"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443"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2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2753-DD5A-41D3-B497-4E5417361FE2}"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3" name="PlaceHolder 3"/>
          <p:cNvSpPr>
            <a:spLocks noGrp="1"/>
          </p:cNvSpPr>
          <p:nvPr>
            <p:ph type="dt" idx="25"/>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8112-CE41-4D57-B517-616767637D0E}"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484"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PlaceHolder 5"/>
          <p:cNvSpPr>
            <a:spLocks noGrp="1"/>
          </p:cNvSpPr>
          <p:nvPr>
            <p:ph type="sldNum" idx="2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8ED5-254C-4A93-A198-FA0A8138F11F}"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8"/>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B9FB-1B24-4708-9732-2A09EDA631CC}"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525"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PlaceHolder 5"/>
          <p:cNvSpPr>
            <a:spLocks noGrp="1"/>
          </p:cNvSpPr>
          <p:nvPr>
            <p:ph type="sldNum" idx="3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282C-5B46-4301-A283-D7BD363A274C}"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5" name="PlaceHolder 3"/>
          <p:cNvSpPr>
            <a:spLocks noGrp="1"/>
          </p:cNvSpPr>
          <p:nvPr>
            <p:ph type="dt" idx="3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3BF2-B616-45B4-912D-FCBC78A9438E}"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566"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PlaceHolder 5"/>
          <p:cNvSpPr>
            <a:spLocks noGrp="1"/>
          </p:cNvSpPr>
          <p:nvPr>
            <p:ph type="sldNum" idx="3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DFA1-5FDC-4A1A-B277-25904111327A}"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6" name="PlaceHolder 3"/>
          <p:cNvSpPr>
            <a:spLocks noGrp="1"/>
          </p:cNvSpPr>
          <p:nvPr>
            <p:ph type="dt" idx="3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4CF2-C40C-489F-9C09-0AC433BCAC25}"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607" name="PlaceHolder 4"/>
          <p:cNvSpPr>
            <a:spLocks noGrp="1"/>
          </p:cNvSpPr>
          <p:nvPr>
            <p:ph type="ftr" idx="3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PlaceHolder 5"/>
          <p:cNvSpPr>
            <a:spLocks noGrp="1"/>
          </p:cNvSpPr>
          <p:nvPr>
            <p:ph type="sldNum" idx="3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A0F0-D7C5-49FF-92C7-635D4CC96D60}"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04"/>
          <p:cNvPicPr/>
          <p:nvPr/>
        </p:nvPicPr>
        <p:blipFill>
          <a:blip r:embed="rId2"/>
          <a:stretch/>
        </p:blipFill>
        <p:spPr>
          <a:xfrm>
            <a:off x="4606920" y="-12600"/>
            <a:ext cx="7580160" cy="6848280"/>
          </a:xfrm>
          <a:prstGeom prst="rect">
            <a:avLst/>
          </a:prstGeom>
          <a:ln w="0">
            <a:noFill/>
          </a:ln>
        </p:spPr>
      </p:pic>
      <p:sp>
        <p:nvSpPr>
          <p:cNvPr id="38" name="Rectangle 3"/>
          <p:cNvSpPr/>
          <p:nvPr/>
        </p:nvSpPr>
        <p:spPr>
          <a:xfrm>
            <a:off x="587520" y="6392880"/>
            <a:ext cx="1149120" cy="93600"/>
          </a:xfrm>
          <a:prstGeom prst="rect">
            <a:avLst/>
          </a:prstGeom>
          <a:solidFill>
            <a:srgbClr val="ff99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 name="Rectangle 4"/>
          <p:cNvSpPr/>
          <p:nvPr/>
        </p:nvSpPr>
        <p:spPr>
          <a:xfrm>
            <a:off x="1693800" y="6392880"/>
            <a:ext cx="8605800" cy="93600"/>
          </a:xfrm>
          <a:prstGeom prst="rect">
            <a:avLst/>
          </a:pr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04"/>
          <p:cNvPicPr/>
          <p:nvPr/>
        </p:nvPicPr>
        <p:blipFill>
          <a:blip r:embed="rId2"/>
          <a:stretch/>
        </p:blipFill>
        <p:spPr>
          <a:xfrm>
            <a:off x="4606920" y="-12600"/>
            <a:ext cx="7580160" cy="6848280"/>
          </a:xfrm>
          <a:prstGeom prst="rect">
            <a:avLst/>
          </a:prstGeom>
          <a:ln w="0">
            <a:noFill/>
          </a:ln>
        </p:spPr>
      </p:pic>
      <p:sp>
        <p:nvSpPr>
          <p:cNvPr id="77" name="Rectangle 3"/>
          <p:cNvSpPr/>
          <p:nvPr/>
        </p:nvSpPr>
        <p:spPr>
          <a:xfrm>
            <a:off x="587520" y="936720"/>
            <a:ext cx="1149120" cy="93600"/>
          </a:xfrm>
          <a:prstGeom prst="rect">
            <a:avLst/>
          </a:prstGeom>
          <a:solidFill>
            <a:srgbClr val="ff99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Rectangle 4"/>
          <p:cNvSpPr/>
          <p:nvPr/>
        </p:nvSpPr>
        <p:spPr>
          <a:xfrm>
            <a:off x="1693800" y="936720"/>
            <a:ext cx="8605800" cy="93600"/>
          </a:xfrm>
          <a:prstGeom prst="rect">
            <a:avLst/>
          </a:pr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05"/>
          <p:cNvPicPr/>
          <p:nvPr/>
        </p:nvPicPr>
        <p:blipFill>
          <a:blip r:embed="rId2"/>
          <a:srcRect l="0" t="0" r="0" b="23532"/>
          <a:stretch/>
        </p:blipFill>
        <p:spPr>
          <a:xfrm>
            <a:off x="-22320" y="-44280"/>
            <a:ext cx="12246120" cy="6946560"/>
          </a:xfrm>
          <a:prstGeom prst="rect">
            <a:avLst/>
          </a:prstGeom>
          <a:ln w="0">
            <a:noFill/>
          </a:ln>
        </p:spPr>
      </p:pic>
      <p:sp>
        <p:nvSpPr>
          <p:cNvPr id="116" name="标题 1"/>
          <p:cNvSpPr/>
          <p:nvPr/>
        </p:nvSpPr>
        <p:spPr>
          <a:xfrm>
            <a:off x="2630520" y="3817800"/>
            <a:ext cx="691200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微软雅黑"/>
              </a:rPr>
              <a:t>谢谢倾听</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09BB-62B2-4825-98F0-5F604B277746}" type="datetime">
              <a:rPr b="0" lang="zh-CN" sz="1400" spc="-1" strike="noStrike">
                <a:solidFill>
                  <a:srgbClr val="000000"/>
                </a:solidFill>
                <a:latin typeface="Arial"/>
              </a:rPr>
              <a:t>26/7/31</a:t>
            </a:fld>
            <a:endParaRPr b="0" lang="en-US" sz="1400" spc="-1" strike="noStrike">
              <a:solidFill>
                <a:srgbClr val="000000"/>
              </a:solidFill>
              <a:latin typeface="Calibri"/>
            </a:endParaRPr>
          </a:p>
        </p:txBody>
      </p:sp>
      <p:sp>
        <p:nvSpPr>
          <p:cNvPr id="156"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9E40-54A8-4F0A-A435-D9D60F64F899}"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E555-CAC1-4DD8-8017-1C2DF3E5A3C8}"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197"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00A2-27A9-4F98-A311-06FC57ACC470}"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7"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771F-9517-42F7-980D-345C89065758}"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238"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C8E3-EEC8-4743-8628-A16CAE6F51C7}"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8" name="PlaceHolder 3"/>
          <p:cNvSpPr>
            <a:spLocks noGrp="1"/>
          </p:cNvSpPr>
          <p:nvPr>
            <p:ph type="dt" idx="10"/>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6DB4-2CED-41A3-95AF-775A2A0A6E8C}"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279"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PlaceHolder 5"/>
          <p:cNvSpPr>
            <a:spLocks noGrp="1"/>
          </p:cNvSpPr>
          <p:nvPr>
            <p:ph type="sldNum" idx="1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8028-6973-4213-961C-7EA9479B9BAC}"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9" name="PlaceHolder 3"/>
          <p:cNvSpPr>
            <a:spLocks noGrp="1"/>
          </p:cNvSpPr>
          <p:nvPr>
            <p:ph type="dt" idx="13"/>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520C-6DE3-42DF-A18D-80F1BD610F94}" type="datetime">
              <a:rPr b="0" lang="zh-CN" sz="1400" spc="-1" strike="noStrike">
                <a:solidFill>
                  <a:srgbClr val="000000"/>
                </a:solidFill>
                <a:latin typeface="Calibri"/>
              </a:rPr>
              <a:t>26/7/31</a:t>
            </a:fld>
            <a:endParaRPr b="0" lang="en-US" sz="1400" spc="-1" strike="noStrike">
              <a:solidFill>
                <a:srgbClr val="000000"/>
              </a:solidFill>
              <a:latin typeface="Calibri"/>
            </a:endParaRPr>
          </a:p>
        </p:txBody>
      </p:sp>
      <p:sp>
        <p:nvSpPr>
          <p:cNvPr id="320"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PlaceHolder 5"/>
          <p:cNvSpPr>
            <a:spLocks noGrp="1"/>
          </p:cNvSpPr>
          <p:nvPr>
            <p:ph type="sldNum" idx="1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B7B3-08EF-4301-B33E-CDCBD48456A8}"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b05"/>
        </a:solidFill>
      </p:bgPr>
    </p:bg>
    <p:spTree>
      <p:nvGrpSpPr>
        <p:cNvPr id="1" name=""/>
        <p:cNvGrpSpPr/>
        <p:nvPr/>
      </p:nvGrpSpPr>
      <p:grpSpPr>
        <a:xfrm>
          <a:off x="0" y="0"/>
          <a:ext cx="0" cy="0"/>
          <a:chOff x="0" y="0"/>
          <a:chExt cx="0" cy="0"/>
        </a:xfrm>
      </p:grpSpPr>
      <p:sp>
        <p:nvSpPr>
          <p:cNvPr id="652" name="标题 1"/>
          <p:cNvSpPr/>
          <p:nvPr/>
        </p:nvSpPr>
        <p:spPr>
          <a:xfrm>
            <a:off x="4898880" y="2432160"/>
            <a:ext cx="6912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会议主题</a:t>
            </a:r>
            <a:r>
              <a:rPr b="1" lang="zh-CN" sz="3600" spc="-1" strike="noStrike">
                <a:solidFill>
                  <a:srgbClr val="ffffff"/>
                </a:solidFill>
                <a:latin typeface="Calibri"/>
                <a:ea typeface="微软雅黑"/>
              </a:rPr>
              <a:t>会议主题会议主题主题</a:t>
            </a:r>
            <a:endParaRPr b="0" lang="en-US" sz="3600" spc="-1" strike="noStrike">
              <a:solidFill>
                <a:srgbClr val="000000"/>
              </a:solidFill>
              <a:latin typeface="Calibri"/>
            </a:endParaRPr>
          </a:p>
        </p:txBody>
      </p:sp>
      <p:sp>
        <p:nvSpPr>
          <p:cNvPr id="653" name="标题 1"/>
          <p:cNvSpPr/>
          <p:nvPr/>
        </p:nvSpPr>
        <p:spPr>
          <a:xfrm>
            <a:off x="7518240" y="4411800"/>
            <a:ext cx="4129200" cy="42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姓名：某某某</a:t>
            </a:r>
            <a:endParaRPr b="0" lang="en-US" sz="2400" spc="-1" strike="noStrike">
              <a:solidFill>
                <a:srgbClr val="000000"/>
              </a:solidFill>
              <a:latin typeface="Calibri"/>
            </a:endParaRPr>
          </a:p>
        </p:txBody>
      </p:sp>
      <p:sp>
        <p:nvSpPr>
          <p:cNvPr id="654" name="标题 1"/>
          <p:cNvSpPr/>
          <p:nvPr/>
        </p:nvSpPr>
        <p:spPr>
          <a:xfrm>
            <a:off x="7535880" y="5013360"/>
            <a:ext cx="3530520" cy="34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职务：某某某</a:t>
            </a:r>
            <a:endParaRPr b="0" lang="en-US" sz="2400" spc="-1" strike="noStrike">
              <a:solidFill>
                <a:srgbClr val="000000"/>
              </a:solidFill>
              <a:latin typeface="Calibri"/>
            </a:endParaRPr>
          </a:p>
        </p:txBody>
      </p:sp>
      <p:sp>
        <p:nvSpPr>
          <p:cNvPr id="655" name="标题 1"/>
          <p:cNvSpPr/>
          <p:nvPr/>
        </p:nvSpPr>
        <p:spPr>
          <a:xfrm>
            <a:off x="6935760" y="3306600"/>
            <a:ext cx="4938840" cy="50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a:t>
            </a:r>
            <a:r>
              <a:rPr b="1" lang="zh-CN" sz="2400" spc="-1" strike="noStrike">
                <a:solidFill>
                  <a:srgbClr val="ffffff"/>
                </a:solidFill>
                <a:latin typeface="微软雅黑"/>
                <a:ea typeface="微软雅黑"/>
              </a:rPr>
              <a:t>会议二级标题会议二级标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副标题 2"/>
          <p:cNvSpPr/>
          <p:nvPr/>
        </p:nvSpPr>
        <p:spPr>
          <a:xfrm>
            <a:off x="3697200" y="2146320"/>
            <a:ext cx="56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1</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1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2</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2 </a:t>
            </a:r>
            <a:r>
              <a:rPr b="0" lang="en-US" sz="1600" spc="-1" strike="noStrike">
                <a:solidFill>
                  <a:srgbClr val="d8d8d8"/>
                </a:solidFill>
                <a:latin typeface="Arial"/>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3</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3 </a:t>
            </a:r>
            <a:r>
              <a:rPr b="0" lang="en-US" sz="1600" spc="-1" strike="noStrike">
                <a:solidFill>
                  <a:srgbClr val="d8d8d8"/>
                </a:solidFill>
                <a:latin typeface="Arial"/>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副标题 2"/>
          <p:cNvSpPr/>
          <p:nvPr/>
        </p:nvSpPr>
        <p:spPr>
          <a:xfrm>
            <a:off x="5210280" y="3500280"/>
            <a:ext cx="201744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文字简介</a:t>
            </a:r>
            <a:endParaRPr b="0" lang="en-US" sz="1600" spc="-1" strike="noStrike">
              <a:solidFill>
                <a:srgbClr val="000000"/>
              </a:solidFill>
              <a:latin typeface="Calibri"/>
            </a:endParaRPr>
          </a:p>
        </p:txBody>
      </p:sp>
      <p:grpSp>
        <p:nvGrpSpPr>
          <p:cNvPr id="658" name="Group 3"/>
          <p:cNvGrpSpPr/>
          <p:nvPr/>
        </p:nvGrpSpPr>
        <p:grpSpPr>
          <a:xfrm>
            <a:off x="4991040" y="2630520"/>
            <a:ext cx="2616120" cy="862920"/>
            <a:chOff x="4991040" y="2630520"/>
            <a:chExt cx="2616120" cy="862920"/>
          </a:xfrm>
        </p:grpSpPr>
        <p:sp>
          <p:nvSpPr>
            <p:cNvPr id="659" name="圆角矩形 3"/>
            <p:cNvSpPr/>
            <p:nvPr/>
          </p:nvSpPr>
          <p:spPr>
            <a:xfrm>
              <a:off x="4991040" y="2630520"/>
              <a:ext cx="2616120" cy="64800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部分 一级标题</a:t>
              </a:r>
              <a:endParaRPr b="0" lang="en-US" sz="1800" spc="-1" strike="noStrike">
                <a:solidFill>
                  <a:srgbClr val="000000"/>
                </a:solidFill>
                <a:latin typeface="Calibri"/>
              </a:endParaRPr>
            </a:p>
          </p:txBody>
        </p:sp>
        <p:sp>
          <p:nvSpPr>
            <p:cNvPr id="660" name="等腰三角形 4"/>
            <p:cNvSpPr/>
            <p:nvPr/>
          </p:nvSpPr>
          <p:spPr>
            <a:xfrm flipV="1">
              <a:off x="6008400" y="3133440"/>
              <a:ext cx="387360" cy="359640"/>
            </a:xfrm>
            <a:prstGeom prst="triangle">
              <a:avLst>
                <a:gd name="adj" fmla="val 49602"/>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标题 1"/>
          <p:cNvSpPr/>
          <p:nvPr/>
        </p:nvSpPr>
        <p:spPr>
          <a:xfrm>
            <a:off x="752400" y="662040"/>
            <a:ext cx="2840040" cy="5284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二级标题</a:t>
            </a:r>
            <a:endParaRPr b="0" lang="en-US" sz="2400" spc="-1" strike="noStrike">
              <a:solidFill>
                <a:srgbClr val="000000"/>
              </a:solidFill>
              <a:latin typeface="Calibri"/>
            </a:endParaRPr>
          </a:p>
        </p:txBody>
      </p:sp>
      <p:sp>
        <p:nvSpPr>
          <p:cNvPr id="662" name="副标题 2"/>
          <p:cNvSpPr/>
          <p:nvPr/>
        </p:nvSpPr>
        <p:spPr>
          <a:xfrm>
            <a:off x="1101600" y="1450800"/>
            <a:ext cx="4673880" cy="476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98989"/>
                </a:solidFill>
                <a:latin typeface="微软雅黑"/>
                <a:ea typeface="微软雅黑"/>
              </a:rPr>
              <a:t>正文小标题：</a:t>
            </a:r>
            <a:endParaRPr b="0" lang="en-US" sz="1800" spc="-1" strike="noStrike">
              <a:solidFill>
                <a:srgbClr val="000000"/>
              </a:solidFill>
              <a:latin typeface="Calibri"/>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      </a:t>
            </a:r>
            <a:r>
              <a:rPr b="0" lang="zh-CN" sz="1600" spc="-1" strike="noStrike">
                <a:solidFill>
                  <a:srgbClr val="898989"/>
                </a:solidFill>
                <a:latin typeface="微软雅黑"/>
                <a:ea typeface="微软雅黑"/>
              </a:rPr>
              <a:t>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a:t>
            </a:r>
            <a:endParaRPr b="0" lang="en-US" sz="1600" spc="-1" strike="noStrike">
              <a:solidFill>
                <a:srgbClr val="000000"/>
              </a:solidFill>
              <a:latin typeface="Calibri"/>
            </a:endParaRPr>
          </a:p>
        </p:txBody>
      </p:sp>
      <p:pic>
        <p:nvPicPr>
          <p:cNvPr id="663" name="Picture 4" descr="05"/>
          <p:cNvPicPr/>
          <p:nvPr/>
        </p:nvPicPr>
        <p:blipFill>
          <a:blip r:embed="rId1"/>
          <a:srcRect l="0" t="0" r="18611" b="0"/>
          <a:stretch/>
        </p:blipFill>
        <p:spPr>
          <a:xfrm>
            <a:off x="6327720" y="1433520"/>
            <a:ext cx="4721400" cy="430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副标题 2"/>
          <p:cNvSpPr/>
          <p:nvPr/>
        </p:nvSpPr>
        <p:spPr>
          <a:xfrm>
            <a:off x="3697200" y="2146320"/>
            <a:ext cx="56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1</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1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2</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2 </a:t>
            </a:r>
            <a:r>
              <a:rPr b="0" lang="en-US" sz="1600" spc="-1" strike="noStrike">
                <a:solidFill>
                  <a:srgbClr val="d8d8d8"/>
                </a:solidFill>
                <a:latin typeface="Arial"/>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3</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3 </a:t>
            </a:r>
            <a:r>
              <a:rPr b="0" lang="en-US" sz="1600" spc="-1" strike="noStrike">
                <a:solidFill>
                  <a:srgbClr val="d8d8d8"/>
                </a:solidFill>
                <a:latin typeface="Arial"/>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副标题 2"/>
          <p:cNvSpPr/>
          <p:nvPr/>
        </p:nvSpPr>
        <p:spPr>
          <a:xfrm>
            <a:off x="5210280" y="3500280"/>
            <a:ext cx="201744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文字简介</a:t>
            </a:r>
            <a:endParaRPr b="0" lang="en-US" sz="1600" spc="-1" strike="noStrike">
              <a:solidFill>
                <a:srgbClr val="000000"/>
              </a:solidFill>
              <a:latin typeface="Calibri"/>
            </a:endParaRPr>
          </a:p>
        </p:txBody>
      </p:sp>
      <p:grpSp>
        <p:nvGrpSpPr>
          <p:cNvPr id="666" name="Group 3"/>
          <p:cNvGrpSpPr/>
          <p:nvPr/>
        </p:nvGrpSpPr>
        <p:grpSpPr>
          <a:xfrm>
            <a:off x="4991040" y="2616120"/>
            <a:ext cx="2616120" cy="862920"/>
            <a:chOff x="4991040" y="2616120"/>
            <a:chExt cx="2616120" cy="862920"/>
          </a:xfrm>
        </p:grpSpPr>
        <p:sp>
          <p:nvSpPr>
            <p:cNvPr id="667" name="圆角矩形 3"/>
            <p:cNvSpPr/>
            <p:nvPr/>
          </p:nvSpPr>
          <p:spPr>
            <a:xfrm>
              <a:off x="4991040" y="2616120"/>
              <a:ext cx="2616120" cy="64800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部分 一级标题</a:t>
              </a:r>
              <a:endParaRPr b="0" lang="en-US" sz="1800" spc="-1" strike="noStrike">
                <a:solidFill>
                  <a:srgbClr val="000000"/>
                </a:solidFill>
                <a:latin typeface="Calibri"/>
              </a:endParaRPr>
            </a:p>
          </p:txBody>
        </p:sp>
        <p:sp>
          <p:nvSpPr>
            <p:cNvPr id="668" name="等腰三角形 4"/>
            <p:cNvSpPr/>
            <p:nvPr/>
          </p:nvSpPr>
          <p:spPr>
            <a:xfrm flipV="1">
              <a:off x="6008400" y="3119040"/>
              <a:ext cx="387360" cy="359640"/>
            </a:xfrm>
            <a:prstGeom prst="triangle">
              <a:avLst>
                <a:gd name="adj" fmla="val 49602"/>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标题 1"/>
          <p:cNvSpPr/>
          <p:nvPr/>
        </p:nvSpPr>
        <p:spPr>
          <a:xfrm>
            <a:off x="641520" y="284040"/>
            <a:ext cx="2838240" cy="528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二级标题</a:t>
            </a:r>
            <a:endParaRPr b="0" lang="en-US" sz="2400" spc="-1" strike="noStrike">
              <a:solidFill>
                <a:srgbClr val="000000"/>
              </a:solidFill>
              <a:latin typeface="Calibri"/>
            </a:endParaRPr>
          </a:p>
        </p:txBody>
      </p:sp>
      <p:sp>
        <p:nvSpPr>
          <p:cNvPr id="670" name="副标题 2"/>
          <p:cNvSpPr/>
          <p:nvPr/>
        </p:nvSpPr>
        <p:spPr>
          <a:xfrm>
            <a:off x="1101600" y="1693800"/>
            <a:ext cx="4673880" cy="476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98989"/>
                </a:solidFill>
                <a:latin typeface="微软雅黑"/>
                <a:ea typeface="微软雅黑"/>
              </a:rPr>
              <a:t>正文小标题：</a:t>
            </a:r>
            <a:endParaRPr b="0" lang="en-US" sz="1800" spc="-1" strike="noStrike">
              <a:solidFill>
                <a:srgbClr val="000000"/>
              </a:solidFill>
              <a:latin typeface="Calibri"/>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      </a:t>
            </a:r>
            <a:r>
              <a:rPr b="0" lang="zh-CN" sz="1600" spc="-1" strike="noStrike">
                <a:solidFill>
                  <a:srgbClr val="898989"/>
                </a:solidFill>
                <a:latin typeface="微软雅黑"/>
                <a:ea typeface="微软雅黑"/>
              </a:rPr>
              <a:t>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a:t>
            </a:r>
            <a:endParaRPr b="0" lang="en-US" sz="1600" spc="-1" strike="noStrike">
              <a:solidFill>
                <a:srgbClr val="000000"/>
              </a:solidFill>
              <a:latin typeface="Calibri"/>
            </a:endParaRPr>
          </a:p>
        </p:txBody>
      </p:sp>
      <p:pic>
        <p:nvPicPr>
          <p:cNvPr id="671" name="Picture 4" descr="05"/>
          <p:cNvPicPr/>
          <p:nvPr/>
        </p:nvPicPr>
        <p:blipFill>
          <a:blip r:embed="rId1"/>
          <a:srcRect l="0" t="0" r="18611" b="0"/>
          <a:stretch/>
        </p:blipFill>
        <p:spPr>
          <a:xfrm>
            <a:off x="6327720" y="1676520"/>
            <a:ext cx="472140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2" name="Group 2"/>
          <p:cNvGrpSpPr/>
          <p:nvPr/>
        </p:nvGrpSpPr>
        <p:grpSpPr>
          <a:xfrm>
            <a:off x="1523880" y="0"/>
            <a:ext cx="8466120" cy="6858000"/>
            <a:chOff x="1523880" y="0"/>
            <a:chExt cx="8466120" cy="6858000"/>
          </a:xfrm>
        </p:grpSpPr>
        <p:sp>
          <p:nvSpPr>
            <p:cNvPr id="673" name="矩形 4"/>
            <p:cNvSpPr/>
            <p:nvPr/>
          </p:nvSpPr>
          <p:spPr>
            <a:xfrm>
              <a:off x="214092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674" name="Picture 4" descr="http://www.elixirinteractive.com/LookFeel/elixirinteractive.com/images/headers/brand-awareness.jpg">
              <a:hlinkClick r:id="rId1"/>
            </p:cNvPr>
            <p:cNvPicPr/>
            <p:nvPr/>
          </p:nvPicPr>
          <p:blipFill>
            <a:blip r:embed="rId2"/>
            <a:stretch/>
          </p:blipFill>
          <p:spPr>
            <a:xfrm>
              <a:off x="1523880" y="1714320"/>
              <a:ext cx="8466120" cy="5143680"/>
            </a:xfrm>
            <a:prstGeom prst="rect">
              <a:avLst/>
            </a:prstGeom>
            <a:ln w="0">
              <a:noFill/>
            </a:ln>
          </p:spPr>
        </p:pic>
        <p:sp>
          <p:nvSpPr>
            <p:cNvPr id="675" name="TextBox 7"/>
            <p:cNvSpPr/>
            <p:nvPr/>
          </p:nvSpPr>
          <p:spPr>
            <a:xfrm rot="20926800">
              <a:off x="344484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卢肖亮</dc:creator>
  <dc:description/>
  <cp:keywords/>
  <dc:language>en-US</dc:language>
  <cp:lastModifiedBy>a</cp:lastModifiedBy>
  <dcterms:modified xsi:type="dcterms:W3CDTF">2014-05-20T07:41:01Z</dcterms:modified>
  <cp:revision>14</cp:revision>
  <dc:subject/>
  <dc:title>玩转办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