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95B-DACF-4687-88CF-7305565B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087-A3A1-434B-82CE-8EAF040B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59B-5C40-4D7D-9C0F-34677D78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296-8F6F-4890-BAAD-2D96F541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7632-EC41-4DAC-90B9-8449E9D1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A86-D83A-49C7-A873-7F2DD0C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C7FC-3808-4E6D-BE23-9004465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9A60-85B9-46B8-A666-D0D19C71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070-A06E-4268-B1E1-3A0D1647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46D1-5532-4496-AFE2-B4F7F3F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E2FA-05D1-468F-912D-8DDE4F9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B0D-ED08-494D-BFE7-F2B3864E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0CC0-4B67-4386-A608-E3C237D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1E38-8C3A-4395-AF97-9E89990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F6E8-2EF3-4A96-9C8B-ED74F7E9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C6F-A91B-47B5-8184-2E7AA41B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2955-07F0-43EB-B6C9-ABF994F8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C605-375A-476A-AFEB-B1CC7A0A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2E84-7D5A-47FE-BF9C-B8CAE2AB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4FF7-2503-43D6-9A8E-DC16E84D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B38D-FB99-4079-90B6-459233B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AD3F-D09B-444C-B489-EB5F3BDD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6B4-D6CE-4467-90F7-C5D1F81D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AF10-A448-4101-A08B-63C8C541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7446-3EE1-4013-A5AE-06D2C04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265A-3033-4043-8D01-A884755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A6D7-4DA3-4819-8049-1900F0B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32F1-6F47-4358-860E-7B98551F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F94E-F8A3-40B3-8604-E5B75CE3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4D66-DB07-4400-94C0-6F324B22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92E-01F2-4A4D-A363-7D20A0E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377-9D3F-41F7-9EAD-A9B7FA5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88D-524E-4E2D-8EAA-C03863B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143-02C8-454A-994A-78690725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F22-7787-41D3-90A6-3A1FDED1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4D7-FBD4-43A1-9321-913C7D0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0C7-52FD-458A-BACF-DCDB26852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115524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50E-9CB1-4BB1-88FF-9664CD456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DCE-EF5B-45AC-BA7F-D621F5C7C2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640" y="115524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风车国度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88800" y="2755440"/>
            <a:ext cx="5154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5:08:12Z</dcterms:created>
  <dc:creator/>
  <dc:description/>
  <dc:language>en-US</dc:language>
  <cp:lastModifiedBy>a</cp:lastModifiedBy>
  <dcterms:modified xsi:type="dcterms:W3CDTF">2014-12-10T15:08:5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