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765-E2BB-4D94-A108-2C5E2A6B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4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138-3270-40D0-8EED-67B6772C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4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B55-3BA6-4D65-8A34-74228B54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4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B24-5D44-45E3-977E-1385DE2E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554F-CE22-4AFB-B98B-E7B2980A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B478-A290-458A-A01D-62F39849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551A-8589-4435-8258-0704EB39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0217-269F-49EE-8C03-70973D4C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408C-2DDF-4D60-884D-98AA0426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4BCD-A55E-4150-8B0D-69C1B89B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4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3956-4F01-45DD-9AD6-CD96A032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510-922C-463E-90AA-9C1B6601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1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24A2-5E05-4A23-9570-AC8CCF65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4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DE8A-384B-4861-AFAC-BD5BB1C0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4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103D-9827-404E-B8EA-3B9D0EC6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4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1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E711-E101-4BC6-9639-0A2D4350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6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9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4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6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9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A096-C859-4C7A-A59F-0D32BE32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B37-A01D-4E65-856D-F6897858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9B7-EC28-4460-BA63-8626CFEB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1C9-8F4C-4E1D-ACB4-681F49EE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A1C-70EC-4629-831F-3D3551EF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4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EAD-DB52-493C-9AA0-BCEEA054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FC0-9DC5-4101-A15F-DC15D20F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4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BDB-09A6-4AEE-B31B-BB8A32AA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8E0E-A172-423C-A56B-FE95C343EA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7CAA-E737-4BE3-8503-91E6837CD4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505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5050"/>
              </a:solidFill>
              <a:latin typeface="Trebuchet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5050"/>
              </a:solidFill>
              <a:latin typeface="Trebuchet MS"/>
              <a:ea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5050"/>
              </a:solidFill>
              <a:latin typeface="Trebuchet MS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712080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rebuchet MS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  <a:ea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  <a:ea typeface="宋体"/>
            </a:endParaRPr>
          </a:p>
        </p:txBody>
      </p:sp>
      <p:sp>
        <p:nvSpPr>
          <p:cNvPr id="89" name=""/>
          <p:cNvSpPr/>
          <p:nvPr/>
        </p:nvSpPr>
        <p:spPr>
          <a:xfrm>
            <a:off x="16506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d6e0d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d6e0d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d6e0d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d6e0d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3:54:25Z</dcterms:created>
  <dc:creator>FiSh</dc:creator>
  <dc:description/>
  <dc:language>en-US</dc:language>
  <cp:lastModifiedBy>FiSh</cp:lastModifiedBy>
  <cp:lastPrinted>1899-12-30T00:00:00Z</cp:lastPrinted>
  <dcterms:modified xsi:type="dcterms:W3CDTF">2014-05-19T05:37:58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