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5DD-6D48-40B6-A688-BB15B3B5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48A-7015-4012-8D4C-BA999FBB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C53-7D46-4883-981F-33E53F53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822-97A5-43C3-9AB8-9E56D74C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F53E-4AFD-4450-8257-4A015B0F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8313-CCE6-45B3-B70C-37DAA66B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C6DF-08E6-47A1-B3AB-5BEFFC02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4F39-3ED1-4917-812F-3DC54B9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4C1-4D81-4409-B8EF-8F096555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08F6-219B-4EA3-BAF5-A80A5525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F8D8-A2A2-4413-A417-AEA6FEE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BEA-EE9B-475C-B787-7E6DD1ED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B633-89D7-4B2A-83C4-010FF54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0CDF-B512-49B6-BD6D-0F4947F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49A8-6196-4D96-8FBE-0EF3C6E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CDCA-5921-4933-AE0A-EA6B3543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5B74-2B58-4BE3-85CF-0F00765E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E46-4499-471A-9990-CE2A18C6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8F2-04FD-4AFB-805A-A49A407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E01-82D6-4B6B-8F01-B07BD41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927-B6D6-4091-A4DE-238FD4C4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6AE-AE29-4AD8-98A8-F335A15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125-78F9-4DAC-B0C0-0F04C1B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7F8-BA63-44B1-B000-C54CF97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6"/>
          <p:cNvSpPr/>
          <p:nvPr/>
        </p:nvSpPr>
        <p:spPr>
          <a:xfrm>
            <a:off x="-4680" y="-3240"/>
            <a:ext cx="9158040" cy="103680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376880" y="-7920"/>
            <a:ext cx="4773600" cy="611280"/>
            <a:chOff x="4376880" y="-7920"/>
            <a:chExt cx="4773600" cy="611280"/>
          </a:xfrm>
        </p:grpSpPr>
        <p:pic>
          <p:nvPicPr>
            <p:cNvPr id="2" name="Forme 7" descr=""/>
            <p:cNvPicPr/>
            <p:nvPr/>
          </p:nvPicPr>
          <p:blipFill>
            <a:blip r:embed="rId3"/>
            <a:stretch/>
          </p:blipFill>
          <p:spPr>
            <a:xfrm>
              <a:off x="4376880" y="-7920"/>
              <a:ext cx="47736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39B8-7331-46D0-8BC4-C9101A2BA9A3}" type="datetime2">
              <a:rPr b="0" lang="en-US" sz="1200" spc="-1" strike="noStrike">
                <a:solidFill>
                  <a:srgbClr val="5f6680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3559-129A-4431-BB9A-26DDA76578A5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-14400" y="203040"/>
            <a:ext cx="9176400" cy="648000"/>
            <a:chOff x="-14400" y="203040"/>
            <a:chExt cx="9176400" cy="648000"/>
          </a:xfrm>
        </p:grpSpPr>
        <p:grpSp>
          <p:nvGrpSpPr>
            <p:cNvPr id="10" name=""/>
            <p:cNvGrpSpPr/>
            <p:nvPr/>
          </p:nvGrpSpPr>
          <p:grpSpPr>
            <a:xfrm>
              <a:off x="-14400" y="203040"/>
              <a:ext cx="9158040" cy="648000"/>
              <a:chOff x="-14400" y="203040"/>
              <a:chExt cx="9158040" cy="648000"/>
            </a:xfrm>
          </p:grpSpPr>
          <p:pic>
            <p:nvPicPr>
              <p:cNvPr id="11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3240" y="203040"/>
                <a:ext cx="9140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Text Box 11"/>
              <p:cNvSpPr/>
              <p:nvPr/>
            </p:nvSpPr>
            <p:spPr>
              <a:xfrm rot="21435600">
                <a:off x="-1404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-8280" y="248040"/>
              <a:ext cx="9170280" cy="561600"/>
              <a:chOff x="-8280" y="248040"/>
              <a:chExt cx="9170280" cy="561600"/>
            </a:xfrm>
          </p:grpSpPr>
          <p:pic>
            <p:nvPicPr>
              <p:cNvPr id="14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7560" y="248040"/>
                <a:ext cx="9154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" name="Text Box 14"/>
              <p:cNvSpPr/>
              <p:nvPr/>
            </p:nvSpPr>
            <p:spPr>
              <a:xfrm rot="21435600">
                <a:off x="-79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rme 6"/>
          <p:cNvSpPr/>
          <p:nvPr/>
        </p:nvSpPr>
        <p:spPr>
          <a:xfrm>
            <a:off x="-4680" y="-3240"/>
            <a:ext cx="9158040" cy="103680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376880" y="-7920"/>
            <a:ext cx="4773600" cy="611280"/>
            <a:chOff x="4376880" y="-7920"/>
            <a:chExt cx="4773600" cy="611280"/>
          </a:xfrm>
        </p:grpSpPr>
        <p:pic>
          <p:nvPicPr>
            <p:cNvPr id="54" name="Forme 7" descr=""/>
            <p:cNvPicPr/>
            <p:nvPr/>
          </p:nvPicPr>
          <p:blipFill>
            <a:blip r:embed="rId3"/>
            <a:stretch/>
          </p:blipFill>
          <p:spPr>
            <a:xfrm>
              <a:off x="4376880" y="-7920"/>
              <a:ext cx="47736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81560" y="-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-14400" y="203040"/>
            <a:ext cx="9176400" cy="648000"/>
            <a:chOff x="-14400" y="203040"/>
            <a:chExt cx="9176400" cy="648000"/>
          </a:xfrm>
        </p:grpSpPr>
        <p:grpSp>
          <p:nvGrpSpPr>
            <p:cNvPr id="57" name=""/>
            <p:cNvGrpSpPr/>
            <p:nvPr/>
          </p:nvGrpSpPr>
          <p:grpSpPr>
            <a:xfrm>
              <a:off x="-14400" y="203040"/>
              <a:ext cx="9158040" cy="648000"/>
              <a:chOff x="-14400" y="203040"/>
              <a:chExt cx="9158040" cy="648000"/>
            </a:xfrm>
          </p:grpSpPr>
          <p:pic>
            <p:nvPicPr>
              <p:cNvPr id="58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3240" y="203040"/>
                <a:ext cx="9140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 Box 11"/>
              <p:cNvSpPr/>
              <p:nvPr/>
            </p:nvSpPr>
            <p:spPr>
              <a:xfrm rot="21435600">
                <a:off x="-1404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-8280" y="248040"/>
              <a:ext cx="9170280" cy="561600"/>
              <a:chOff x="-8280" y="248040"/>
              <a:chExt cx="9170280" cy="561600"/>
            </a:xfrm>
          </p:grpSpPr>
          <p:pic>
            <p:nvPicPr>
              <p:cNvPr id="61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7560" y="248040"/>
                <a:ext cx="9154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14"/>
              <p:cNvSpPr/>
              <p:nvPr/>
            </p:nvSpPr>
            <p:spPr>
              <a:xfrm rot="21435600">
                <a:off x="-79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B2F4-95EE-4F10-93AC-94E94A0DEC53}" type="datetime2">
              <a:rPr b="0" lang="en-US" sz="1200" spc="-1" strike="noStrike">
                <a:solidFill>
                  <a:srgbClr val="bcc7cd"/>
                </a:solidFill>
                <a:latin typeface="Constantia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34DC-EC01-498E-973D-14B8F48BACF1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1500120"/>
            <a:ext cx="9144000" cy="1784520"/>
          </a:xfrm>
          <a:prstGeom prst="rect">
            <a:avLst/>
          </a:prstGeom>
          <a:solidFill>
            <a:srgbClr val="d16349">
              <a:alpha val="80000"/>
            </a:srgbClr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onstantia"/>
              </a:rPr>
              <a:t>粉色花瓣植物</a:t>
            </a:r>
            <a:r>
              <a:rPr b="0" lang="zh-CN" sz="4000" spc="-1" strike="noStrike">
                <a:solidFill>
                  <a:srgbClr val="ffffff"/>
                </a:solidFill>
                <a:latin typeface="Constanti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onstantia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d8c2f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fd8c2f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fd8c2f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6:33:34Z</dcterms:created>
  <dc:creator>Ric</dc:creator>
  <dc:description/>
  <dc:language>en-US</dc:language>
  <cp:lastModifiedBy>willon</cp:lastModifiedBy>
  <dcterms:modified xsi:type="dcterms:W3CDTF">2014-11-09T01:12:31Z</dcterms:modified>
  <cp:revision>19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