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392CE-E417-4046-8C1B-232BD42853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6560" y="1052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60" y="3416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ED299-8859-4C4D-8257-45FCF12472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6560" y="1052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3600" y="1052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560" y="3416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0" y="3416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E38DA-D254-4F49-A07E-193BB64404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66560" y="1052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49000" y="1052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1440" y="1052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560" y="3416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49000" y="3416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1440" y="3416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6041A-B69E-4DFC-8869-65D803AF48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B33E79-919A-423C-8A2F-A9495C807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665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120895-AF84-4739-9CE4-13F83BFBE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65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C033EC-666B-440D-A4AC-D99BD352A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6560" y="1052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3600" y="1052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DACDD7-5225-4BD9-BFB9-9E35AB0D3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B6113B-AE7A-4F54-8702-4742877A5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117000"/>
            <a:ext cx="82296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31D8EC-15BE-4C02-A460-77FCA6778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6560" y="1052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600" y="1052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560" y="3416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D14519-F98E-4C4A-8FB4-13E5BC690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665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CCD06-4218-4E20-8874-1BC0A91AA7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6560" y="1052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3600" y="1052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83600" y="3416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8C2647-95D6-4719-8883-13A662803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6560" y="1052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3600" y="1052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560" y="3416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96FA79-D267-49C6-A638-E583B95E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6560" y="1052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560" y="3416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F8DE0D-9968-4675-BFFD-1776F7118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6560" y="1052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3600" y="1052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6560" y="3416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83600" y="3416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6F13DD-A055-41F6-B413-4CA498A17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6560" y="1052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49000" y="1052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31440" y="1052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560" y="3416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49000" y="3416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31440" y="3416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FEE08B-65B6-45DE-B35C-90D92D164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65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5F349-34EE-49FF-9C9A-A6CD176BB8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6560" y="1052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3600" y="1052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9346F-43EB-4109-9FD0-4CC01EC26E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E0906-2913-46D1-BF59-1E1C7488F3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117000"/>
            <a:ext cx="82296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9106B-D40B-4502-A544-18BF92F096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6560" y="1052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3600" y="1052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60" y="3416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410BF-5E72-439D-ADEA-8A40ED16CD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6560" y="1052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3600" y="1052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0" y="3416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0A321-5D72-4510-A6A3-1E6007E703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6560" y="1052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0" y="1052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560" y="3416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8D413-D3A6-4ACC-A668-8811928C94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240" y="1989000"/>
            <a:ext cx="9156600" cy="4873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107640" y="6577560"/>
            <a:ext cx="982440" cy="2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96B66-B61F-410D-933B-293F36A3741E}" type="slidenum"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未知"/>
          <p:cNvSpPr/>
          <p:nvPr/>
        </p:nvSpPr>
        <p:spPr>
          <a:xfrm>
            <a:off x="-3240" y="0"/>
            <a:ext cx="9175680" cy="6891480"/>
          </a:xfrm>
          <a:custGeom>
            <a:avLst/>
            <a:gdLst/>
            <a:ahLst/>
            <a:rect l="l" t="t" r="r" b="b"/>
            <a:pathLst>
              <a:path w="5784" h="4341">
                <a:moveTo>
                  <a:pt x="6" y="0"/>
                </a:moveTo>
                <a:lnTo>
                  <a:pt x="0" y="2941"/>
                </a:lnTo>
                <a:cubicBezTo>
                  <a:pt x="1122" y="3547"/>
                  <a:pt x="4681" y="4341"/>
                  <a:pt x="5784" y="4171"/>
                </a:cubicBezTo>
                <a:lnTo>
                  <a:pt x="5761" y="2"/>
                </a:lnTo>
                <a:lnTo>
                  <a:pt x="6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未知"/>
          <p:cNvSpPr/>
          <p:nvPr/>
        </p:nvSpPr>
        <p:spPr>
          <a:xfrm>
            <a:off x="0" y="5950080"/>
            <a:ext cx="3924360" cy="676080"/>
          </a:xfrm>
          <a:custGeom>
            <a:avLst/>
            <a:gdLst/>
            <a:ahLst/>
            <a:rect l="l" t="t" r="r" b="b"/>
            <a:pathLst>
              <a:path w="2180" h="420">
                <a:moveTo>
                  <a:pt x="2178" y="240"/>
                </a:moveTo>
                <a:cubicBezTo>
                  <a:pt x="2180" y="264"/>
                  <a:pt x="1614" y="420"/>
                  <a:pt x="1314" y="420"/>
                </a:cubicBezTo>
                <a:cubicBezTo>
                  <a:pt x="1002" y="414"/>
                  <a:pt x="1004" y="408"/>
                  <a:pt x="714" y="378"/>
                </a:cubicBezTo>
                <a:cubicBezTo>
                  <a:pt x="424" y="349"/>
                  <a:pt x="15" y="305"/>
                  <a:pt x="6" y="313"/>
                </a:cubicBezTo>
                <a:lnTo>
                  <a:pt x="0" y="41"/>
                </a:lnTo>
                <a:cubicBezTo>
                  <a:pt x="86" y="0"/>
                  <a:pt x="378" y="42"/>
                  <a:pt x="522" y="66"/>
                </a:cubicBezTo>
                <a:cubicBezTo>
                  <a:pt x="803" y="111"/>
                  <a:pt x="1116" y="250"/>
                  <a:pt x="1374" y="276"/>
                </a:cubicBezTo>
                <a:cubicBezTo>
                  <a:pt x="1692" y="300"/>
                  <a:pt x="1968" y="294"/>
                  <a:pt x="2178" y="240"/>
                </a:cubicBezTo>
                <a:close/>
              </a:path>
            </a:pathLst>
          </a:custGeom>
          <a:solidFill>
            <a:srgbClr val="ff0066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未知"/>
          <p:cNvSpPr/>
          <p:nvPr/>
        </p:nvSpPr>
        <p:spPr>
          <a:xfrm>
            <a:off x="611280" y="5516640"/>
            <a:ext cx="8550360" cy="898560"/>
          </a:xfrm>
          <a:custGeom>
            <a:avLst/>
            <a:gdLst/>
            <a:ahLst/>
            <a:rect l="l" t="t" r="r" b="b"/>
            <a:pathLst>
              <a:path w="5703" h="874">
                <a:moveTo>
                  <a:pt x="10" y="462"/>
                </a:moveTo>
                <a:cubicBezTo>
                  <a:pt x="0" y="417"/>
                  <a:pt x="666" y="208"/>
                  <a:pt x="1336" y="193"/>
                </a:cubicBezTo>
                <a:cubicBezTo>
                  <a:pt x="2139" y="157"/>
                  <a:pt x="2901" y="380"/>
                  <a:pt x="3628" y="348"/>
                </a:cubicBezTo>
                <a:cubicBezTo>
                  <a:pt x="4355" y="316"/>
                  <a:pt x="5674" y="18"/>
                  <a:pt x="5698" y="0"/>
                </a:cubicBezTo>
                <a:lnTo>
                  <a:pt x="5703" y="644"/>
                </a:lnTo>
                <a:cubicBezTo>
                  <a:pt x="5306" y="784"/>
                  <a:pt x="4051" y="874"/>
                  <a:pt x="3315" y="839"/>
                </a:cubicBezTo>
                <a:cubicBezTo>
                  <a:pt x="2107" y="712"/>
                  <a:pt x="2132" y="520"/>
                  <a:pt x="1285" y="436"/>
                </a:cubicBezTo>
                <a:cubicBezTo>
                  <a:pt x="557" y="362"/>
                  <a:pt x="117" y="451"/>
                  <a:pt x="10" y="462"/>
                </a:cubicBezTo>
                <a:close/>
              </a:path>
            </a:pathLst>
          </a:custGeom>
          <a:solidFill>
            <a:srgbClr val="bd8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未知"/>
          <p:cNvSpPr/>
          <p:nvPr/>
        </p:nvSpPr>
        <p:spPr>
          <a:xfrm>
            <a:off x="2843280" y="5950080"/>
            <a:ext cx="6327720" cy="620640"/>
          </a:xfrm>
          <a:custGeom>
            <a:avLst/>
            <a:gdLst/>
            <a:ahLst/>
            <a:rect l="l" t="t" r="r" b="b"/>
            <a:pathLst>
              <a:path w="4533" h="761">
                <a:moveTo>
                  <a:pt x="5" y="247"/>
                </a:moveTo>
                <a:cubicBezTo>
                  <a:pt x="0" y="214"/>
                  <a:pt x="581" y="0"/>
                  <a:pt x="1089" y="38"/>
                </a:cubicBezTo>
                <a:cubicBezTo>
                  <a:pt x="1700" y="71"/>
                  <a:pt x="2138" y="141"/>
                  <a:pt x="2731" y="184"/>
                </a:cubicBezTo>
                <a:cubicBezTo>
                  <a:pt x="3324" y="226"/>
                  <a:pt x="4514" y="79"/>
                  <a:pt x="4533" y="68"/>
                </a:cubicBezTo>
                <a:lnTo>
                  <a:pt x="4516" y="669"/>
                </a:lnTo>
                <a:cubicBezTo>
                  <a:pt x="4172" y="761"/>
                  <a:pt x="3088" y="728"/>
                  <a:pt x="2469" y="623"/>
                </a:cubicBezTo>
                <a:cubicBezTo>
                  <a:pt x="1562" y="443"/>
                  <a:pt x="1597" y="387"/>
                  <a:pt x="1075" y="241"/>
                </a:cubicBezTo>
                <a:cubicBezTo>
                  <a:pt x="534" y="97"/>
                  <a:pt x="73" y="241"/>
                  <a:pt x="5" y="247"/>
                </a:cubicBezTo>
                <a:close/>
              </a:path>
            </a:pathLst>
          </a:custGeom>
          <a:solidFill>
            <a:srgbClr val="ff66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"/>
          <p:cNvSpPr/>
          <p:nvPr/>
        </p:nvSpPr>
        <p:spPr>
          <a:xfrm>
            <a:off x="-3240" y="797040"/>
            <a:ext cx="9147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body"/>
          </p:nvPr>
        </p:nvSpPr>
        <p:spPr>
          <a:xfrm>
            <a:off x="4665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601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601"/>
              </a:spcBef>
              <a:buClr>
                <a:srgbClr val="99ccff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601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-3240" y="1989000"/>
            <a:ext cx="9156600" cy="4873680"/>
          </a:xfrm>
          <a:prstGeom prst="rect">
            <a:avLst/>
          </a:prstGeom>
          <a:ln w="0">
            <a:noFill/>
          </a:ln>
        </p:spPr>
      </p:pic>
      <p:sp>
        <p:nvSpPr>
          <p:cNvPr id="47" name="未知"/>
          <p:cNvSpPr/>
          <p:nvPr/>
        </p:nvSpPr>
        <p:spPr>
          <a:xfrm>
            <a:off x="-3240" y="0"/>
            <a:ext cx="9156600" cy="4033800"/>
          </a:xfrm>
          <a:custGeom>
            <a:avLst/>
            <a:gdLst/>
            <a:ahLst/>
            <a:rect l="l" t="t" r="r" b="b"/>
            <a:pathLst>
              <a:path w="5772" h="2541">
                <a:moveTo>
                  <a:pt x="0" y="0"/>
                </a:moveTo>
                <a:lnTo>
                  <a:pt x="6" y="1272"/>
                </a:lnTo>
                <a:cubicBezTo>
                  <a:pt x="517" y="1666"/>
                  <a:pt x="2103" y="2282"/>
                  <a:pt x="3064" y="2364"/>
                </a:cubicBezTo>
                <a:cubicBezTo>
                  <a:pt x="4702" y="2541"/>
                  <a:pt x="5251" y="2003"/>
                  <a:pt x="5772" y="1762"/>
                </a:cubicBezTo>
                <a:lnTo>
                  <a:pt x="5755" y="1"/>
                </a:lnTo>
                <a:lnTo>
                  <a:pt x="0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" name="未知"/>
          <p:cNvSpPr/>
          <p:nvPr/>
        </p:nvSpPr>
        <p:spPr>
          <a:xfrm>
            <a:off x="-30240" y="3429000"/>
            <a:ext cx="3454560" cy="666720"/>
          </a:xfrm>
          <a:custGeom>
            <a:avLst/>
            <a:gdLst/>
            <a:ahLst/>
            <a:rect l="l" t="t" r="r" b="b"/>
            <a:pathLst>
              <a:path w="2180" h="420">
                <a:moveTo>
                  <a:pt x="2178" y="240"/>
                </a:moveTo>
                <a:cubicBezTo>
                  <a:pt x="2180" y="264"/>
                  <a:pt x="1614" y="420"/>
                  <a:pt x="1314" y="420"/>
                </a:cubicBezTo>
                <a:cubicBezTo>
                  <a:pt x="1002" y="414"/>
                  <a:pt x="1004" y="408"/>
                  <a:pt x="714" y="378"/>
                </a:cubicBezTo>
                <a:cubicBezTo>
                  <a:pt x="424" y="349"/>
                  <a:pt x="15" y="305"/>
                  <a:pt x="6" y="313"/>
                </a:cubicBezTo>
                <a:lnTo>
                  <a:pt x="0" y="41"/>
                </a:lnTo>
                <a:cubicBezTo>
                  <a:pt x="86" y="0"/>
                  <a:pt x="378" y="42"/>
                  <a:pt x="522" y="66"/>
                </a:cubicBezTo>
                <a:cubicBezTo>
                  <a:pt x="803" y="111"/>
                  <a:pt x="1116" y="250"/>
                  <a:pt x="1374" y="276"/>
                </a:cubicBezTo>
                <a:cubicBezTo>
                  <a:pt x="1692" y="300"/>
                  <a:pt x="1968" y="294"/>
                  <a:pt x="2178" y="240"/>
                </a:cubicBezTo>
                <a:close/>
              </a:path>
            </a:pathLst>
          </a:custGeom>
          <a:solidFill>
            <a:srgbClr val="ff0066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" name="未知"/>
          <p:cNvSpPr/>
          <p:nvPr/>
        </p:nvSpPr>
        <p:spPr>
          <a:xfrm>
            <a:off x="108000" y="2790720"/>
            <a:ext cx="9053640" cy="1224000"/>
          </a:xfrm>
          <a:custGeom>
            <a:avLst/>
            <a:gdLst/>
            <a:ahLst/>
            <a:rect l="l" t="t" r="r" b="b"/>
            <a:pathLst>
              <a:path w="5703" h="874">
                <a:moveTo>
                  <a:pt x="10" y="462"/>
                </a:moveTo>
                <a:cubicBezTo>
                  <a:pt x="0" y="417"/>
                  <a:pt x="666" y="208"/>
                  <a:pt x="1336" y="193"/>
                </a:cubicBezTo>
                <a:cubicBezTo>
                  <a:pt x="2139" y="157"/>
                  <a:pt x="2901" y="380"/>
                  <a:pt x="3628" y="348"/>
                </a:cubicBezTo>
                <a:cubicBezTo>
                  <a:pt x="4355" y="316"/>
                  <a:pt x="5674" y="18"/>
                  <a:pt x="5698" y="0"/>
                </a:cubicBezTo>
                <a:lnTo>
                  <a:pt x="5703" y="644"/>
                </a:lnTo>
                <a:cubicBezTo>
                  <a:pt x="5306" y="784"/>
                  <a:pt x="4051" y="874"/>
                  <a:pt x="3315" y="839"/>
                </a:cubicBezTo>
                <a:cubicBezTo>
                  <a:pt x="2107" y="712"/>
                  <a:pt x="2132" y="520"/>
                  <a:pt x="1285" y="436"/>
                </a:cubicBezTo>
                <a:cubicBezTo>
                  <a:pt x="557" y="362"/>
                  <a:pt x="117" y="451"/>
                  <a:pt x="10" y="462"/>
                </a:cubicBezTo>
                <a:close/>
              </a:path>
            </a:pathLst>
          </a:custGeom>
          <a:solidFill>
            <a:srgbClr val="bd8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" name="未知"/>
          <p:cNvSpPr/>
          <p:nvPr/>
        </p:nvSpPr>
        <p:spPr>
          <a:xfrm>
            <a:off x="1974960" y="3392640"/>
            <a:ext cx="7196040" cy="1207800"/>
          </a:xfrm>
          <a:custGeom>
            <a:avLst/>
            <a:gdLst/>
            <a:ahLst/>
            <a:rect l="l" t="t" r="r" b="b"/>
            <a:pathLst>
              <a:path w="4533" h="761">
                <a:moveTo>
                  <a:pt x="5" y="247"/>
                </a:moveTo>
                <a:cubicBezTo>
                  <a:pt x="0" y="214"/>
                  <a:pt x="581" y="0"/>
                  <a:pt x="1089" y="38"/>
                </a:cubicBezTo>
                <a:cubicBezTo>
                  <a:pt x="1700" y="71"/>
                  <a:pt x="2138" y="141"/>
                  <a:pt x="2731" y="184"/>
                </a:cubicBezTo>
                <a:cubicBezTo>
                  <a:pt x="3324" y="226"/>
                  <a:pt x="4514" y="79"/>
                  <a:pt x="4533" y="68"/>
                </a:cubicBezTo>
                <a:lnTo>
                  <a:pt x="4516" y="669"/>
                </a:lnTo>
                <a:cubicBezTo>
                  <a:pt x="4172" y="761"/>
                  <a:pt x="3088" y="728"/>
                  <a:pt x="2469" y="623"/>
                </a:cubicBezTo>
                <a:cubicBezTo>
                  <a:pt x="1562" y="443"/>
                  <a:pt x="1597" y="387"/>
                  <a:pt x="1075" y="241"/>
                </a:cubicBezTo>
                <a:cubicBezTo>
                  <a:pt x="534" y="97"/>
                  <a:pt x="73" y="241"/>
                  <a:pt x="5" y="247"/>
                </a:cubicBezTo>
                <a:close/>
              </a:path>
            </a:pathLst>
          </a:custGeom>
          <a:solidFill>
            <a:srgbClr val="ff66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" name="未知"/>
          <p:cNvSpPr/>
          <p:nvPr/>
        </p:nvSpPr>
        <p:spPr>
          <a:xfrm>
            <a:off x="3781440" y="3300480"/>
            <a:ext cx="5389560" cy="776160"/>
          </a:xfrm>
          <a:custGeom>
            <a:avLst/>
            <a:gdLst/>
            <a:ahLst/>
            <a:rect l="l" t="t" r="r" b="b"/>
            <a:pathLst>
              <a:path w="3395" h="489">
                <a:moveTo>
                  <a:pt x="3" y="256"/>
                </a:moveTo>
                <a:cubicBezTo>
                  <a:pt x="0" y="287"/>
                  <a:pt x="882" y="489"/>
                  <a:pt x="1350" y="489"/>
                </a:cubicBezTo>
                <a:cubicBezTo>
                  <a:pt x="1837" y="481"/>
                  <a:pt x="1834" y="473"/>
                  <a:pt x="2286" y="435"/>
                </a:cubicBezTo>
                <a:cubicBezTo>
                  <a:pt x="2738" y="397"/>
                  <a:pt x="3376" y="340"/>
                  <a:pt x="3390" y="350"/>
                </a:cubicBezTo>
                <a:lnTo>
                  <a:pt x="3395" y="8"/>
                </a:lnTo>
                <a:cubicBezTo>
                  <a:pt x="3040" y="0"/>
                  <a:pt x="1822" y="261"/>
                  <a:pt x="1257" y="302"/>
                </a:cubicBezTo>
                <a:cubicBezTo>
                  <a:pt x="761" y="334"/>
                  <a:pt x="331" y="326"/>
                  <a:pt x="3" y="256"/>
                </a:cubicBezTo>
                <a:close/>
              </a:path>
            </a:pathLst>
          </a:cu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33480" y="1773000"/>
            <a:ext cx="7340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03416-1CF2-460F-B44B-9DBBB247B6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2" marL="914400" algn="ctr">
              <a:spcBef>
                <a:spcPts val="451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lvl="3" marL="1371600" algn="ctr">
              <a:spcBef>
                <a:spcPts val="400"/>
              </a:spcBef>
              <a:buClr>
                <a:srgbClr val="99ccff"/>
              </a:buClr>
              <a:buSzPct val="75000"/>
              <a:buFont typeface="Wingdings" charset="2"/>
              <a:buChar char="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 lvl="4" marL="1828800" algn="ctr">
              <a:spcBef>
                <a:spcPts val="400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33480" y="1773000"/>
            <a:ext cx="7340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Arial Black"/>
              </a:rPr>
              <a:t>风尚世界</a:t>
            </a:r>
            <a:r>
              <a:rPr b="0" lang="zh-CN" sz="4000" spc="-1" strike="noStrike">
                <a:solidFill>
                  <a:srgbClr val="000000"/>
                </a:solidFill>
                <a:latin typeface="Arial Black"/>
              </a:rPr>
              <a:t>PPT</a:t>
            </a:r>
            <a:r>
              <a:rPr b="0" lang="ko-KR" sz="4000" spc="-1" strike="noStrike">
                <a:solidFill>
                  <a:srgbClr val="000000"/>
                </a:solidFill>
                <a:latin typeface="Arial Black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403280" y="4868640"/>
            <a:ext cx="64008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5" name=""/>
          <p:cNvSpPr/>
          <p:nvPr/>
        </p:nvSpPr>
        <p:spPr>
          <a:xfrm>
            <a:off x="6918480" y="629280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Gulim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BDE58B-D53D-43BA-B3D9-17842FF08FA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65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8" name=""/>
          <p:cNvSpPr/>
          <p:nvPr/>
        </p:nvSpPr>
        <p:spPr>
          <a:xfrm>
            <a:off x="1433880" y="616572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ccccff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3F9F2-72E2-4599-8DBF-D7C0DB90D85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8T12:37:18Z</dcterms:created>
  <dc:creator/>
  <dc:description/>
  <dc:language>en-US</dc:language>
  <cp:lastModifiedBy>user</cp:lastModifiedBy>
  <dcterms:modified xsi:type="dcterms:W3CDTF">2014-11-09T01:17:36Z</dcterms:modified>
  <cp:revision>1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