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87E9-85DA-44DF-A58C-4FCEEF47A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7865-0BA2-472A-8318-EDD08039F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98AC-3F93-467A-9142-AEA2519A3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BA77-C598-4CAE-8CC0-94B7C20BC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EB628-6B68-4014-BC39-30BB0040E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F7B41-F0BC-4DC8-81A3-7AE2D098F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21C70-D9B5-46C1-B403-5AD2F2E54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2A1A6-061E-4EBB-87B4-C7186BF12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2661D-ECDE-450F-85FF-D214CE4C7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EB49E-7E71-4F2C-97EC-BC39442C7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9791E-C55F-4CB8-B204-FDC79431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F6B1-7042-402E-95AB-0D2A046DB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65CA8-33B9-45B1-82F5-5B67A994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72266-2F14-43A4-AA7E-9ED2B076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11F58-1EFA-47E4-AC3F-D7764FE8C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BA556-E7C4-47AD-B3FD-CD4D1EE6E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CCDE7-A2E3-4B4E-ADF8-BDCE557FD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CB75E-BA96-4C31-9B9E-2C92D890F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1DB43-35D2-4A32-9799-815141F79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96ED7-209B-4385-8399-41980A652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91C47-3820-4FF2-B7CD-734446760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7DC9D-4DC7-4D77-A606-958226829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A1E9-72C4-4B29-B3A0-4C9071926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ECA5B-7FD7-468D-B4A7-A06B747C2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C94DD-7BB6-4BEB-9BA2-A18DA32F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77CD9-D0C6-4C20-9171-5AFED489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72CB0-AA1F-4703-9DE4-B4C6CD68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5356B-5B8B-4DA0-80E4-4781E7425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03B5A-85E8-455E-854D-862B1B0C9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222F9-20CA-4854-815F-665BA7115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30D5-1986-4B43-9230-2A61C1A33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B4AE-7456-4E19-BE8D-63A01EEE7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683E-FFA2-478C-8A96-2122E37E8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1832-CC68-4E81-904D-C75801CC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9C9E-33BD-462F-A104-5FD16635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43AE-26BC-4D19-9A34-CA734E35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7760" y="5285880"/>
            <a:ext cx="1641240" cy="1482480"/>
            <a:chOff x="77760" y="5285880"/>
            <a:chExt cx="1641240" cy="1482480"/>
          </a:xfrm>
        </p:grpSpPr>
        <p:grpSp>
          <p:nvGrpSpPr>
            <p:cNvPr id="1" name=""/>
            <p:cNvGrpSpPr/>
            <p:nvPr/>
          </p:nvGrpSpPr>
          <p:grpSpPr>
            <a:xfrm>
              <a:off x="570240" y="5892840"/>
              <a:ext cx="172800" cy="191520"/>
              <a:chOff x="570240" y="5892840"/>
              <a:chExt cx="172800" cy="19152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621000" y="5916600"/>
                <a:ext cx="122040" cy="167760"/>
                <a:chOff x="621000" y="5916600"/>
                <a:chExt cx="122040" cy="167760"/>
              </a:xfrm>
            </p:grpSpPr>
            <p:sp>
              <p:nvSpPr>
                <p:cNvPr id="3" name="未知"/>
                <p:cNvSpPr/>
                <p:nvPr/>
              </p:nvSpPr>
              <p:spPr>
                <a:xfrm flipH="1" flipV="1" rot="1471200">
                  <a:off x="633960" y="5998680"/>
                  <a:ext cx="56160" cy="7668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未知"/>
                <p:cNvSpPr/>
                <p:nvPr/>
              </p:nvSpPr>
              <p:spPr>
                <a:xfrm flipH="1" flipV="1" rot="19629600">
                  <a:off x="670680" y="5969160"/>
                  <a:ext cx="55440" cy="7704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未知"/>
                <p:cNvSpPr/>
                <p:nvPr/>
              </p:nvSpPr>
              <p:spPr>
                <a:xfrm flipH="1" rot="1471200">
                  <a:off x="667440" y="5924520"/>
                  <a:ext cx="56160" cy="7668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"/>
              <p:cNvGrpSpPr/>
              <p:nvPr/>
            </p:nvGrpSpPr>
            <p:grpSpPr>
              <a:xfrm>
                <a:off x="570240" y="5892840"/>
                <a:ext cx="119520" cy="167040"/>
                <a:chOff x="570240" y="5892840"/>
                <a:chExt cx="119520" cy="167040"/>
              </a:xfrm>
            </p:grpSpPr>
            <p:sp>
              <p:nvSpPr>
                <p:cNvPr id="7" name="未知"/>
                <p:cNvSpPr/>
                <p:nvPr/>
              </p:nvSpPr>
              <p:spPr>
                <a:xfrm flipV="1" rot="1568400">
                  <a:off x="584280" y="5974560"/>
                  <a:ext cx="56160" cy="7668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未知"/>
                <p:cNvSpPr/>
                <p:nvPr/>
              </p:nvSpPr>
              <p:spPr>
                <a:xfrm flipV="1" rot="5010000">
                  <a:off x="583920" y="5926680"/>
                  <a:ext cx="55440" cy="7740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未知"/>
                <p:cNvSpPr/>
                <p:nvPr/>
              </p:nvSpPr>
              <p:spPr>
                <a:xfrm rot="1568400">
                  <a:off x="619200" y="5901120"/>
                  <a:ext cx="56160" cy="7668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" name=""/>
            <p:cNvGrpSpPr/>
            <p:nvPr/>
          </p:nvGrpSpPr>
          <p:grpSpPr>
            <a:xfrm>
              <a:off x="486360" y="5285880"/>
              <a:ext cx="229680" cy="253440"/>
              <a:chOff x="486360" y="5285880"/>
              <a:chExt cx="229680" cy="25344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554760" y="5318280"/>
                <a:ext cx="161280" cy="221040"/>
                <a:chOff x="554760" y="5318280"/>
                <a:chExt cx="161280" cy="221040"/>
              </a:xfrm>
            </p:grpSpPr>
            <p:sp>
              <p:nvSpPr>
                <p:cNvPr id="12" name="未知"/>
                <p:cNvSpPr/>
                <p:nvPr/>
              </p:nvSpPr>
              <p:spPr>
                <a:xfrm flipH="1" flipV="1" rot="1471200">
                  <a:off x="572040" y="5427000"/>
                  <a:ext cx="74520" cy="10116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未知"/>
                <p:cNvSpPr/>
                <p:nvPr/>
              </p:nvSpPr>
              <p:spPr>
                <a:xfrm flipH="1" flipV="1" rot="19629600">
                  <a:off x="620640" y="5387040"/>
                  <a:ext cx="72720" cy="10296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" name="未知"/>
                <p:cNvSpPr/>
                <p:nvPr/>
              </p:nvSpPr>
              <p:spPr>
                <a:xfrm flipH="1" rot="1471200">
                  <a:off x="617040" y="5329080"/>
                  <a:ext cx="74520" cy="10116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" name=""/>
              <p:cNvGrpSpPr/>
              <p:nvPr/>
            </p:nvGrpSpPr>
            <p:grpSpPr>
              <a:xfrm>
                <a:off x="486360" y="5285880"/>
                <a:ext cx="158760" cy="220680"/>
                <a:chOff x="486360" y="5285880"/>
                <a:chExt cx="158760" cy="220680"/>
              </a:xfrm>
            </p:grpSpPr>
            <p:sp>
              <p:nvSpPr>
                <p:cNvPr id="16" name="未知"/>
                <p:cNvSpPr/>
                <p:nvPr/>
              </p:nvSpPr>
              <p:spPr>
                <a:xfrm flipV="1" rot="1568400">
                  <a:off x="504360" y="5394600"/>
                  <a:ext cx="74520" cy="10080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" name="未知"/>
                <p:cNvSpPr/>
                <p:nvPr/>
              </p:nvSpPr>
              <p:spPr>
                <a:xfrm flipV="1" rot="5010000">
                  <a:off x="505440" y="5331240"/>
                  <a:ext cx="73080" cy="10296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" name="未知"/>
                <p:cNvSpPr/>
                <p:nvPr/>
              </p:nvSpPr>
              <p:spPr>
                <a:xfrm rot="1568400">
                  <a:off x="551880" y="5297040"/>
                  <a:ext cx="74520" cy="10080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" name=""/>
            <p:cNvGrpSpPr/>
            <p:nvPr/>
          </p:nvGrpSpPr>
          <p:grpSpPr>
            <a:xfrm>
              <a:off x="77760" y="5385960"/>
              <a:ext cx="673920" cy="699840"/>
              <a:chOff x="77760" y="5385960"/>
              <a:chExt cx="673920" cy="699840"/>
            </a:xfrm>
          </p:grpSpPr>
          <p:grpSp>
            <p:nvGrpSpPr>
              <p:cNvPr id="20" name=""/>
              <p:cNvGrpSpPr/>
              <p:nvPr/>
            </p:nvGrpSpPr>
            <p:grpSpPr>
              <a:xfrm>
                <a:off x="236160" y="5385960"/>
                <a:ext cx="515520" cy="577800"/>
                <a:chOff x="236160" y="5385960"/>
                <a:chExt cx="515520" cy="577800"/>
              </a:xfrm>
            </p:grpSpPr>
            <p:sp>
              <p:nvSpPr>
                <p:cNvPr id="21" name="未知"/>
                <p:cNvSpPr/>
                <p:nvPr/>
              </p:nvSpPr>
              <p:spPr>
                <a:xfrm flipH="1" flipV="1" rot="19290000">
                  <a:off x="483480" y="5653080"/>
                  <a:ext cx="204120" cy="27684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未知"/>
                <p:cNvSpPr/>
                <p:nvPr/>
              </p:nvSpPr>
              <p:spPr>
                <a:xfrm flipH="1" flipV="1" rot="15848400">
                  <a:off x="448560" y="5482800"/>
                  <a:ext cx="200880" cy="28116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" name="未知"/>
                <p:cNvSpPr/>
                <p:nvPr/>
              </p:nvSpPr>
              <p:spPr>
                <a:xfrm flipH="1" rot="19290000">
                  <a:off x="299880" y="5419080"/>
                  <a:ext cx="204120" cy="27684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" name=""/>
              <p:cNvGrpSpPr/>
              <p:nvPr/>
            </p:nvGrpSpPr>
            <p:grpSpPr>
              <a:xfrm>
                <a:off x="77760" y="5505480"/>
                <a:ext cx="509760" cy="580320"/>
                <a:chOff x="77760" y="5505480"/>
                <a:chExt cx="509760" cy="580320"/>
              </a:xfrm>
            </p:grpSpPr>
            <p:sp>
              <p:nvSpPr>
                <p:cNvPr id="25" name="未知"/>
                <p:cNvSpPr/>
                <p:nvPr/>
              </p:nvSpPr>
              <p:spPr>
                <a:xfrm flipV="1" rot="19387200">
                  <a:off x="320400" y="5775120"/>
                  <a:ext cx="204120" cy="27684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" name="未知"/>
                <p:cNvSpPr/>
                <p:nvPr/>
              </p:nvSpPr>
              <p:spPr>
                <a:xfrm flipV="1" rot="1228800">
                  <a:off x="167760" y="5695920"/>
                  <a:ext cx="200880" cy="28080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" name="未知"/>
                <p:cNvSpPr/>
                <p:nvPr/>
              </p:nvSpPr>
              <p:spPr>
                <a:xfrm rot="19387800">
                  <a:off x="140040" y="5538960"/>
                  <a:ext cx="204120" cy="27684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" name=""/>
            <p:cNvGrpSpPr/>
            <p:nvPr/>
          </p:nvGrpSpPr>
          <p:grpSpPr>
            <a:xfrm>
              <a:off x="1013040" y="5420880"/>
              <a:ext cx="185760" cy="175320"/>
              <a:chOff x="1013040" y="5420880"/>
              <a:chExt cx="185760" cy="175320"/>
            </a:xfrm>
          </p:grpSpPr>
          <p:grpSp>
            <p:nvGrpSpPr>
              <p:cNvPr id="29" name=""/>
              <p:cNvGrpSpPr/>
              <p:nvPr/>
            </p:nvGrpSpPr>
            <p:grpSpPr>
              <a:xfrm>
                <a:off x="1032840" y="5420880"/>
                <a:ext cx="165960" cy="117000"/>
                <a:chOff x="1032840" y="5420880"/>
                <a:chExt cx="165960" cy="117000"/>
              </a:xfrm>
            </p:grpSpPr>
            <p:sp>
              <p:nvSpPr>
                <p:cNvPr id="30" name="未知"/>
                <p:cNvSpPr/>
                <p:nvPr/>
              </p:nvSpPr>
              <p:spPr>
                <a:xfrm flipH="1" flipV="1" rot="17395800">
                  <a:off x="1125720" y="5461200"/>
                  <a:ext cx="55080" cy="7524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未知"/>
                <p:cNvSpPr/>
                <p:nvPr/>
              </p:nvSpPr>
              <p:spPr>
                <a:xfrm flipH="1" flipV="1" rot="13953600">
                  <a:off x="1093680" y="5427000"/>
                  <a:ext cx="54720" cy="7632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未知"/>
                <p:cNvSpPr/>
                <p:nvPr/>
              </p:nvSpPr>
              <p:spPr>
                <a:xfrm flipH="1" rot="17395200">
                  <a:off x="1049760" y="5433120"/>
                  <a:ext cx="55080" cy="7524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" name=""/>
              <p:cNvGrpSpPr/>
              <p:nvPr/>
            </p:nvGrpSpPr>
            <p:grpSpPr>
              <a:xfrm>
                <a:off x="1013040" y="5481000"/>
                <a:ext cx="166320" cy="115200"/>
                <a:chOff x="1013040" y="5481000"/>
                <a:chExt cx="166320" cy="115200"/>
              </a:xfrm>
            </p:grpSpPr>
            <p:sp>
              <p:nvSpPr>
                <p:cNvPr id="34" name="未知"/>
                <p:cNvSpPr/>
                <p:nvPr/>
              </p:nvSpPr>
              <p:spPr>
                <a:xfrm flipV="1" rot="17492400">
                  <a:off x="1106280" y="5511960"/>
                  <a:ext cx="55080" cy="7560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" name="未知"/>
                <p:cNvSpPr/>
                <p:nvPr/>
              </p:nvSpPr>
              <p:spPr>
                <a:xfrm flipV="1" rot="20934000">
                  <a:off x="1060200" y="5515560"/>
                  <a:ext cx="54720" cy="7596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" name="未知"/>
                <p:cNvSpPr/>
                <p:nvPr/>
              </p:nvSpPr>
              <p:spPr>
                <a:xfrm rot="17493000">
                  <a:off x="1030680" y="5482440"/>
                  <a:ext cx="55080" cy="7560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" name=""/>
            <p:cNvGrpSpPr/>
            <p:nvPr/>
          </p:nvGrpSpPr>
          <p:grpSpPr>
            <a:xfrm>
              <a:off x="1172160" y="5481720"/>
              <a:ext cx="438840" cy="390240"/>
              <a:chOff x="1172160" y="5481720"/>
              <a:chExt cx="438840" cy="390240"/>
            </a:xfrm>
          </p:grpSpPr>
          <p:grpSp>
            <p:nvGrpSpPr>
              <p:cNvPr id="38" name=""/>
              <p:cNvGrpSpPr/>
              <p:nvPr/>
            </p:nvGrpSpPr>
            <p:grpSpPr>
              <a:xfrm>
                <a:off x="1172160" y="5481720"/>
                <a:ext cx="438840" cy="390240"/>
                <a:chOff x="1172160" y="5481720"/>
                <a:chExt cx="438840" cy="390240"/>
              </a:xfrm>
            </p:grpSpPr>
            <p:grpSp>
              <p:nvGrpSpPr>
                <p:cNvPr id="39" name=""/>
                <p:cNvGrpSpPr/>
                <p:nvPr/>
              </p:nvGrpSpPr>
              <p:grpSpPr>
                <a:xfrm>
                  <a:off x="1390320" y="5481720"/>
                  <a:ext cx="220680" cy="381240"/>
                  <a:chOff x="1390320" y="5481720"/>
                  <a:chExt cx="220680" cy="381240"/>
                </a:xfrm>
              </p:grpSpPr>
              <p:sp>
                <p:nvSpPr>
                  <p:cNvPr id="40" name="未知"/>
                  <p:cNvSpPr/>
                  <p:nvPr/>
                </p:nvSpPr>
                <p:spPr>
                  <a:xfrm flipH="1" rot="21555000">
                    <a:off x="1391400" y="5482440"/>
                    <a:ext cx="125640" cy="18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未知"/>
                  <p:cNvSpPr/>
                  <p:nvPr/>
                </p:nvSpPr>
                <p:spPr>
                  <a:xfrm flipH="1" rot="3396600">
                    <a:off x="1434960" y="5587560"/>
                    <a:ext cx="132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" name="未知"/>
                  <p:cNvSpPr/>
                  <p:nvPr/>
                </p:nvSpPr>
                <p:spPr>
                  <a:xfrm flipH="1" flipV="1" rot="21555000">
                    <a:off x="1394640" y="5678640"/>
                    <a:ext cx="125640" cy="18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" name=""/>
                <p:cNvGrpSpPr/>
                <p:nvPr/>
              </p:nvGrpSpPr>
              <p:grpSpPr>
                <a:xfrm>
                  <a:off x="1172160" y="5488560"/>
                  <a:ext cx="222840" cy="383400"/>
                  <a:chOff x="1172160" y="5488560"/>
                  <a:chExt cx="222840" cy="383400"/>
                </a:xfrm>
              </p:grpSpPr>
              <p:sp>
                <p:nvSpPr>
                  <p:cNvPr id="44" name="未知"/>
                  <p:cNvSpPr/>
                  <p:nvPr/>
                </p:nvSpPr>
                <p:spPr>
                  <a:xfrm rot="21495000">
                    <a:off x="1261080" y="5490360"/>
                    <a:ext cx="125640" cy="18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" name="未知"/>
                  <p:cNvSpPr/>
                  <p:nvPr/>
                </p:nvSpPr>
                <p:spPr>
                  <a:xfrm rot="18053400">
                    <a:off x="1213920" y="5598000"/>
                    <a:ext cx="132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" name="未知"/>
                  <p:cNvSpPr/>
                  <p:nvPr/>
                </p:nvSpPr>
                <p:spPr>
                  <a:xfrm flipV="1" rot="21495000">
                    <a:off x="1266480" y="5686560"/>
                    <a:ext cx="125640" cy="18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" name=""/>
              <p:cNvGrpSpPr/>
              <p:nvPr/>
            </p:nvGrpSpPr>
            <p:grpSpPr>
              <a:xfrm>
                <a:off x="1263960" y="5535360"/>
                <a:ext cx="254160" cy="281880"/>
                <a:chOff x="1263960" y="5535360"/>
                <a:chExt cx="254160" cy="281880"/>
              </a:xfrm>
            </p:grpSpPr>
            <p:grpSp>
              <p:nvGrpSpPr>
                <p:cNvPr id="48" name=""/>
                <p:cNvGrpSpPr/>
                <p:nvPr/>
              </p:nvGrpSpPr>
              <p:grpSpPr>
                <a:xfrm>
                  <a:off x="1335960" y="5570280"/>
                  <a:ext cx="182160" cy="246960"/>
                  <a:chOff x="1335960" y="5570280"/>
                  <a:chExt cx="182160" cy="246960"/>
                </a:xfrm>
              </p:grpSpPr>
              <p:sp>
                <p:nvSpPr>
                  <p:cNvPr id="49" name="未知"/>
                  <p:cNvSpPr/>
                  <p:nvPr/>
                </p:nvSpPr>
                <p:spPr>
                  <a:xfrm flipH="1" rot="1704600">
                    <a:off x="1416600" y="5581800"/>
                    <a:ext cx="7884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未知"/>
                  <p:cNvSpPr/>
                  <p:nvPr/>
                </p:nvSpPr>
                <p:spPr>
                  <a:xfrm flipH="1" rot="5146200">
                    <a:off x="1410480" y="5654520"/>
                    <a:ext cx="8316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" name="未知"/>
                  <p:cNvSpPr/>
                  <p:nvPr/>
                </p:nvSpPr>
                <p:spPr>
                  <a:xfrm flipH="1" flipV="1" rot="1705200">
                    <a:off x="1358280" y="5690520"/>
                    <a:ext cx="7884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" name=""/>
                <p:cNvGrpSpPr/>
                <p:nvPr/>
              </p:nvGrpSpPr>
              <p:grpSpPr>
                <a:xfrm>
                  <a:off x="1263960" y="5535360"/>
                  <a:ext cx="180000" cy="246960"/>
                  <a:chOff x="1263960" y="5535360"/>
                  <a:chExt cx="180000" cy="246960"/>
                </a:xfrm>
              </p:grpSpPr>
              <p:sp>
                <p:nvSpPr>
                  <p:cNvPr id="53" name="未知"/>
                  <p:cNvSpPr/>
                  <p:nvPr/>
                </p:nvSpPr>
                <p:spPr>
                  <a:xfrm rot="1645200">
                    <a:off x="1343160" y="5546880"/>
                    <a:ext cx="7884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未知"/>
                  <p:cNvSpPr/>
                  <p:nvPr/>
                </p:nvSpPr>
                <p:spPr>
                  <a:xfrm rot="19803600">
                    <a:off x="1285560" y="5592240"/>
                    <a:ext cx="8316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未知"/>
                  <p:cNvSpPr/>
                  <p:nvPr/>
                </p:nvSpPr>
                <p:spPr>
                  <a:xfrm flipV="1" rot="1644600">
                    <a:off x="1285560" y="5655600"/>
                    <a:ext cx="7884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6" name=""/>
            <p:cNvGrpSpPr/>
            <p:nvPr/>
          </p:nvGrpSpPr>
          <p:grpSpPr>
            <a:xfrm>
              <a:off x="797040" y="5763240"/>
              <a:ext cx="921960" cy="1005120"/>
              <a:chOff x="797040" y="5763240"/>
              <a:chExt cx="921960" cy="1005120"/>
            </a:xfrm>
          </p:grpSpPr>
          <p:grpSp>
            <p:nvGrpSpPr>
              <p:cNvPr id="57" name=""/>
              <p:cNvGrpSpPr/>
              <p:nvPr/>
            </p:nvGrpSpPr>
            <p:grpSpPr>
              <a:xfrm>
                <a:off x="797040" y="5763240"/>
                <a:ext cx="921960" cy="1005120"/>
                <a:chOff x="797040" y="5763240"/>
                <a:chExt cx="921960" cy="1005120"/>
              </a:xfrm>
            </p:grpSpPr>
            <p:grpSp>
              <p:nvGrpSpPr>
                <p:cNvPr id="58" name=""/>
                <p:cNvGrpSpPr/>
                <p:nvPr/>
              </p:nvGrpSpPr>
              <p:grpSpPr>
                <a:xfrm>
                  <a:off x="1072080" y="5763240"/>
                  <a:ext cx="646920" cy="876960"/>
                  <a:chOff x="1072080" y="5763240"/>
                  <a:chExt cx="646920" cy="876960"/>
                </a:xfrm>
              </p:grpSpPr>
              <p:sp>
                <p:nvSpPr>
                  <p:cNvPr id="59" name="未知"/>
                  <p:cNvSpPr/>
                  <p:nvPr/>
                </p:nvSpPr>
                <p:spPr>
                  <a:xfrm flipH="1" rot="20092200">
                    <a:off x="1142640" y="5807160"/>
                    <a:ext cx="297360" cy="4003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未知"/>
                  <p:cNvSpPr/>
                  <p:nvPr/>
                </p:nvSpPr>
                <p:spPr>
                  <a:xfrm flipH="1" rot="1933800">
                    <a:off x="1341000" y="5956560"/>
                    <a:ext cx="290520" cy="4093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未知"/>
                  <p:cNvSpPr/>
                  <p:nvPr/>
                </p:nvSpPr>
                <p:spPr>
                  <a:xfrm flipH="1" flipV="1" rot="20092800">
                    <a:off x="1328400" y="6195240"/>
                    <a:ext cx="297360" cy="4003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" name=""/>
                <p:cNvGrpSpPr/>
                <p:nvPr/>
              </p:nvGrpSpPr>
              <p:grpSpPr>
                <a:xfrm>
                  <a:off x="797040" y="5890320"/>
                  <a:ext cx="630720" cy="878040"/>
                  <a:chOff x="797040" y="5890320"/>
                  <a:chExt cx="630720" cy="878040"/>
                </a:xfrm>
              </p:grpSpPr>
              <p:sp>
                <p:nvSpPr>
                  <p:cNvPr id="63" name="未知"/>
                  <p:cNvSpPr/>
                  <p:nvPr/>
                </p:nvSpPr>
                <p:spPr>
                  <a:xfrm rot="20032200">
                    <a:off x="870120" y="5935320"/>
                    <a:ext cx="297360" cy="4003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未知"/>
                  <p:cNvSpPr/>
                  <p:nvPr/>
                </p:nvSpPr>
                <p:spPr>
                  <a:xfrm rot="16590600">
                    <a:off x="871560" y="6179040"/>
                    <a:ext cx="290520" cy="40968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未知"/>
                  <p:cNvSpPr/>
                  <p:nvPr/>
                </p:nvSpPr>
                <p:spPr>
                  <a:xfrm flipV="1" rot="20032200">
                    <a:off x="1056960" y="6323040"/>
                    <a:ext cx="297360" cy="4003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6" name=""/>
              <p:cNvGrpSpPr/>
              <p:nvPr/>
            </p:nvGrpSpPr>
            <p:grpSpPr>
              <a:xfrm>
                <a:off x="926280" y="5994360"/>
                <a:ext cx="638640" cy="542880"/>
                <a:chOff x="926280" y="5994360"/>
                <a:chExt cx="638640" cy="542880"/>
              </a:xfrm>
            </p:grpSpPr>
            <p:grpSp>
              <p:nvGrpSpPr>
                <p:cNvPr id="67" name=""/>
                <p:cNvGrpSpPr/>
                <p:nvPr/>
              </p:nvGrpSpPr>
              <p:grpSpPr>
                <a:xfrm>
                  <a:off x="1229760" y="6006240"/>
                  <a:ext cx="335160" cy="531000"/>
                  <a:chOff x="1229760" y="6006240"/>
                  <a:chExt cx="335160" cy="531000"/>
                </a:xfrm>
              </p:grpSpPr>
              <p:sp>
                <p:nvSpPr>
                  <p:cNvPr id="68" name="未知"/>
                  <p:cNvSpPr/>
                  <p:nvPr/>
                </p:nvSpPr>
                <p:spPr>
                  <a:xfrm flipH="1" rot="241800">
                    <a:off x="1255320" y="6012000"/>
                    <a:ext cx="18648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未知"/>
                  <p:cNvSpPr/>
                  <p:nvPr/>
                </p:nvSpPr>
                <p:spPr>
                  <a:xfrm flipH="1" rot="3683400">
                    <a:off x="1317600" y="6152400"/>
                    <a:ext cx="181800" cy="25668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未知"/>
                  <p:cNvSpPr/>
                  <p:nvPr/>
                </p:nvSpPr>
                <p:spPr>
                  <a:xfrm flipH="1" flipV="1" rot="241800">
                    <a:off x="1238040" y="6280560"/>
                    <a:ext cx="18648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" name=""/>
                <p:cNvGrpSpPr/>
                <p:nvPr/>
              </p:nvGrpSpPr>
              <p:grpSpPr>
                <a:xfrm>
                  <a:off x="926280" y="5994360"/>
                  <a:ext cx="334080" cy="527760"/>
                  <a:chOff x="926280" y="5994360"/>
                  <a:chExt cx="334080" cy="527760"/>
                </a:xfrm>
              </p:grpSpPr>
              <p:sp>
                <p:nvSpPr>
                  <p:cNvPr id="72" name="未知"/>
                  <p:cNvSpPr/>
                  <p:nvPr/>
                </p:nvSpPr>
                <p:spPr>
                  <a:xfrm rot="181800">
                    <a:off x="1067400" y="5999040"/>
                    <a:ext cx="18648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未知"/>
                  <p:cNvSpPr/>
                  <p:nvPr/>
                </p:nvSpPr>
                <p:spPr>
                  <a:xfrm rot="18340800">
                    <a:off x="992520" y="6131160"/>
                    <a:ext cx="181800" cy="25668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未知"/>
                  <p:cNvSpPr/>
                  <p:nvPr/>
                </p:nvSpPr>
                <p:spPr>
                  <a:xfrm flipV="1" rot="181800">
                    <a:off x="1051560" y="6266520"/>
                    <a:ext cx="18648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5" name=""/>
            <p:cNvGrpSpPr/>
            <p:nvPr/>
          </p:nvGrpSpPr>
          <p:grpSpPr>
            <a:xfrm>
              <a:off x="747000" y="5563080"/>
              <a:ext cx="393120" cy="429120"/>
              <a:chOff x="747000" y="5563080"/>
              <a:chExt cx="393120" cy="429120"/>
            </a:xfrm>
          </p:grpSpPr>
          <p:grpSp>
            <p:nvGrpSpPr>
              <p:cNvPr id="76" name=""/>
              <p:cNvGrpSpPr/>
              <p:nvPr/>
            </p:nvGrpSpPr>
            <p:grpSpPr>
              <a:xfrm>
                <a:off x="747000" y="5563080"/>
                <a:ext cx="393120" cy="429120"/>
                <a:chOff x="747000" y="5563080"/>
                <a:chExt cx="393120" cy="429120"/>
              </a:xfrm>
            </p:grpSpPr>
            <p:grpSp>
              <p:nvGrpSpPr>
                <p:cNvPr id="77" name=""/>
                <p:cNvGrpSpPr/>
                <p:nvPr/>
              </p:nvGrpSpPr>
              <p:grpSpPr>
                <a:xfrm>
                  <a:off x="864000" y="5563080"/>
                  <a:ext cx="276120" cy="374400"/>
                  <a:chOff x="864000" y="5563080"/>
                  <a:chExt cx="276120" cy="374400"/>
                </a:xfrm>
              </p:grpSpPr>
              <p:sp>
                <p:nvSpPr>
                  <p:cNvPr id="78" name="未知"/>
                  <p:cNvSpPr/>
                  <p:nvPr/>
                </p:nvSpPr>
                <p:spPr>
                  <a:xfrm flipH="1" rot="20092200">
                    <a:off x="893520" y="5581800"/>
                    <a:ext cx="12708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未知"/>
                  <p:cNvSpPr/>
                  <p:nvPr/>
                </p:nvSpPr>
                <p:spPr>
                  <a:xfrm flipH="1" rot="1933800">
                    <a:off x="978120" y="5645520"/>
                    <a:ext cx="1242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未知"/>
                  <p:cNvSpPr/>
                  <p:nvPr/>
                </p:nvSpPr>
                <p:spPr>
                  <a:xfrm flipH="1" flipV="1" rot="20092800">
                    <a:off x="973440" y="5747400"/>
                    <a:ext cx="12708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" name=""/>
                <p:cNvGrpSpPr/>
                <p:nvPr/>
              </p:nvGrpSpPr>
              <p:grpSpPr>
                <a:xfrm>
                  <a:off x="747000" y="5617440"/>
                  <a:ext cx="269280" cy="374760"/>
                  <a:chOff x="747000" y="5617440"/>
                  <a:chExt cx="269280" cy="374760"/>
                </a:xfrm>
              </p:grpSpPr>
              <p:sp>
                <p:nvSpPr>
                  <p:cNvPr id="82" name="未知"/>
                  <p:cNvSpPr/>
                  <p:nvPr/>
                </p:nvSpPr>
                <p:spPr>
                  <a:xfrm rot="20032200">
                    <a:off x="778320" y="5636520"/>
                    <a:ext cx="12672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未知"/>
                  <p:cNvSpPr/>
                  <p:nvPr/>
                </p:nvSpPr>
                <p:spPr>
                  <a:xfrm rot="16590600">
                    <a:off x="778320" y="5740560"/>
                    <a:ext cx="12420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未知"/>
                  <p:cNvSpPr/>
                  <p:nvPr/>
                </p:nvSpPr>
                <p:spPr>
                  <a:xfrm flipV="1" rot="20032200">
                    <a:off x="858240" y="5801760"/>
                    <a:ext cx="12672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5" name=""/>
              <p:cNvGrpSpPr/>
              <p:nvPr/>
            </p:nvGrpSpPr>
            <p:grpSpPr>
              <a:xfrm>
                <a:off x="802800" y="5661720"/>
                <a:ext cx="271800" cy="231840"/>
                <a:chOff x="802800" y="5661720"/>
                <a:chExt cx="271800" cy="231840"/>
              </a:xfrm>
            </p:grpSpPr>
            <p:grpSp>
              <p:nvGrpSpPr>
                <p:cNvPr id="86" name=""/>
                <p:cNvGrpSpPr/>
                <p:nvPr/>
              </p:nvGrpSpPr>
              <p:grpSpPr>
                <a:xfrm>
                  <a:off x="932040" y="5667120"/>
                  <a:ext cx="142560" cy="226440"/>
                  <a:chOff x="932040" y="5667120"/>
                  <a:chExt cx="142560" cy="226440"/>
                </a:xfrm>
              </p:grpSpPr>
              <p:sp>
                <p:nvSpPr>
                  <p:cNvPr id="87" name="未知"/>
                  <p:cNvSpPr/>
                  <p:nvPr/>
                </p:nvSpPr>
                <p:spPr>
                  <a:xfrm flipH="1" rot="241800">
                    <a:off x="942480" y="5669640"/>
                    <a:ext cx="7956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未知"/>
                  <p:cNvSpPr/>
                  <p:nvPr/>
                </p:nvSpPr>
                <p:spPr>
                  <a:xfrm flipH="1" rot="3683400">
                    <a:off x="969120" y="5728680"/>
                    <a:ext cx="774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未知"/>
                  <p:cNvSpPr/>
                  <p:nvPr/>
                </p:nvSpPr>
                <p:spPr>
                  <a:xfrm flipH="1" flipV="1" rot="241800">
                    <a:off x="935280" y="5783760"/>
                    <a:ext cx="7956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" name=""/>
                <p:cNvGrpSpPr/>
                <p:nvPr/>
              </p:nvGrpSpPr>
              <p:grpSpPr>
                <a:xfrm>
                  <a:off x="802800" y="5661720"/>
                  <a:ext cx="142200" cy="225000"/>
                  <a:chOff x="802800" y="5661720"/>
                  <a:chExt cx="142200" cy="225000"/>
                </a:xfrm>
              </p:grpSpPr>
              <p:sp>
                <p:nvSpPr>
                  <p:cNvPr id="91" name="未知"/>
                  <p:cNvSpPr/>
                  <p:nvPr/>
                </p:nvSpPr>
                <p:spPr>
                  <a:xfrm rot="181800">
                    <a:off x="862200" y="5663520"/>
                    <a:ext cx="7956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未知"/>
                  <p:cNvSpPr/>
                  <p:nvPr/>
                </p:nvSpPr>
                <p:spPr>
                  <a:xfrm rot="18340800">
                    <a:off x="830880" y="5719680"/>
                    <a:ext cx="774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未知"/>
                  <p:cNvSpPr/>
                  <p:nvPr/>
                </p:nvSpPr>
                <p:spPr>
                  <a:xfrm flipV="1" rot="181800">
                    <a:off x="855720" y="5777640"/>
                    <a:ext cx="7956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39E5C-B791-4090-84E6-47615E0957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6858720" y="4351680"/>
            <a:ext cx="1547640" cy="1400040"/>
            <a:chOff x="6858720" y="4351680"/>
            <a:chExt cx="1547640" cy="1400040"/>
          </a:xfrm>
        </p:grpSpPr>
        <p:grpSp>
          <p:nvGrpSpPr>
            <p:cNvPr id="136" name=""/>
            <p:cNvGrpSpPr/>
            <p:nvPr/>
          </p:nvGrpSpPr>
          <p:grpSpPr>
            <a:xfrm>
              <a:off x="7323480" y="4924800"/>
              <a:ext cx="162360" cy="181080"/>
              <a:chOff x="7323480" y="4924800"/>
              <a:chExt cx="162360" cy="181080"/>
            </a:xfrm>
          </p:grpSpPr>
          <p:grpSp>
            <p:nvGrpSpPr>
              <p:cNvPr id="137" name=""/>
              <p:cNvGrpSpPr/>
              <p:nvPr/>
            </p:nvGrpSpPr>
            <p:grpSpPr>
              <a:xfrm>
                <a:off x="7371000" y="4947480"/>
                <a:ext cx="114840" cy="158400"/>
                <a:chOff x="7371000" y="4947480"/>
                <a:chExt cx="114840" cy="158400"/>
              </a:xfrm>
            </p:grpSpPr>
            <p:sp>
              <p:nvSpPr>
                <p:cNvPr id="138" name="未知"/>
                <p:cNvSpPr/>
                <p:nvPr/>
              </p:nvSpPr>
              <p:spPr>
                <a:xfrm flipH="1" flipV="1" rot="1471200">
                  <a:off x="7382880" y="5025600"/>
                  <a:ext cx="52920" cy="7236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未知"/>
                <p:cNvSpPr/>
                <p:nvPr/>
              </p:nvSpPr>
              <p:spPr>
                <a:xfrm flipH="1" flipV="1" rot="19629600">
                  <a:off x="7417800" y="4996080"/>
                  <a:ext cx="52560" cy="7272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未知"/>
                <p:cNvSpPr/>
                <p:nvPr/>
              </p:nvSpPr>
              <p:spPr>
                <a:xfrm flipH="1" rot="1471200">
                  <a:off x="7415280" y="4955040"/>
                  <a:ext cx="52920" cy="7236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7323480" y="4924800"/>
                <a:ext cx="113040" cy="158040"/>
                <a:chOff x="7323480" y="4924800"/>
                <a:chExt cx="113040" cy="158040"/>
              </a:xfrm>
            </p:grpSpPr>
            <p:sp>
              <p:nvSpPr>
                <p:cNvPr id="142" name="未知"/>
                <p:cNvSpPr/>
                <p:nvPr/>
              </p:nvSpPr>
              <p:spPr>
                <a:xfrm flipV="1" rot="1568400">
                  <a:off x="7336800" y="5002200"/>
                  <a:ext cx="52920" cy="7272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未知"/>
                <p:cNvSpPr/>
                <p:nvPr/>
              </p:nvSpPr>
              <p:spPr>
                <a:xfrm flipV="1" rot="5010000">
                  <a:off x="7336440" y="4957560"/>
                  <a:ext cx="52560" cy="7236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未知"/>
                <p:cNvSpPr/>
                <p:nvPr/>
              </p:nvSpPr>
              <p:spPr>
                <a:xfrm rot="1568400">
                  <a:off x="7369920" y="4932720"/>
                  <a:ext cx="52920" cy="7272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5" name=""/>
            <p:cNvGrpSpPr/>
            <p:nvPr/>
          </p:nvGrpSpPr>
          <p:grpSpPr>
            <a:xfrm>
              <a:off x="7244640" y="4351680"/>
              <a:ext cx="216360" cy="239040"/>
              <a:chOff x="7244640" y="4351680"/>
              <a:chExt cx="216360" cy="239040"/>
            </a:xfrm>
          </p:grpSpPr>
          <p:grpSp>
            <p:nvGrpSpPr>
              <p:cNvPr id="146" name=""/>
              <p:cNvGrpSpPr/>
              <p:nvPr/>
            </p:nvGrpSpPr>
            <p:grpSpPr>
              <a:xfrm>
                <a:off x="7308000" y="4381920"/>
                <a:ext cx="153000" cy="208800"/>
                <a:chOff x="7308000" y="4381920"/>
                <a:chExt cx="153000" cy="208800"/>
              </a:xfrm>
            </p:grpSpPr>
            <p:sp>
              <p:nvSpPr>
                <p:cNvPr id="147" name="未知"/>
                <p:cNvSpPr/>
                <p:nvPr/>
              </p:nvSpPr>
              <p:spPr>
                <a:xfrm flipH="1" flipV="1" rot="1471200">
                  <a:off x="7324200" y="4484880"/>
                  <a:ext cx="70200" cy="9540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未知"/>
                <p:cNvSpPr/>
                <p:nvPr/>
              </p:nvSpPr>
              <p:spPr>
                <a:xfrm flipH="1" flipV="1" rot="19629600">
                  <a:off x="7370640" y="4446720"/>
                  <a:ext cx="69120" cy="9684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未知"/>
                <p:cNvSpPr/>
                <p:nvPr/>
              </p:nvSpPr>
              <p:spPr>
                <a:xfrm flipH="1" rot="1471200">
                  <a:off x="7367040" y="4392000"/>
                  <a:ext cx="70200" cy="9540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7244640" y="4351680"/>
                <a:ext cx="149040" cy="208800"/>
                <a:chOff x="7244640" y="4351680"/>
                <a:chExt cx="149040" cy="208800"/>
              </a:xfrm>
            </p:grpSpPr>
            <p:sp>
              <p:nvSpPr>
                <p:cNvPr id="151" name="未知"/>
                <p:cNvSpPr/>
                <p:nvPr/>
              </p:nvSpPr>
              <p:spPr>
                <a:xfrm flipV="1" rot="1568400">
                  <a:off x="7261920" y="4454280"/>
                  <a:ext cx="70200" cy="9540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未知"/>
                <p:cNvSpPr/>
                <p:nvPr/>
              </p:nvSpPr>
              <p:spPr>
                <a:xfrm flipV="1" rot="5010000">
                  <a:off x="7261920" y="4393800"/>
                  <a:ext cx="69120" cy="9684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未知"/>
                <p:cNvSpPr/>
                <p:nvPr/>
              </p:nvSpPr>
              <p:spPr>
                <a:xfrm rot="1568400">
                  <a:off x="7305840" y="4362120"/>
                  <a:ext cx="70200" cy="9540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4" name=""/>
            <p:cNvGrpSpPr/>
            <p:nvPr/>
          </p:nvGrpSpPr>
          <p:grpSpPr>
            <a:xfrm>
              <a:off x="6858720" y="4446360"/>
              <a:ext cx="635760" cy="660600"/>
              <a:chOff x="6858720" y="4446360"/>
              <a:chExt cx="635760" cy="660600"/>
            </a:xfrm>
          </p:grpSpPr>
          <p:grpSp>
            <p:nvGrpSpPr>
              <p:cNvPr id="155" name=""/>
              <p:cNvGrpSpPr/>
              <p:nvPr/>
            </p:nvGrpSpPr>
            <p:grpSpPr>
              <a:xfrm>
                <a:off x="7007400" y="4446360"/>
                <a:ext cx="487080" cy="545040"/>
                <a:chOff x="7007400" y="4446360"/>
                <a:chExt cx="487080" cy="545040"/>
              </a:xfrm>
            </p:grpSpPr>
            <p:sp>
              <p:nvSpPr>
                <p:cNvPr id="156" name="未知"/>
                <p:cNvSpPr/>
                <p:nvPr/>
              </p:nvSpPr>
              <p:spPr>
                <a:xfrm flipH="1" flipV="1" rot="19290000">
                  <a:off x="7241760" y="4698000"/>
                  <a:ext cx="192240" cy="26172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未知"/>
                <p:cNvSpPr/>
                <p:nvPr/>
              </p:nvSpPr>
              <p:spPr>
                <a:xfrm flipH="1" flipV="1" rot="15848400">
                  <a:off x="7208640" y="4538880"/>
                  <a:ext cx="189720" cy="26496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未知"/>
                <p:cNvSpPr/>
                <p:nvPr/>
              </p:nvSpPr>
              <p:spPr>
                <a:xfrm flipH="1" rot="19290000">
                  <a:off x="7067520" y="4477680"/>
                  <a:ext cx="192240" cy="26172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6858720" y="4558680"/>
                <a:ext cx="480600" cy="548280"/>
                <a:chOff x="6858720" y="4558680"/>
                <a:chExt cx="480600" cy="548280"/>
              </a:xfrm>
            </p:grpSpPr>
            <p:sp>
              <p:nvSpPr>
                <p:cNvPr id="160" name="未知"/>
                <p:cNvSpPr/>
                <p:nvPr/>
              </p:nvSpPr>
              <p:spPr>
                <a:xfrm flipV="1" rot="19387200">
                  <a:off x="7087680" y="4813560"/>
                  <a:ext cx="192240" cy="26136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未知"/>
                <p:cNvSpPr/>
                <p:nvPr/>
              </p:nvSpPr>
              <p:spPr>
                <a:xfrm flipV="1" rot="1228800">
                  <a:off x="6944400" y="4738680"/>
                  <a:ext cx="189720" cy="26460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未知"/>
                <p:cNvSpPr/>
                <p:nvPr/>
              </p:nvSpPr>
              <p:spPr>
                <a:xfrm rot="19387800">
                  <a:off x="6917760" y="4590000"/>
                  <a:ext cx="192240" cy="26136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3" name=""/>
            <p:cNvGrpSpPr/>
            <p:nvPr/>
          </p:nvGrpSpPr>
          <p:grpSpPr>
            <a:xfrm>
              <a:off x="7741080" y="4480200"/>
              <a:ext cx="174960" cy="165240"/>
              <a:chOff x="7741080" y="4480200"/>
              <a:chExt cx="174960" cy="165240"/>
            </a:xfrm>
          </p:grpSpPr>
          <p:grpSp>
            <p:nvGrpSpPr>
              <p:cNvPr id="164" name=""/>
              <p:cNvGrpSpPr/>
              <p:nvPr/>
            </p:nvGrpSpPr>
            <p:grpSpPr>
              <a:xfrm>
                <a:off x="7759440" y="4480200"/>
                <a:ext cx="156600" cy="110160"/>
                <a:chOff x="7759440" y="4480200"/>
                <a:chExt cx="156600" cy="110160"/>
              </a:xfrm>
            </p:grpSpPr>
            <p:sp>
              <p:nvSpPr>
                <p:cNvPr id="165" name="未知"/>
                <p:cNvSpPr/>
                <p:nvPr/>
              </p:nvSpPr>
              <p:spPr>
                <a:xfrm flipH="1" flipV="1" rot="17395800">
                  <a:off x="7847280" y="4517640"/>
                  <a:ext cx="51840" cy="7128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未知"/>
                <p:cNvSpPr/>
                <p:nvPr/>
              </p:nvSpPr>
              <p:spPr>
                <a:xfrm flipH="1" flipV="1" rot="13953600">
                  <a:off x="7816320" y="4486680"/>
                  <a:ext cx="51840" cy="7164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未知"/>
                <p:cNvSpPr/>
                <p:nvPr/>
              </p:nvSpPr>
              <p:spPr>
                <a:xfrm flipH="1" rot="17395200">
                  <a:off x="7775280" y="4491720"/>
                  <a:ext cx="51840" cy="7128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7741080" y="4536720"/>
                <a:ext cx="156600" cy="108720"/>
                <a:chOff x="7741080" y="4536720"/>
                <a:chExt cx="156600" cy="108720"/>
              </a:xfrm>
            </p:grpSpPr>
            <p:sp>
              <p:nvSpPr>
                <p:cNvPr id="169" name="未知"/>
                <p:cNvSpPr/>
                <p:nvPr/>
              </p:nvSpPr>
              <p:spPr>
                <a:xfrm flipV="1" rot="17492400">
                  <a:off x="7828920" y="4565160"/>
                  <a:ext cx="51840" cy="7128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未知"/>
                <p:cNvSpPr/>
                <p:nvPr/>
              </p:nvSpPr>
              <p:spPr>
                <a:xfrm flipV="1" rot="20934000">
                  <a:off x="7785360" y="4569120"/>
                  <a:ext cx="51480" cy="7164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未知"/>
                <p:cNvSpPr/>
                <p:nvPr/>
              </p:nvSpPr>
              <p:spPr>
                <a:xfrm rot="17493000">
                  <a:off x="7757640" y="4538160"/>
                  <a:ext cx="51840" cy="71280"/>
                </a:xfrm>
                <a:custGeom>
                  <a:avLst/>
                  <a:gdLst/>
                  <a:ahLst/>
                  <a:rect l="l" t="t" r="r" b="b"/>
                  <a:pathLst>
                    <a:path w="1232" h="1697">
                      <a:moveTo>
                        <a:pt x="1212" y="1697"/>
                      </a:moveTo>
                      <a:cubicBezTo>
                        <a:pt x="1024" y="1657"/>
                        <a:pt x="536" y="1219"/>
                        <a:pt x="335" y="951"/>
                      </a:cubicBezTo>
                      <a:cubicBezTo>
                        <a:pt x="228" y="817"/>
                        <a:pt x="0" y="389"/>
                        <a:pt x="167" y="47"/>
                      </a:cubicBezTo>
                      <a:cubicBezTo>
                        <a:pt x="488" y="0"/>
                        <a:pt x="762" y="306"/>
                        <a:pt x="910" y="545"/>
                      </a:cubicBezTo>
                      <a:cubicBezTo>
                        <a:pt x="1058" y="784"/>
                        <a:pt x="1232" y="1517"/>
                        <a:pt x="1212" y="1697"/>
                      </a:cubicBezTo>
                      <a:close/>
                    </a:path>
                  </a:pathLst>
                </a:custGeom>
                <a:solidFill>
                  <a:srgbClr val="99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2" name=""/>
            <p:cNvGrpSpPr/>
            <p:nvPr/>
          </p:nvGrpSpPr>
          <p:grpSpPr>
            <a:xfrm>
              <a:off x="7890120" y="4536360"/>
              <a:ext cx="413280" cy="368640"/>
              <a:chOff x="7890120" y="4536360"/>
              <a:chExt cx="413280" cy="368640"/>
            </a:xfrm>
          </p:grpSpPr>
          <p:grpSp>
            <p:nvGrpSpPr>
              <p:cNvPr id="173" name=""/>
              <p:cNvGrpSpPr/>
              <p:nvPr/>
            </p:nvGrpSpPr>
            <p:grpSpPr>
              <a:xfrm>
                <a:off x="7890120" y="4536360"/>
                <a:ext cx="413280" cy="368640"/>
                <a:chOff x="7890120" y="4536360"/>
                <a:chExt cx="413280" cy="368640"/>
              </a:xfrm>
            </p:grpSpPr>
            <p:grpSp>
              <p:nvGrpSpPr>
                <p:cNvPr id="174" name=""/>
                <p:cNvGrpSpPr/>
                <p:nvPr/>
              </p:nvGrpSpPr>
              <p:grpSpPr>
                <a:xfrm>
                  <a:off x="8095320" y="4536360"/>
                  <a:ext cx="208080" cy="360360"/>
                  <a:chOff x="8095320" y="4536360"/>
                  <a:chExt cx="208080" cy="360360"/>
                </a:xfrm>
              </p:grpSpPr>
              <p:sp>
                <p:nvSpPr>
                  <p:cNvPr id="175" name="未知"/>
                  <p:cNvSpPr/>
                  <p:nvPr/>
                </p:nvSpPr>
                <p:spPr>
                  <a:xfrm flipH="1" rot="21555000">
                    <a:off x="8096040" y="4537080"/>
                    <a:ext cx="1180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未知"/>
                  <p:cNvSpPr/>
                  <p:nvPr/>
                </p:nvSpPr>
                <p:spPr>
                  <a:xfrm flipH="1" rot="3396600">
                    <a:off x="8137440" y="4637160"/>
                    <a:ext cx="125280" cy="163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未知"/>
                  <p:cNvSpPr/>
                  <p:nvPr/>
                </p:nvSpPr>
                <p:spPr>
                  <a:xfrm flipH="1" flipV="1" rot="21555000">
                    <a:off x="8100000" y="4722840"/>
                    <a:ext cx="1180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" name=""/>
                <p:cNvGrpSpPr/>
                <p:nvPr/>
              </p:nvGrpSpPr>
              <p:grpSpPr>
                <a:xfrm>
                  <a:off x="7890120" y="4542840"/>
                  <a:ext cx="209520" cy="362160"/>
                  <a:chOff x="7890120" y="4542840"/>
                  <a:chExt cx="209520" cy="362160"/>
                </a:xfrm>
              </p:grpSpPr>
              <p:sp>
                <p:nvSpPr>
                  <p:cNvPr id="179" name="未知"/>
                  <p:cNvSpPr/>
                  <p:nvPr/>
                </p:nvSpPr>
                <p:spPr>
                  <a:xfrm rot="21495000">
                    <a:off x="7974360" y="4544280"/>
                    <a:ext cx="1180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未知"/>
                  <p:cNvSpPr/>
                  <p:nvPr/>
                </p:nvSpPr>
                <p:spPr>
                  <a:xfrm rot="18053400">
                    <a:off x="7929360" y="4646880"/>
                    <a:ext cx="125280" cy="16308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未知"/>
                  <p:cNvSpPr/>
                  <p:nvPr/>
                </p:nvSpPr>
                <p:spPr>
                  <a:xfrm flipV="1" rot="21495000">
                    <a:off x="7978680" y="4730040"/>
                    <a:ext cx="1180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2" name=""/>
              <p:cNvGrpSpPr/>
              <p:nvPr/>
            </p:nvGrpSpPr>
            <p:grpSpPr>
              <a:xfrm>
                <a:off x="7976520" y="4587480"/>
                <a:ext cx="240120" cy="266400"/>
                <a:chOff x="7976520" y="4587480"/>
                <a:chExt cx="240120" cy="266400"/>
              </a:xfrm>
            </p:grpSpPr>
            <p:grpSp>
              <p:nvGrpSpPr>
                <p:cNvPr id="183" name=""/>
                <p:cNvGrpSpPr/>
                <p:nvPr/>
              </p:nvGrpSpPr>
              <p:grpSpPr>
                <a:xfrm>
                  <a:off x="8045280" y="4620240"/>
                  <a:ext cx="171360" cy="233640"/>
                  <a:chOff x="8045280" y="4620240"/>
                  <a:chExt cx="171360" cy="233640"/>
                </a:xfrm>
              </p:grpSpPr>
              <p:sp>
                <p:nvSpPr>
                  <p:cNvPr id="184" name="未知"/>
                  <p:cNvSpPr/>
                  <p:nvPr/>
                </p:nvSpPr>
                <p:spPr>
                  <a:xfrm flipH="1" rot="1704600">
                    <a:off x="8121240" y="4631040"/>
                    <a:ext cx="741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未知"/>
                  <p:cNvSpPr/>
                  <p:nvPr/>
                </p:nvSpPr>
                <p:spPr>
                  <a:xfrm flipH="1" rot="5146200">
                    <a:off x="8114040" y="4699800"/>
                    <a:ext cx="7848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未知"/>
                  <p:cNvSpPr/>
                  <p:nvPr/>
                </p:nvSpPr>
                <p:spPr>
                  <a:xfrm flipH="1" flipV="1" rot="1705200">
                    <a:off x="8066160" y="4733640"/>
                    <a:ext cx="741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" name=""/>
                <p:cNvGrpSpPr/>
                <p:nvPr/>
              </p:nvGrpSpPr>
              <p:grpSpPr>
                <a:xfrm>
                  <a:off x="7976520" y="4587480"/>
                  <a:ext cx="169920" cy="232920"/>
                  <a:chOff x="7976520" y="4587480"/>
                  <a:chExt cx="169920" cy="232920"/>
                </a:xfrm>
              </p:grpSpPr>
              <p:sp>
                <p:nvSpPr>
                  <p:cNvPr id="188" name="未知"/>
                  <p:cNvSpPr/>
                  <p:nvPr/>
                </p:nvSpPr>
                <p:spPr>
                  <a:xfrm rot="1645200">
                    <a:off x="8051400" y="4598280"/>
                    <a:ext cx="7416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未知"/>
                  <p:cNvSpPr/>
                  <p:nvPr/>
                </p:nvSpPr>
                <p:spPr>
                  <a:xfrm rot="19803600">
                    <a:off x="7996680" y="4641480"/>
                    <a:ext cx="7848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未知"/>
                  <p:cNvSpPr/>
                  <p:nvPr/>
                </p:nvSpPr>
                <p:spPr>
                  <a:xfrm flipV="1" rot="1644600">
                    <a:off x="7997040" y="4700880"/>
                    <a:ext cx="7416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91" name=""/>
            <p:cNvGrpSpPr/>
            <p:nvPr/>
          </p:nvGrpSpPr>
          <p:grpSpPr>
            <a:xfrm>
              <a:off x="7536960" y="4802400"/>
              <a:ext cx="869400" cy="949320"/>
              <a:chOff x="7536960" y="4802400"/>
              <a:chExt cx="869400" cy="949320"/>
            </a:xfrm>
          </p:grpSpPr>
          <p:grpSp>
            <p:nvGrpSpPr>
              <p:cNvPr id="192" name=""/>
              <p:cNvGrpSpPr/>
              <p:nvPr/>
            </p:nvGrpSpPr>
            <p:grpSpPr>
              <a:xfrm>
                <a:off x="7536960" y="4802400"/>
                <a:ext cx="869400" cy="949320"/>
                <a:chOff x="7536960" y="4802400"/>
                <a:chExt cx="869400" cy="949320"/>
              </a:xfrm>
            </p:grpSpPr>
            <p:grpSp>
              <p:nvGrpSpPr>
                <p:cNvPr id="193" name=""/>
                <p:cNvGrpSpPr/>
                <p:nvPr/>
              </p:nvGrpSpPr>
              <p:grpSpPr>
                <a:xfrm>
                  <a:off x="7795800" y="4802400"/>
                  <a:ext cx="610560" cy="828000"/>
                  <a:chOff x="7795800" y="4802400"/>
                  <a:chExt cx="610560" cy="828000"/>
                </a:xfrm>
              </p:grpSpPr>
              <p:sp>
                <p:nvSpPr>
                  <p:cNvPr id="194" name="未知"/>
                  <p:cNvSpPr/>
                  <p:nvPr/>
                </p:nvSpPr>
                <p:spPr>
                  <a:xfrm flipH="1" rot="20092200">
                    <a:off x="7862400" y="4843800"/>
                    <a:ext cx="28044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未知"/>
                  <p:cNvSpPr/>
                  <p:nvPr/>
                </p:nvSpPr>
                <p:spPr>
                  <a:xfrm flipH="1" rot="1933800">
                    <a:off x="8049960" y="4985640"/>
                    <a:ext cx="274320" cy="385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未知"/>
                  <p:cNvSpPr/>
                  <p:nvPr/>
                </p:nvSpPr>
                <p:spPr>
                  <a:xfrm flipH="1" flipV="1" rot="20092800">
                    <a:off x="8037000" y="5210280"/>
                    <a:ext cx="28044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7536960" y="4922640"/>
                  <a:ext cx="594720" cy="829080"/>
                  <a:chOff x="7536960" y="4922640"/>
                  <a:chExt cx="594720" cy="829080"/>
                </a:xfrm>
              </p:grpSpPr>
              <p:sp>
                <p:nvSpPr>
                  <p:cNvPr id="198" name="未知"/>
                  <p:cNvSpPr/>
                  <p:nvPr/>
                </p:nvSpPr>
                <p:spPr>
                  <a:xfrm rot="20032200">
                    <a:off x="7605720" y="4965120"/>
                    <a:ext cx="280080" cy="37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未知"/>
                  <p:cNvSpPr/>
                  <p:nvPr/>
                </p:nvSpPr>
                <p:spPr>
                  <a:xfrm rot="16590600">
                    <a:off x="7606800" y="5196240"/>
                    <a:ext cx="274320" cy="385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未知"/>
                  <p:cNvSpPr/>
                  <p:nvPr/>
                </p:nvSpPr>
                <p:spPr>
                  <a:xfrm flipV="1" rot="20032200">
                    <a:off x="7782840" y="5330880"/>
                    <a:ext cx="280080" cy="37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1" name=""/>
              <p:cNvGrpSpPr/>
              <p:nvPr/>
            </p:nvGrpSpPr>
            <p:grpSpPr>
              <a:xfrm>
                <a:off x="7658640" y="5021280"/>
                <a:ext cx="601560" cy="513000"/>
                <a:chOff x="7658640" y="5021280"/>
                <a:chExt cx="601560" cy="513000"/>
              </a:xfrm>
            </p:grpSpPr>
            <p:grpSp>
              <p:nvGrpSpPr>
                <p:cNvPr id="202" name=""/>
                <p:cNvGrpSpPr/>
                <p:nvPr/>
              </p:nvGrpSpPr>
              <p:grpSpPr>
                <a:xfrm>
                  <a:off x="7944840" y="5032080"/>
                  <a:ext cx="315360" cy="502200"/>
                  <a:chOff x="7944840" y="5032080"/>
                  <a:chExt cx="315360" cy="502200"/>
                </a:xfrm>
              </p:grpSpPr>
              <p:sp>
                <p:nvSpPr>
                  <p:cNvPr id="203" name="未知"/>
                  <p:cNvSpPr/>
                  <p:nvPr/>
                </p:nvSpPr>
                <p:spPr>
                  <a:xfrm flipH="1" rot="241800">
                    <a:off x="7968600" y="5037840"/>
                    <a:ext cx="175680" cy="2365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未知"/>
                  <p:cNvSpPr/>
                  <p:nvPr/>
                </p:nvSpPr>
                <p:spPr>
                  <a:xfrm flipH="1" rot="3683400">
                    <a:off x="8026920" y="5170680"/>
                    <a:ext cx="171720" cy="24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未知"/>
                  <p:cNvSpPr/>
                  <p:nvPr/>
                </p:nvSpPr>
                <p:spPr>
                  <a:xfrm flipH="1" flipV="1" rot="241800">
                    <a:off x="7952400" y="5291640"/>
                    <a:ext cx="175680" cy="2365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"/>
                <p:cNvGrpSpPr/>
                <p:nvPr/>
              </p:nvGrpSpPr>
              <p:grpSpPr>
                <a:xfrm>
                  <a:off x="7658640" y="5021280"/>
                  <a:ext cx="314640" cy="498600"/>
                  <a:chOff x="7658640" y="5021280"/>
                  <a:chExt cx="314640" cy="498600"/>
                </a:xfrm>
              </p:grpSpPr>
              <p:sp>
                <p:nvSpPr>
                  <p:cNvPr id="207" name="未知"/>
                  <p:cNvSpPr/>
                  <p:nvPr/>
                </p:nvSpPr>
                <p:spPr>
                  <a:xfrm rot="181800">
                    <a:off x="7791480" y="5025600"/>
                    <a:ext cx="175680" cy="2365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未知"/>
                  <p:cNvSpPr/>
                  <p:nvPr/>
                </p:nvSpPr>
                <p:spPr>
                  <a:xfrm rot="18340800">
                    <a:off x="7720920" y="5150160"/>
                    <a:ext cx="171720" cy="24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未知"/>
                  <p:cNvSpPr/>
                  <p:nvPr/>
                </p:nvSpPr>
                <p:spPr>
                  <a:xfrm flipV="1" rot="181800">
                    <a:off x="7776720" y="5278680"/>
                    <a:ext cx="175680" cy="2365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10" name=""/>
            <p:cNvGrpSpPr/>
            <p:nvPr/>
          </p:nvGrpSpPr>
          <p:grpSpPr>
            <a:xfrm>
              <a:off x="7489800" y="4613400"/>
              <a:ext cx="370800" cy="405360"/>
              <a:chOff x="7489800" y="4613400"/>
              <a:chExt cx="370800" cy="405360"/>
            </a:xfrm>
          </p:grpSpPr>
          <p:grpSp>
            <p:nvGrpSpPr>
              <p:cNvPr id="211" name=""/>
              <p:cNvGrpSpPr/>
              <p:nvPr/>
            </p:nvGrpSpPr>
            <p:grpSpPr>
              <a:xfrm>
                <a:off x="7489800" y="4613400"/>
                <a:ext cx="370800" cy="405360"/>
                <a:chOff x="7489800" y="4613400"/>
                <a:chExt cx="370800" cy="405360"/>
              </a:xfrm>
            </p:grpSpPr>
            <p:grpSp>
              <p:nvGrpSpPr>
                <p:cNvPr id="212" name=""/>
                <p:cNvGrpSpPr/>
                <p:nvPr/>
              </p:nvGrpSpPr>
              <p:grpSpPr>
                <a:xfrm>
                  <a:off x="7599960" y="4613400"/>
                  <a:ext cx="260640" cy="353520"/>
                  <a:chOff x="7599960" y="4613400"/>
                  <a:chExt cx="260640" cy="353520"/>
                </a:xfrm>
              </p:grpSpPr>
              <p:sp>
                <p:nvSpPr>
                  <p:cNvPr id="213" name="未知"/>
                  <p:cNvSpPr/>
                  <p:nvPr/>
                </p:nvSpPr>
                <p:spPr>
                  <a:xfrm flipH="1" rot="20092200">
                    <a:off x="7628040" y="4631040"/>
                    <a:ext cx="119520" cy="16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未知"/>
                  <p:cNvSpPr/>
                  <p:nvPr/>
                </p:nvSpPr>
                <p:spPr>
                  <a:xfrm flipH="1" rot="1933800">
                    <a:off x="7708320" y="4691880"/>
                    <a:ext cx="117360" cy="164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未知"/>
                  <p:cNvSpPr/>
                  <p:nvPr/>
                </p:nvSpPr>
                <p:spPr>
                  <a:xfrm flipH="1" flipV="1" rot="20092800">
                    <a:off x="7702920" y="4787280"/>
                    <a:ext cx="119520" cy="16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6" name=""/>
                <p:cNvGrpSpPr/>
                <p:nvPr/>
              </p:nvGrpSpPr>
              <p:grpSpPr>
                <a:xfrm>
                  <a:off x="7489800" y="4665240"/>
                  <a:ext cx="253800" cy="353520"/>
                  <a:chOff x="7489800" y="4665240"/>
                  <a:chExt cx="253800" cy="353520"/>
                </a:xfrm>
              </p:grpSpPr>
              <p:sp>
                <p:nvSpPr>
                  <p:cNvPr id="217" name="未知"/>
                  <p:cNvSpPr/>
                  <p:nvPr/>
                </p:nvSpPr>
                <p:spPr>
                  <a:xfrm rot="20032200">
                    <a:off x="7518960" y="4682880"/>
                    <a:ext cx="119520" cy="16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未知"/>
                  <p:cNvSpPr/>
                  <p:nvPr/>
                </p:nvSpPr>
                <p:spPr>
                  <a:xfrm rot="16590600">
                    <a:off x="7519680" y="4781880"/>
                    <a:ext cx="117360" cy="1645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未知"/>
                  <p:cNvSpPr/>
                  <p:nvPr/>
                </p:nvSpPr>
                <p:spPr>
                  <a:xfrm flipV="1" rot="20032200">
                    <a:off x="7594560" y="4838760"/>
                    <a:ext cx="119520" cy="16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0" name=""/>
              <p:cNvGrpSpPr/>
              <p:nvPr/>
            </p:nvGrpSpPr>
            <p:grpSpPr>
              <a:xfrm>
                <a:off x="7542000" y="4707000"/>
                <a:ext cx="256320" cy="218880"/>
                <a:chOff x="7542000" y="4707000"/>
                <a:chExt cx="256320" cy="21888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7664040" y="4711320"/>
                  <a:ext cx="134280" cy="214560"/>
                  <a:chOff x="7664040" y="4711320"/>
                  <a:chExt cx="134280" cy="214560"/>
                </a:xfrm>
              </p:grpSpPr>
              <p:sp>
                <p:nvSpPr>
                  <p:cNvPr id="222" name="未知"/>
                  <p:cNvSpPr/>
                  <p:nvPr/>
                </p:nvSpPr>
                <p:spPr>
                  <a:xfrm flipH="1" rot="241800">
                    <a:off x="7673760" y="4713840"/>
                    <a:ext cx="74880" cy="10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未知"/>
                  <p:cNvSpPr/>
                  <p:nvPr/>
                </p:nvSpPr>
                <p:spPr>
                  <a:xfrm flipH="1" rot="3683400">
                    <a:off x="7698240" y="4770720"/>
                    <a:ext cx="7344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未知"/>
                  <p:cNvSpPr/>
                  <p:nvPr/>
                </p:nvSpPr>
                <p:spPr>
                  <a:xfrm flipH="1" flipV="1" rot="241800">
                    <a:off x="7666920" y="4821480"/>
                    <a:ext cx="74880" cy="10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5" name=""/>
                <p:cNvGrpSpPr/>
                <p:nvPr/>
              </p:nvGrpSpPr>
              <p:grpSpPr>
                <a:xfrm>
                  <a:off x="7542000" y="4707000"/>
                  <a:ext cx="134280" cy="213120"/>
                  <a:chOff x="7542000" y="4707000"/>
                  <a:chExt cx="134280" cy="213120"/>
                </a:xfrm>
              </p:grpSpPr>
              <p:sp>
                <p:nvSpPr>
                  <p:cNvPr id="226" name="未知"/>
                  <p:cNvSpPr/>
                  <p:nvPr/>
                </p:nvSpPr>
                <p:spPr>
                  <a:xfrm rot="181800">
                    <a:off x="7598520" y="4708800"/>
                    <a:ext cx="74880" cy="10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未知"/>
                  <p:cNvSpPr/>
                  <p:nvPr/>
                </p:nvSpPr>
                <p:spPr>
                  <a:xfrm rot="18340800">
                    <a:off x="7568640" y="4762440"/>
                    <a:ext cx="7344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未知"/>
                  <p:cNvSpPr/>
                  <p:nvPr/>
                </p:nvSpPr>
                <p:spPr>
                  <a:xfrm flipV="1" rot="181800">
                    <a:off x="7592400" y="4816800"/>
                    <a:ext cx="74880" cy="10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32" h="1697">
                        <a:moveTo>
                          <a:pt x="1212" y="1697"/>
                        </a:moveTo>
                        <a:cubicBezTo>
                          <a:pt x="1024" y="1657"/>
                          <a:pt x="536" y="1219"/>
                          <a:pt x="335" y="951"/>
                        </a:cubicBezTo>
                        <a:cubicBezTo>
                          <a:pt x="228" y="817"/>
                          <a:pt x="0" y="389"/>
                          <a:pt x="167" y="47"/>
                        </a:cubicBezTo>
                        <a:cubicBezTo>
                          <a:pt x="488" y="0"/>
                          <a:pt x="762" y="306"/>
                          <a:pt x="910" y="545"/>
                        </a:cubicBezTo>
                        <a:cubicBezTo>
                          <a:pt x="1058" y="784"/>
                          <a:pt x="1232" y="1517"/>
                          <a:pt x="1212" y="1697"/>
                        </a:cubicBezTo>
                        <a:close/>
                      </a:path>
                    </a:pathLst>
                  </a:custGeom>
                  <a:solidFill>
                    <a:srgbClr val="990033">
                      <a:alpha val="9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16000" y="3212640"/>
            <a:ext cx="66960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A0313-488D-4D3B-80C4-EF41C54080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9119-7501-4406-A8CC-28B46E853B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image" Target="../media/image5.png"/><Relationship Id="rId8" Type="http://schemas.openxmlformats.org/officeDocument/2006/relationships/image" Target="../media/image6.wmf"/><Relationship Id="rId9" Type="http://schemas.openxmlformats.org/officeDocument/2006/relationships/image" Target="../media/image5.png"/><Relationship Id="rId10" Type="http://schemas.openxmlformats.org/officeDocument/2006/relationships/image" Target="../media/image6.wmf"/><Relationship Id="rId11" Type="http://schemas.openxmlformats.org/officeDocument/2006/relationships/image" Target="../media/image5.png"/><Relationship Id="rId12" Type="http://schemas.openxmlformats.org/officeDocument/2006/relationships/image" Target="../media/image6.wmf"/><Relationship Id="rId13" Type="http://schemas.openxmlformats.org/officeDocument/2006/relationships/image" Target="../media/image5.png"/><Relationship Id="rId14" Type="http://schemas.openxmlformats.org/officeDocument/2006/relationships/image" Target="../media/image6.wmf"/><Relationship Id="rId15" Type="http://schemas.openxmlformats.org/officeDocument/2006/relationships/image" Target="../media/image5.png"/><Relationship Id="rId16" Type="http://schemas.openxmlformats.org/officeDocument/2006/relationships/image" Target="../media/image6.wmf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16000" y="3212640"/>
            <a:ext cx="66960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粉色月季花植物</a:t>
            </a:r>
            <a:r>
              <a:rPr b="1" lang="en-US" sz="4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模板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371240" y="4387320"/>
            <a:ext cx="557676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659640" y="6405480"/>
            <a:ext cx="23763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976800" y="6413400"/>
            <a:ext cx="183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单击此处添加标题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rot="692400">
            <a:off x="2029320" y="2504520"/>
            <a:ext cx="4654800" cy="214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722" y="448"/>
                </a:moveTo>
                <a:arcTo wR="10800" hR="10800" stAng="-6393413" swAng="2073627"/>
                <a:lnTo>
                  <a:pt x="10800" y="10800"/>
                </a:lnTo>
                <a:close/>
              </a:path>
              <a:path fill="none" w="21600" h="21600">
                <a:moveTo>
                  <a:pt x="7722" y="448"/>
                </a:moveTo>
                <a:arcTo wR="10800" hR="10800" stAng="-6393413" swAng="2073627"/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2666880" y="5772240"/>
            <a:ext cx="3581280" cy="914400"/>
            <a:chOff x="2666880" y="5772240"/>
            <a:chExt cx="3581280" cy="914400"/>
          </a:xfrm>
        </p:grpSpPr>
        <p:pic>
          <p:nvPicPr>
            <p:cNvPr id="318" name="" descr=""/>
            <p:cNvPicPr/>
            <p:nvPr/>
          </p:nvPicPr>
          <p:blipFill>
            <a:blip r:embed="rId2">
              <a:lum bright="18000"/>
            </a:blip>
            <a:stretch/>
          </p:blipFill>
          <p:spPr>
            <a:xfrm>
              <a:off x="2666880" y="6358320"/>
              <a:ext cx="3581280" cy="32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9" name=""/>
            <p:cNvGrpSpPr/>
            <p:nvPr/>
          </p:nvGrpSpPr>
          <p:grpSpPr>
            <a:xfrm>
              <a:off x="2668320" y="5772240"/>
              <a:ext cx="3554640" cy="787320"/>
              <a:chOff x="2668320" y="5772240"/>
              <a:chExt cx="3554640" cy="787320"/>
            </a:xfrm>
          </p:grpSpPr>
          <p:sp>
            <p:nvSpPr>
              <p:cNvPr id="320" name=""/>
              <p:cNvSpPr/>
              <p:nvPr/>
            </p:nvSpPr>
            <p:spPr>
              <a:xfrm>
                <a:off x="2679120" y="5772240"/>
                <a:ext cx="3543840" cy="787320"/>
              </a:xfrm>
              <a:prstGeom prst="ellipse">
                <a:avLst/>
              </a:prstGeom>
              <a:gradFill rotWithShape="0">
                <a:gsLst>
                  <a:gs pos="0">
                    <a:srgbClr val="797979"/>
                  </a:gs>
                  <a:gs pos="50000">
                    <a:srgbClr val="c0c0c0"/>
                  </a:gs>
                  <a:gs pos="100000">
                    <a:srgbClr val="79797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668320" y="5772240"/>
                <a:ext cx="3554640" cy="67716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8e8e8"/>
                  </a:gs>
                </a:gsLst>
                <a:lin ang="5400000"/>
              </a:gradFill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2" name="未知"/>
          <p:cNvSpPr/>
          <p:nvPr/>
        </p:nvSpPr>
        <p:spPr>
          <a:xfrm>
            <a:off x="3505320" y="1428840"/>
            <a:ext cx="2200320" cy="480060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c889cd"/>
              </a:gs>
              <a:gs pos="100000">
                <a:srgbClr val="724e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3324240" y="2190600"/>
            <a:ext cx="409680" cy="393840"/>
            <a:chOff x="3324240" y="2190600"/>
            <a:chExt cx="409680" cy="393840"/>
          </a:xfrm>
        </p:grpSpPr>
        <p:pic>
          <p:nvPicPr>
            <p:cNvPr id="324" name="" descr=""/>
            <p:cNvPicPr/>
            <p:nvPr/>
          </p:nvPicPr>
          <p:blipFill>
            <a:blip r:embed="rId3"/>
            <a:stretch/>
          </p:blipFill>
          <p:spPr>
            <a:xfrm>
              <a:off x="3324240" y="2190600"/>
              <a:ext cx="409680" cy="39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3324240" y="2190600"/>
              <a:ext cx="407160" cy="393840"/>
            </a:xfrm>
            <a:prstGeom prst="ellipse">
              <a:avLst/>
            </a:prstGeom>
            <a:gradFill rotWithShape="0">
              <a:gsLst>
                <a:gs pos="0">
                  <a:srgbClr val="dddddd">
                    <a:alpha val="55294"/>
                  </a:srgbClr>
                </a:gs>
                <a:gs pos="50000">
                  <a:srgbClr val="656565">
                    <a:alpha val="90196"/>
                  </a:srgbClr>
                </a:gs>
                <a:gs pos="100000">
                  <a:srgbClr val="dddddd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6" name="" descr=""/>
            <p:cNvPicPr/>
            <p:nvPr/>
          </p:nvPicPr>
          <p:blipFill>
            <a:blip r:embed="rId4"/>
            <a:stretch/>
          </p:blipFill>
          <p:spPr>
            <a:xfrm>
              <a:off x="3364200" y="2194920"/>
              <a:ext cx="323640" cy="13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7" name=""/>
          <p:cNvGrpSpPr/>
          <p:nvPr/>
        </p:nvGrpSpPr>
        <p:grpSpPr>
          <a:xfrm>
            <a:off x="5305320" y="2620800"/>
            <a:ext cx="333360" cy="320760"/>
            <a:chOff x="5305320" y="2620800"/>
            <a:chExt cx="333360" cy="320760"/>
          </a:xfrm>
        </p:grpSpPr>
        <p:pic>
          <p:nvPicPr>
            <p:cNvPr id="328" name="" descr=""/>
            <p:cNvPicPr/>
            <p:nvPr/>
          </p:nvPicPr>
          <p:blipFill>
            <a:blip r:embed="rId5"/>
            <a:stretch/>
          </p:blipFill>
          <p:spPr>
            <a:xfrm>
              <a:off x="5305320" y="2620800"/>
              <a:ext cx="333360" cy="31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5305320" y="2620800"/>
              <a:ext cx="330840" cy="320760"/>
            </a:xfrm>
            <a:prstGeom prst="ellipse">
              <a:avLst/>
            </a:prstGeom>
            <a:gradFill rotWithShape="0">
              <a:gsLst>
                <a:gs pos="0">
                  <a:srgbClr val="dddddd">
                    <a:alpha val="55294"/>
                  </a:srgbClr>
                </a:gs>
                <a:gs pos="50000">
                  <a:srgbClr val="656565">
                    <a:alpha val="90196"/>
                  </a:srgbClr>
                </a:gs>
                <a:gs pos="100000">
                  <a:srgbClr val="dddddd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0" name="" descr=""/>
            <p:cNvPicPr/>
            <p:nvPr/>
          </p:nvPicPr>
          <p:blipFill>
            <a:blip r:embed="rId6"/>
            <a:stretch/>
          </p:blipFill>
          <p:spPr>
            <a:xfrm>
              <a:off x="5338800" y="2624040"/>
              <a:ext cx="263160" cy="113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1" name=""/>
          <p:cNvGrpSpPr/>
          <p:nvPr/>
        </p:nvGrpSpPr>
        <p:grpSpPr>
          <a:xfrm>
            <a:off x="6083640" y="3260880"/>
            <a:ext cx="1072800" cy="1049400"/>
            <a:chOff x="6083640" y="3260880"/>
            <a:chExt cx="1072800" cy="1049400"/>
          </a:xfrm>
        </p:grpSpPr>
        <p:pic>
          <p:nvPicPr>
            <p:cNvPr id="332" name="" descr=""/>
            <p:cNvPicPr/>
            <p:nvPr/>
          </p:nvPicPr>
          <p:blipFill>
            <a:blip r:embed="rId7"/>
            <a:stretch/>
          </p:blipFill>
          <p:spPr>
            <a:xfrm rot="692400">
              <a:off x="6163200" y="3343320"/>
              <a:ext cx="914040" cy="8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 rot="692400">
              <a:off x="6162840" y="3342600"/>
              <a:ext cx="907560" cy="885600"/>
            </a:xfrm>
            <a:prstGeom prst="ellipse">
              <a:avLst/>
            </a:prstGeom>
            <a:gradFill rotWithShape="0">
              <a:gsLst>
                <a:gs pos="0">
                  <a:srgbClr val="80cab1">
                    <a:alpha val="79215"/>
                  </a:srgbClr>
                </a:gs>
                <a:gs pos="50000">
                  <a:srgbClr val="3b5d51"/>
                </a:gs>
                <a:gs pos="100000">
                  <a:srgbClr val="80cab1">
                    <a:alpha val="7921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4" name="" descr=""/>
            <p:cNvPicPr/>
            <p:nvPr/>
          </p:nvPicPr>
          <p:blipFill>
            <a:blip r:embed="rId8"/>
            <a:stretch/>
          </p:blipFill>
          <p:spPr>
            <a:xfrm rot="692400">
              <a:off x="6308280" y="3355920"/>
              <a:ext cx="722880" cy="31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5" name=""/>
          <p:cNvGrpSpPr/>
          <p:nvPr/>
        </p:nvGrpSpPr>
        <p:grpSpPr>
          <a:xfrm>
            <a:off x="1762200" y="2278080"/>
            <a:ext cx="983880" cy="952200"/>
            <a:chOff x="1762200" y="2278080"/>
            <a:chExt cx="983880" cy="952200"/>
          </a:xfrm>
        </p:grpSpPr>
        <p:pic>
          <p:nvPicPr>
            <p:cNvPr id="336" name="" descr=""/>
            <p:cNvPicPr/>
            <p:nvPr/>
          </p:nvPicPr>
          <p:blipFill>
            <a:blip r:embed="rId9"/>
            <a:stretch/>
          </p:blipFill>
          <p:spPr>
            <a:xfrm>
              <a:off x="1762200" y="2278080"/>
              <a:ext cx="977040" cy="94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1762200" y="2278080"/>
              <a:ext cx="983880" cy="952200"/>
            </a:xfrm>
            <a:prstGeom prst="ellipse">
              <a:avLst/>
            </a:prstGeom>
            <a:gradFill rotWithShape="0">
              <a:gsLst>
                <a:gs pos="0">
                  <a:srgbClr val="e58790">
                    <a:alpha val="80000"/>
                  </a:srgbClr>
                </a:gs>
                <a:gs pos="50000">
                  <a:srgbClr val="693e42"/>
                </a:gs>
                <a:gs pos="100000">
                  <a:srgbClr val="e5879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8" name="" descr=""/>
            <p:cNvPicPr/>
            <p:nvPr/>
          </p:nvPicPr>
          <p:blipFill>
            <a:blip r:embed="rId10"/>
            <a:stretch/>
          </p:blipFill>
          <p:spPr>
            <a:xfrm>
              <a:off x="1860120" y="2287080"/>
              <a:ext cx="783720" cy="335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9" name=""/>
          <p:cNvGrpSpPr/>
          <p:nvPr/>
        </p:nvGrpSpPr>
        <p:grpSpPr>
          <a:xfrm>
            <a:off x="2147760" y="3551400"/>
            <a:ext cx="660600" cy="631800"/>
            <a:chOff x="2147760" y="3551400"/>
            <a:chExt cx="660600" cy="631800"/>
          </a:xfrm>
        </p:grpSpPr>
        <p:pic>
          <p:nvPicPr>
            <p:cNvPr id="340" name="" descr=""/>
            <p:cNvPicPr/>
            <p:nvPr/>
          </p:nvPicPr>
          <p:blipFill>
            <a:blip r:embed="rId11"/>
            <a:stretch/>
          </p:blipFill>
          <p:spPr>
            <a:xfrm>
              <a:off x="2147760" y="3551400"/>
              <a:ext cx="660600" cy="6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2147760" y="3551400"/>
              <a:ext cx="655560" cy="631800"/>
            </a:xfrm>
            <a:prstGeom prst="ellipse">
              <a:avLst/>
            </a:prstGeom>
            <a:gradFill rotWithShape="0">
              <a:gsLst>
                <a:gs pos="0">
                  <a:srgbClr val="dddddd">
                    <a:alpha val="55294"/>
                  </a:srgbClr>
                </a:gs>
                <a:gs pos="50000">
                  <a:srgbClr val="656565">
                    <a:alpha val="90196"/>
                  </a:srgbClr>
                </a:gs>
                <a:gs pos="100000">
                  <a:srgbClr val="dddddd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2" name="" descr=""/>
            <p:cNvPicPr/>
            <p:nvPr/>
          </p:nvPicPr>
          <p:blipFill>
            <a:blip r:embed="rId12"/>
            <a:stretch/>
          </p:blipFill>
          <p:spPr>
            <a:xfrm>
              <a:off x="2213640" y="3557520"/>
              <a:ext cx="522000" cy="223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3" name=""/>
          <p:cNvGrpSpPr/>
          <p:nvPr/>
        </p:nvGrpSpPr>
        <p:grpSpPr>
          <a:xfrm>
            <a:off x="3427560" y="3911760"/>
            <a:ext cx="1263240" cy="1221840"/>
            <a:chOff x="3427560" y="3911760"/>
            <a:chExt cx="1263240" cy="1221840"/>
          </a:xfrm>
        </p:grpSpPr>
        <p:pic>
          <p:nvPicPr>
            <p:cNvPr id="344" name="" descr=""/>
            <p:cNvPicPr/>
            <p:nvPr/>
          </p:nvPicPr>
          <p:blipFill>
            <a:blip r:embed="rId13"/>
            <a:stretch/>
          </p:blipFill>
          <p:spPr>
            <a:xfrm>
              <a:off x="3427560" y="3911760"/>
              <a:ext cx="1263240" cy="121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3427560" y="3911760"/>
              <a:ext cx="1255320" cy="1221840"/>
            </a:xfrm>
            <a:prstGeom prst="ellipse">
              <a:avLst/>
            </a:prstGeom>
            <a:gradFill rotWithShape="0">
              <a:gsLst>
                <a:gs pos="0">
                  <a:srgbClr val="72afd8">
                    <a:alpha val="80000"/>
                  </a:srgbClr>
                </a:gs>
                <a:gs pos="50000">
                  <a:srgbClr val="446881"/>
                </a:gs>
                <a:gs pos="100000">
                  <a:srgbClr val="72afd8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6" name="" descr=""/>
            <p:cNvPicPr/>
            <p:nvPr/>
          </p:nvPicPr>
          <p:blipFill>
            <a:blip r:embed="rId14"/>
            <a:stretch/>
          </p:blipFill>
          <p:spPr>
            <a:xfrm>
              <a:off x="3552480" y="3923280"/>
              <a:ext cx="999000" cy="43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7" name=""/>
          <p:cNvGrpSpPr/>
          <p:nvPr/>
        </p:nvGrpSpPr>
        <p:grpSpPr>
          <a:xfrm>
            <a:off x="5454720" y="4313160"/>
            <a:ext cx="660240" cy="635040"/>
            <a:chOff x="5454720" y="4313160"/>
            <a:chExt cx="660240" cy="635040"/>
          </a:xfrm>
        </p:grpSpPr>
        <p:pic>
          <p:nvPicPr>
            <p:cNvPr id="348" name="" descr=""/>
            <p:cNvPicPr/>
            <p:nvPr/>
          </p:nvPicPr>
          <p:blipFill>
            <a:blip r:embed="rId15"/>
            <a:stretch/>
          </p:blipFill>
          <p:spPr>
            <a:xfrm>
              <a:off x="5454720" y="4313160"/>
              <a:ext cx="660240" cy="6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5454720" y="4313160"/>
              <a:ext cx="655200" cy="635040"/>
            </a:xfrm>
            <a:prstGeom prst="ellipse">
              <a:avLst/>
            </a:prstGeom>
            <a:gradFill rotWithShape="0">
              <a:gsLst>
                <a:gs pos="0">
                  <a:srgbClr val="dddddd">
                    <a:alpha val="55294"/>
                  </a:srgbClr>
                </a:gs>
                <a:gs pos="50000">
                  <a:srgbClr val="656565">
                    <a:alpha val="90196"/>
                  </a:srgbClr>
                </a:gs>
                <a:gs pos="100000">
                  <a:srgbClr val="dddddd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0" name="" descr=""/>
            <p:cNvPicPr/>
            <p:nvPr/>
          </p:nvPicPr>
          <p:blipFill>
            <a:blip r:embed="rId16"/>
            <a:stretch/>
          </p:blipFill>
          <p:spPr>
            <a:xfrm>
              <a:off x="5520600" y="4319280"/>
              <a:ext cx="521640" cy="224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"/>
          <p:cNvSpPr/>
          <p:nvPr/>
        </p:nvSpPr>
        <p:spPr>
          <a:xfrm rot="692400">
            <a:off x="2028960" y="2503800"/>
            <a:ext cx="4658760" cy="2148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145" y="1416"/>
                </a:moveTo>
                <a:arcTo wR="10800" hR="10800" stAng="-3620089" swAng="1632255"/>
                <a:lnTo>
                  <a:pt x="10800" y="10800"/>
                </a:lnTo>
                <a:close/>
              </a:path>
              <a:path fill="none" w="21600" h="21600">
                <a:moveTo>
                  <a:pt x="16145" y="1416"/>
                </a:moveTo>
                <a:arcTo wR="10800" hR="10800" stAng="-3620089" swAng="1632255"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rot="692400">
            <a:off x="2027880" y="2504880"/>
            <a:ext cx="4657320" cy="2147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87" y="10279"/>
                </a:moveTo>
                <a:arcTo wR="10800" hR="10800" stAng="-165862" swAng="2225620"/>
                <a:lnTo>
                  <a:pt x="10800" y="10800"/>
                </a:lnTo>
                <a:close/>
              </a:path>
              <a:path fill="none" w="21600" h="21600">
                <a:moveTo>
                  <a:pt x="21587" y="10279"/>
                </a:moveTo>
                <a:arcTo wR="10800" hR="10800" stAng="-165862" swAng="2225620"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rot="692400">
            <a:off x="2025000" y="2489400"/>
            <a:ext cx="4665240" cy="2146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863" y="19737"/>
                </a:moveTo>
                <a:arcTo wR="10800" hR="10800" stAng="3350772" swAng="1292840"/>
                <a:lnTo>
                  <a:pt x="10800" y="10800"/>
                </a:lnTo>
                <a:close/>
              </a:path>
              <a:path fill="none" w="21600" h="21600">
                <a:moveTo>
                  <a:pt x="16863" y="19737"/>
                </a:moveTo>
                <a:arcTo wR="10800" hR="10800" stAng="3350772" swAng="1292840"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rot="692400">
            <a:off x="2034720" y="2476080"/>
            <a:ext cx="4662720" cy="214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204" y="20984"/>
                </a:moveTo>
                <a:arcTo wR="10800" hR="10800" stAng="6566969" swAng="1241914"/>
                <a:lnTo>
                  <a:pt x="10800" y="10800"/>
                </a:lnTo>
                <a:close/>
              </a:path>
              <a:path fill="none" w="21600" h="21600">
                <a:moveTo>
                  <a:pt x="7204" y="20984"/>
                </a:moveTo>
                <a:arcTo wR="10800" hR="10800" stAng="6566969" swAng="1241914"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rot="692400">
            <a:off x="1990800" y="2471040"/>
            <a:ext cx="4663080" cy="214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68" y="15686"/>
                </a:moveTo>
                <a:arcTo wR="10800" hR="10800" stAng="9186116" swAng="2000789"/>
                <a:lnTo>
                  <a:pt x="10800" y="10800"/>
                </a:lnTo>
                <a:close/>
              </a:path>
              <a:path fill="none" w="21600" h="21600">
                <a:moveTo>
                  <a:pt x="1168" y="15686"/>
                </a:moveTo>
                <a:arcTo wR="10800" hR="10800" stAng="9186116" swAng="2000789"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rot="692400">
            <a:off x="2000880" y="2468520"/>
            <a:ext cx="4661280" cy="214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22" y="3985"/>
                </a:moveTo>
                <a:arcTo wR="10800" hR="10800" stAng="-8452441" swAng="1099429"/>
                <a:lnTo>
                  <a:pt x="10800" y="10800"/>
                </a:lnTo>
                <a:close/>
              </a:path>
              <a:path fill="none" w="21600" h="21600">
                <a:moveTo>
                  <a:pt x="2422" y="3985"/>
                </a:moveTo>
                <a:arcTo wR="10800" hR="10800" stAng="-8452441" swAng="1099429"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899720" y="25686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640320" y="432756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282720" y="359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086600" y="2712960"/>
            <a:ext cx="1898640" cy="544680"/>
          </a:xfrm>
          <a:noFill/>
          <a:ln w="9360">
            <a:solidFill>
              <a:srgbClr val="80ca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cab1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029200" y="5151600"/>
            <a:ext cx="2371680" cy="544320"/>
          </a:xfrm>
          <a:noFill/>
          <a:ln w="9360">
            <a:solidFill>
              <a:srgbClr val="72af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2afd8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52280" y="1809720"/>
            <a:ext cx="1791000" cy="544680"/>
          </a:xfrm>
          <a:noFill/>
          <a:ln w="9360">
            <a:solidFill>
              <a:srgbClr val="e587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879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759040" y="3246480"/>
            <a:ext cx="30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单击此处添加标题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35108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配色方案修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配色方案在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格式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设计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配色方案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编辑配色方案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调整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添加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修改在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视图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母版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母版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调整。直接选择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删除或修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字体格式的设置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默认设置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首页主标题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40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号（中文黑体英文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rial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加粗加阴影；副标题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8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号（中文黑体英文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rial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加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页标题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8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号（中文黑体英文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rial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加粗加阴影；内页内容文字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2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号（宋体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897560" y="632448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36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03:26:50Z</dcterms:created>
  <dc:creator>Rhea</dc:creator>
  <dc:description>www.nordridesign.cn</dc:description>
  <cp:keywords>www.nordridesign.cn</cp:keywords>
  <dc:language>en-US</dc:language>
  <cp:lastModifiedBy>微软用户</cp:lastModifiedBy>
  <dcterms:modified xsi:type="dcterms:W3CDTF">2014-11-09T01:16:20Z</dcterms:modified>
  <cp:revision>6</cp:revision>
  <dc:subject>Powerbar模板組</dc:subject>
  <dc:title>古典花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