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8F2C-B9DF-4CE2-A2DC-505F3A44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A8F62-BBB7-4555-AC34-8637A0A1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79E81-A240-466E-89E5-E29AA77E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E1A9A-A55C-4BBC-A982-C59B7291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78912-534C-402C-A06B-38BD73D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5BBA6-7080-4369-A32B-65577E94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2180-1EB4-44C9-9B45-E5B3FB9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0B97D-566A-4122-983C-48B7F8CC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3D94-6606-4B82-9CCD-673B995E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47ACC-06C6-4C10-8A70-FBF4F205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D9FA1-96B1-4760-8A4D-74226AF3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3DB30-0032-43C4-99FA-420A1778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BF172-70D4-4485-A13E-95F0155D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E82D0-EF90-4822-AF7E-C3348631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2F45E-1913-4AD2-BBB7-29612491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0055D-E107-4D37-83F7-59606DD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956F9-CDF5-4E5F-A2E2-3104608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56ED8-9695-4C80-BC35-2DF82C7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90989-2BD5-4EF3-B52E-D2E453B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32211-5732-4540-8891-2DC0BA28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5531-1F9F-4537-87A9-5CEB9749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A829E-F44B-4CB6-91A1-2255A67D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4B043-0CC8-48CC-8837-5802B75E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69DE6-F574-419C-B715-C4F4C2B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BE2C6-8405-4849-8D60-B067BD6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BEF40-0FE3-449A-929D-4247123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4BE2-C4EC-442F-B325-7E5B74A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B025D-8DCA-4E87-8E05-9217F49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75D47-760A-433D-A3A4-A665903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F3321-0124-40A3-9C5A-0DFCBDD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2C7-F758-4609-A6E0-85CEE1DF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DF682-EBAE-4784-93F8-AF8C09C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E3E3B-8401-46CE-9EDB-AB0C6737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B13C9-7255-4BB0-A812-73479229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31382-1E71-4F98-A954-49A586FD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03E76-3972-4D44-85B3-1334EF53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B327C-EC66-44FE-9A64-5C6B5E8B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0E2E-2DDF-4EE0-B7B3-217A8281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D611C-B64F-4C06-9E0C-C8A3FF7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D74B4-E4C7-46F2-A997-75D829AA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46662-4497-47E3-801B-B7E1AEE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817-5F2D-4CFC-8345-0C9FF3EE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5B883-94B7-4C90-9EB1-F7F7940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89F3E-B4B5-4EFA-AAC3-AEB8CE6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34D4-AF65-4F1F-BD5E-E8CC27F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AB8C6-63CC-45EE-A81A-5F965AB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F2C73-0542-4972-BC0E-E572318C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02BCD-C3C6-4082-86A9-53E81EFA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94EC9-3B1B-48C3-AB77-A53EA520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C4517-4ADC-484F-B976-8AB453F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2C8E-B2A8-4CA9-A4EF-0C6E076C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344A6-AFDB-4F19-B1E0-781FBA1C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DF8-BD81-4533-8B35-60277FE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C1118-C1A2-441A-BB16-F83561E1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07B92-9439-4173-AAB5-EE1AD36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4C396-CCDE-4A4D-A181-DFF4133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2D3C4-49F5-4D84-8CD8-75590C0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BFE60-8853-4726-86F4-7313F45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5E0C-2175-46E4-BFB3-C5F3F45E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93875-8601-4B5C-96B2-EAE8390B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9DC-4DEC-4605-A216-FEBA149C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77D-9050-43D0-85FD-9A76335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935-B329-420F-A789-A7201F6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CBE-1A7E-41B0-9394-123546C2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201-6053-471C-B472-AAFED48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55C-EAE6-4BEA-A88D-7C43EF8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905-027F-417E-A05D-695CCC77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140-4989-4B1A-B24B-96E982E9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A1B-C200-42FC-B939-DD24BF4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C44-A731-428D-83E0-1F3D9CC8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A94-B18B-4E75-85DB-8FAD3CF5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D10B-3669-4DE3-99DF-12B6832A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8CB-5C0B-4200-B3D5-DB9DEED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6376-D629-476C-A0A1-81EB5FF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6523-2245-49B3-A7DA-5647154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CE93-81FF-4280-A2F8-08B006B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0262-9CAB-45E1-B591-5864753A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63B-97EF-4C1F-AEF3-882C5BF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F0A2-949E-4E57-9F41-B9BEA287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5299-447B-4144-AF1D-D864F0DF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5313-5BD1-4935-BD6E-95A0935F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0D9A-0807-42DF-BD4B-DAAE99CB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DEDE-BA70-4E14-AEF2-BEE2CA07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E40C-B948-454B-A1D6-1420E4D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3A5A-20FF-4481-883C-C9C35AA5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DB5E-7F78-4C28-AA73-121D276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1F98-A2D8-4F44-8C75-B5CBB7E9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57C0-8E3A-4CFC-92BE-945A334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1F32-5B67-495C-A63C-7640E82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6F5D-DD12-4DBD-9180-13EEAFB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F845-9EEF-41C2-9EA3-8ABFD0E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AE1E-1E9B-4230-AF67-94282B09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3EC9-7CEF-40BB-9B13-7E6976A2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573D-CD07-437C-982D-C6E480AA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9DB8-12A5-488A-BBB3-E9E1CB14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05D0-1289-4C50-B2DE-3138B45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207A-4408-4A9C-AEBA-18A7CC23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39FD-03D6-40E1-A184-E234D0D5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989F-5B01-4221-A207-DC36731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F031-03E2-477E-996F-F831D75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CF5A-8FC1-486B-82B1-FF1DD46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09A7-6732-45F3-BDD9-21AA20CB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0385-22BC-4727-A5F7-A7DA7DC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8BBE-EF55-4DC2-81BD-B3F12A4C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1890-3070-4114-B426-B3BD63C6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7DD0-7732-4DA5-B487-6432258D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3E19-A533-4462-9953-955D0B4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330EE-E90F-4EDB-932A-70CBA44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07B88-49B5-4B1C-B0B9-AEA1E99E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F59A-3580-4730-BA1A-CA1EC65C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381A-53ED-4A0A-81A3-E401729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B3E20-B599-487C-9DDD-B844BE9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D425-49D9-479F-AFC7-3160AC5D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A5E2-A035-4432-83E2-F3858036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671D-B1CB-42AE-A50F-35AE6E2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51428-FDD3-4708-802E-56C29D82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67FB-278E-4BF4-A1D5-90FAE156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1C604-0C84-4191-A8AE-970A2B9C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6BCD-D1A8-4E28-9F50-DE82240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57E88-7B6D-40B0-A8AE-A432C06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239D0-8C2F-46B7-89F9-9BD4E102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C609-ACC3-4916-9918-42E0830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D2EB-C9C4-45AE-B410-474CFF98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D7437-18F8-4DF3-A85B-7D4DEFA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438C-1329-482B-85D0-C6BAB27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0425-2EAE-4847-9824-1A37880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C376-F0B9-4FF9-A88E-B73533E5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0979D-357D-4A7C-810F-A113F1EE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C7422-8F9F-45A8-9E0D-9514BE22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5056-995B-429F-A731-04D73D08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64E8-B58C-42A0-B230-391F9C53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3433-3B06-4810-A95A-2CB9F2A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AEF6-98E6-4BDF-9580-1B2A4AD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50CB8-0EA0-4342-B0A0-297D6505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88CB0-CC40-43CB-AFC0-09B14A3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EAA1-837B-4B64-9BC6-91B3A31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03FA-8FB0-4F03-9DC7-408DC28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24C7-874B-4B94-B167-58CDCBB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2E3D-AFD4-429F-8FA6-A2BE63CD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9611-8A8A-4FE9-9754-AA832CD5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CCE8-5070-4CD2-B21A-909A0811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5A87-BC66-450F-A36C-2E6B6032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DBDD-D2F7-4F0A-A1B4-C98AE212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97CD7-DE62-4BD5-80DB-529D38D3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B7E-976E-494F-9A26-3656911954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EFF3-41D9-41C9-8A87-2AA69A4B3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CBB-058F-442B-A756-8B7C23C226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E2F-614F-4299-AB09-37D74AC72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5EF0-4A79-45C5-9568-F244BA9C72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94C3-C948-4EFA-B1B0-84BCA143E4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1D0D-ECC2-42CB-852D-E1974429A7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7160-1936-43A0-B4EF-E0D3BB8E5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8F95-4A3F-4895-BB4B-CD1671D1A7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912-DC39-4CC0-A613-780263A9E8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3C4-EEC5-4F69-8628-7BC15CF460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2BBE-BCE9-423F-9D49-0C19C0991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0A95-0FBC-4BAF-B637-E8A2F5DF0A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007F-EB18-49A8-8CB5-960E9632A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B24-8369-4DCB-8FA6-E0A1850B1A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B667-9F2D-4AD4-8F5D-050F17CD3C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7B6-DF9D-4745-B969-87EF8501BD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17E8-1E00-4ECC-8521-134F6D386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59DF-03EC-4003-99CC-CB8CA86CB5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25D-F711-4B4F-805B-90874E3A5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04B-C95A-4610-BE07-34A9DAFAE9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D713-26B4-499E-86F1-FDC8184C7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8A38-F290-4479-A78E-8A1B604447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FBD-CB0D-4CB1-BA6A-FE9C40CC97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2960" y="207144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高层会议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69296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00080" y="1500120"/>
            <a:ext cx="72151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42600" y="2071440"/>
            <a:ext cx="59864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38:00Z</dcterms:created>
  <dc:creator/>
  <dc:description/>
  <dc:language>en-US</dc:language>
  <cp:lastModifiedBy/>
  <dcterms:modified xsi:type="dcterms:W3CDTF">2014-12-10T15:03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