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png" ContentType="image/png"/>
  <Override PartName="/ppt/media/image17.png" ContentType="image/pn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gif" ContentType="image/gif"/>
  <Override PartName="/ppt/media/image14.png" ContentType="image/png"/>
  <Override PartName="/ppt/media/image5.gif" ContentType="image/gif"/>
  <Override PartName="/ppt/media/image9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8E6-CE27-484B-9101-40A21658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BAE-6B5E-4752-873F-E24E7997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50F-4191-4897-9A57-A6AC4AC7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629D-6B05-4E1C-9CB7-B35337E2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9FB-B74E-492F-AF61-CA669E73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652C-6B1C-44E3-9A87-109D8F8F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909B-9018-4D78-B0AC-ECD54957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C4A-0136-4DDA-B7D6-0E69424F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FC44-4B29-4844-BB74-0F850BA7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AD0A-3BE4-4C5E-9B65-DF427453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F34-2274-41DF-B1B5-C21BB4CF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AA2-F373-4E40-9B97-6DD4F29C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72EC-8429-46AC-8742-994CE5157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5.gi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gif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gi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3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739800" cy="977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1836600">
            <a:off x="5364000" y="836280"/>
            <a:ext cx="695520" cy="480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93576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81503E-006 C -0.04462 0.04786 -0.08906 0.09572 -0.0691 0.13803 C -0.04913 0.18035 0.11094 0.21572 0.11997 0.25433 C 0.12899 0.29295 -0.03055 0.3341 -0.01458 0.3704 C 0.00139 0.4067 0.24306 0.44462 0.21632 0.47214 C 0.18958 0.49965 -0.14219 0.50613 -0.17465 0.53503 C -0.20712 0.5637 0.00903 0.6 0.0217 0.64393 C 0.03438 0.68809 -0.0783 0.77318 -0.09826 0.79907 E">
                                      <p:cBhvr>
                                        <p:cTn id="6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45087E-006 C 0.04687 0.04116 0.09392 0.08231 0.09444 0.11861 C 0.09496 0.15491 0.0118 0.19769 0.00364 0.2178 C -0.00452 0.23792 0.07309 0.21942 0.04548 0.23954 C 0.01788 0.25965 -0.1658 0.29988 -0.16181 0.33896 C -0.15781 0.37803 0.04826 0.43746 0.06909 0.47445 C 0.08993 0.51144 -0.0283 0.52971 -0.03646 0.56162 C -0.04462 0.59353 0.03837 0.62751 0.01996 0.6659 C 0.00156 0.70428 -0.13993 0.76023 -0.14722 0.79168 C -0.15452 0.82312 -0.04427 0.84416 -0.02361 0.85457 E">
                                      <p:cBhvr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1836600">
            <a:off x="7812000" y="5373360"/>
            <a:ext cx="695520" cy="480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093080" y="5300640"/>
            <a:ext cx="739800" cy="97776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971640" y="1773360"/>
            <a:ext cx="7416720" cy="520560"/>
            <a:chOff x="971640" y="1773360"/>
            <a:chExt cx="7416720" cy="520560"/>
          </a:xfrm>
        </p:grpSpPr>
        <p:sp>
          <p:nvSpPr>
            <p:cNvPr id="134" name=""/>
            <p:cNvSpPr/>
            <p:nvPr/>
          </p:nvSpPr>
          <p:spPr>
            <a:xfrm>
              <a:off x="1548000" y="1773360"/>
              <a:ext cx="68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作者用心中之秋写笔下之秋。从五个方面刻划故都的秋的景象，景象无不留有作者心的痕迹：北国院内赏秋景、北国槐下知秋物、北国蝉底听秋声、北国雨后感秋意、北国秋清话秋果。至于传统的文章里明秋情的内容，是联想的展开，不在景物描写之内容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971640" y="1917720"/>
              <a:ext cx="287280" cy="28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484360" cy="1787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072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71640" y="115920"/>
            <a:ext cx="739800" cy="977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 rot="1836600">
            <a:off x="250920" y="692280"/>
            <a:ext cx="695160" cy="48096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971640" y="1268280"/>
            <a:ext cx="7345440" cy="520560"/>
            <a:chOff x="971640" y="1268280"/>
            <a:chExt cx="7345440" cy="520560"/>
          </a:xfrm>
        </p:grpSpPr>
        <p:sp>
          <p:nvSpPr>
            <p:cNvPr id="142" name=""/>
            <p:cNvSpPr/>
            <p:nvPr/>
          </p:nvSpPr>
          <p:spPr>
            <a:xfrm>
              <a:off x="1476360" y="1268280"/>
              <a:ext cx="684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2205"/>
                  </a:solidFill>
                  <a:latin typeface="Arial"/>
                  <a:ea typeface="楷体_GB2312"/>
                </a:rPr>
                <a:t>不用浓墨重彩，一篇《故都的秋》满写着赞美、眷念的韵味的和幽远、落寞的情怀。故都的秋早已都被作者涂抹了一层清、静、悲凉的色彩。郁达夫笔下的故都的秋究竟在哪里呢？在秋院的破壁腰，在秋槐的落蕊旁，在秋蝉的残鸣中，在秋雨滑落下，在秋果的成熟里，也在那故都闲人充满了京腔京韵的互答时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4"/>
            <a:stretch/>
          </p:blipFill>
          <p:spPr>
            <a:xfrm>
              <a:off x="971640" y="1339560"/>
              <a:ext cx="287280" cy="28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661000" y="4724280"/>
            <a:ext cx="3483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71640" y="115920"/>
            <a:ext cx="739800" cy="977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 rot="1836600">
            <a:off x="250920" y="692280"/>
            <a:ext cx="695160" cy="48096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684360" y="1125360"/>
            <a:ext cx="7667640" cy="947160"/>
            <a:chOff x="684360" y="1125360"/>
            <a:chExt cx="7667640" cy="947160"/>
          </a:xfrm>
        </p:grpSpPr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684360" y="126972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187640" y="1125360"/>
              <a:ext cx="7164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2205"/>
                  </a:solidFill>
                  <a:latin typeface="Arial"/>
                  <a:ea typeface="楷体_GB2312"/>
                </a:rPr>
                <a:t>在现实的人生里，作家的内心被过早地投下了忧郁、落寞的阴影。正因为这样，他笔下的秋境、秋味儿，被鲜明地笼上了一层郁达夫式的主观色彩。但故都的秋又并没有因为作家的情感体验而受到扭曲，以致失却了它固有的特征。在物我之间完美的交融里，那院落的牵牛、槐树的落蕊，秋蝉的鸣叫，还有那秋风秋雨等等，是多么清晰而逼真地将再现了故都之秋的韵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724360" y="4594320"/>
            <a:ext cx="31957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4248360" cy="4164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36560" y="72216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9280" y="11592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课外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80200" y="2606760"/>
            <a:ext cx="155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枯藤老树昏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小桥流水人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古道西风瘦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夕阳西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断肠人在天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08200" y="2476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-509760"/>
            <a:ext cx="1843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 rot="2125200">
            <a:off x="8070840" y="5803920"/>
            <a:ext cx="977760" cy="882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 rot="1836600">
            <a:off x="7567560" y="6227280"/>
            <a:ext cx="695520" cy="480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788000" y="798480"/>
            <a:ext cx="1136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990000"/>
                </a:solidFill>
                <a:latin typeface="华文新魏"/>
                <a:ea typeface="华文新魏"/>
              </a:rPr>
              <a:t>请将课文中的情境仿写成一首小令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206208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净沙   秋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　　     　马致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9560" y="609300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6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1680" y="579600"/>
            <a:ext cx="735120" cy="977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920" y="11592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d65f0e"/>
                </a:solidFill>
                <a:latin typeface="Arial"/>
                <a:ea typeface="华文行楷"/>
              </a:rPr>
              <a:t>故都的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40328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299736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课文朗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378936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质疑问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2205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有关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4572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思考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5364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课外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a31b">
              <a:alpha val="3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感秋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a31b">
              <a:alpha val="3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听秋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a31b">
              <a:alpha val="3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赏秋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a31b">
              <a:alpha val="3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品秋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51280" y="1365120"/>
            <a:ext cx="4824360" cy="4656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 rot="1158600">
            <a:off x="8172360" y="692280"/>
            <a:ext cx="739800" cy="977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 rot="1836600">
            <a:off x="0" y="6165720"/>
            <a:ext cx="695160" cy="4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0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2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4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6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-6.93889E-018 C -0.05833 0.05185 -0.11667 0.10371 -0.11424 0.14051 C -0.11181 0.17732 0.03351 0.17593 0.01424 0.22153 C -0.00503 0.2669 -0.22778 0.35278 -0.23038 0.41435 C -0.23299 0.47593 -0.0375 0.52894 -0.00174 0.59051 C 0.03403 0.65209 -0.01372 0.75116 -0.01615 0.78334 E">
                                      <p:cBhvr>
                                        <p:cTn id="38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77778E-006 -1.11111E-006 C 0.06007 -0.04769 0.12031 -0.09514 0.17864 -0.10463 C 0.23698 -0.11412 0.29236 -0.05648 0.35 -0.05695 C 0.40764 -0.05741 0.5026 -0.11852 0.525 -0.10695 C 0.54739 -0.09537 0.45156 0.00301 0.48403 0.01204 C 0.51649 0.02106 0.6658 -0.05023 0.71962 -0.05232 C 0.77344 -0.0544 0.79253 -0.0088 0.80712 -1.11111E-006 E">
                                      <p:cBhvr>
                                        <p:cTn id="40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5.83333E-006 -2.96296E-006 C 0.05885 0.04606 0.11788 0.09213 0.12326 0.13333 C 0.12864 0.17454 0.01857 0.19815 0.03229 0.24769 C 0.046 0.29722 0.20277 0.38704 0.20538 0.43102 C 0.20798 0.475 0.05624 0.46181 0.04826 0.51181 C 0.04027 0.56181 0.16267 0.69144 0.15729 0.73102 C 0.1519 0.7706 0.04183 0.74676 0.01614 0.75 C -0.00955 0.75324 -0.00296 0.75162 0.00364 0.75 E">
                                      <p:cBhvr>
                                        <p:cTn id="42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000"/>
                            </p:stCondLst>
                            <p:childTnLst>
                              <p:par>
                                <p:cTn id="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000"/>
                            </p:stCondLst>
                            <p:childTnLst>
                              <p:par>
                                <p:cTn id="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26028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感秋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闻秋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赏秋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品秋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24000" y="1773360"/>
            <a:ext cx="8208360" cy="581400"/>
            <a:chOff x="324000" y="1773360"/>
            <a:chExt cx="8208360" cy="58140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324000" y="1917720"/>
              <a:ext cx="4042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826920" y="1773360"/>
              <a:ext cx="770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6600"/>
                  </a:solidFill>
                  <a:latin typeface="Arial"/>
                  <a:ea typeface="楷体_GB2312"/>
                </a:rPr>
                <a:t>梳理文脉，感受散文缘情；写景，意味隽永的韵致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24000" y="2924280"/>
            <a:ext cx="8207280" cy="581400"/>
            <a:chOff x="324000" y="2924280"/>
            <a:chExt cx="8207280" cy="581400"/>
          </a:xfrm>
        </p:grpSpPr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324000" y="2997360"/>
              <a:ext cx="404640" cy="4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27280" y="2924280"/>
              <a:ext cx="770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6600"/>
                  </a:solidFill>
                  <a:latin typeface="Arial"/>
                  <a:ea typeface="楷体_GB2312"/>
                </a:rPr>
                <a:t>揣摩语言，体会作者因景；寄伤，色彩冷清的情感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3"/>
          <a:srcRect l="0" t="6721" r="0" b="0"/>
          <a:stretch/>
        </p:blipFill>
        <p:spPr>
          <a:xfrm>
            <a:off x="3132000" y="3860640"/>
            <a:ext cx="6012000" cy="299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8172360" y="1557360"/>
            <a:ext cx="660600" cy="673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 rot="19083000">
            <a:off x="7524360" y="1412640"/>
            <a:ext cx="7668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66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68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70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64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72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C -0.07604 0.01713 -0.15208 0.03449 -0.19201 0.07523 C -0.23212 0.11574 -0.19965 0.20046 -0.24062 0.24444 C -0.28125 0.28819 -0.38264 0.33403 -0.4375 0.33842 C -0.49236 0.34259 -0.51667 0.2456 -0.56927 0.27014 C -0.62187 0.29467 -0.72222 0.45023 -0.75278 0.48634 E">
                                      <p:cBhvr>
                                        <p:cTn id="210" dur="5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C -0.00434 0.04537 -0.00851 0.09074 -0.00851 0.13102 C -0.00851 0.1713 0.00746 0.20972 1.38889E-006 0.2412 C -0.00747 0.27268 -0.00921 0.32592 -0.05348 0.31944 C -0.09775 0.31296 -0.19879 0.1875 -0.26563 0.20231 C -0.33212 0.21713 -0.37223 0.36342 -0.45348 0.40903 C -0.53473 0.45463 -0.70348 0.46458 -0.75348 0.47569 E">
                                      <p:cBhvr>
                                        <p:cTn id="212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2411280" cy="3500280"/>
          </a:xfrm>
          <a:prstGeom prst="rect">
            <a:avLst/>
          </a:prstGeom>
          <a:ln w="9360">
            <a:solidFill>
              <a:srgbClr val="d16013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059280" y="549360"/>
            <a:ext cx="54734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郁达夫（</a:t>
            </a:r>
            <a:r>
              <a:rPr b="1" lang="en-US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896-1945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）原名郁文，现代作家。浙江富阳人，生于书香家庭，</a:t>
            </a:r>
            <a:r>
              <a:rPr b="1" lang="en-US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岁丧父。</a:t>
            </a:r>
            <a:r>
              <a:rPr b="1" lang="en-US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913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年留学日本。</a:t>
            </a:r>
            <a:r>
              <a:rPr b="1" lang="en-US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921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年与郭沫若等成立“创造社”。</a:t>
            </a:r>
            <a:r>
              <a:rPr b="1" lang="en-US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928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年加入太阳社，同年发起成立中国左翼作家联盟。主要作品有《沉沦》《春风沉醉的晚上》《薄奠》等，在不同程度上，揭露社会罪恶，表露内心苦闷，意义积极，或有颓丧情绪。其作品情景交触，文笔优美，自成一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rot="1836600">
            <a:off x="2195640" y="530064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739800" cy="977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40464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244000" y="6021360"/>
            <a:ext cx="660240" cy="673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 rot="19083000">
            <a:off x="7884720" y="5444640"/>
            <a:ext cx="766800" cy="863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288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372360" y="1844640"/>
            <a:ext cx="244764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156360" y="1413000"/>
            <a:ext cx="793800" cy="1049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516720" y="620640"/>
            <a:ext cx="2087640" cy="642600"/>
          </a:xfrm>
          <a:prstGeom prst="rect">
            <a:avLst/>
          </a:prstGeom>
          <a:solidFill>
            <a:srgbClr val="8a7846">
              <a:alpha val="38000"/>
            </a:srgbClr>
          </a:solidFill>
          <a:ln w="9360">
            <a:solidFill>
              <a:srgbClr val="f48826"/>
            </a:solidFill>
            <a:miter/>
          </a:ln>
          <a:effectLst>
            <a:outerShdw dist="107932" dir="2700000" blurRad="0" rotWithShape="0">
              <a:srgbClr val="f4882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背景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620640"/>
            <a:ext cx="5005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从</a:t>
            </a:r>
            <a:r>
              <a:rPr b="1" lang="en-US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1921</a:t>
            </a:r>
            <a:r>
              <a:rPr b="1" lang="zh-CN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年到</a:t>
            </a:r>
            <a:r>
              <a:rPr b="1" lang="en-US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1933</a:t>
            </a:r>
            <a:r>
              <a:rPr b="1" lang="zh-CN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年，郁达夫以极大热情参加左联活动进行文学创作。由于国民党白色恐怖等因，郁达夫从</a:t>
            </a:r>
            <a:r>
              <a:rPr b="1" lang="en-US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1933</a:t>
            </a:r>
            <a:r>
              <a:rPr b="1" lang="zh-CN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月由上海迁居杭州，闲居独处，在游历山水中排遣现实带给他的苦闷。作者提倡静的文学，写的多是“静如止水似的遁世文学”。</a:t>
            </a:r>
            <a:r>
              <a:rPr b="1" lang="en-US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1934</a:t>
            </a:r>
            <a:r>
              <a:rPr b="1" lang="zh-CN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月，郁达夫不远千里辗转从杭州经青岛去北平，再品故都秋“味”，写下散文《故都的秋》。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20065200">
            <a:off x="8388360" y="5157720"/>
            <a:ext cx="5446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9280" y="11592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课文朗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1836600">
            <a:off x="7596360" y="6165720"/>
            <a:ext cx="695160" cy="481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 rot="1158600">
            <a:off x="8243640" y="580536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感秋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闻秋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赏秋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品秋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16436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 rot="20065200">
            <a:off x="6732360" y="5373360"/>
            <a:ext cx="979200" cy="1293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 rot="1836600">
            <a:off x="1258920" y="184464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 rot="20065200">
            <a:off x="394920" y="1196640"/>
            <a:ext cx="979560" cy="1293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2843280" y="1413000"/>
            <a:ext cx="5715000" cy="4047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9640" y="2340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赏秋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3132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听秋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92436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感秋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471636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品秋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293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295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64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297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299" dur="5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8000"/>
                            </p:stCondLst>
                            <p:childTnLst>
                              <p:par>
                                <p:cTn id="3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rot="1836600">
            <a:off x="179280" y="1052280"/>
            <a:ext cx="695520" cy="480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36560" y="722160"/>
            <a:ext cx="739800" cy="978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1114" t="8823" r="0" b="10282"/>
          <a:stretch/>
        </p:blipFill>
        <p:spPr>
          <a:xfrm>
            <a:off x="1692360" y="1268280"/>
            <a:ext cx="6337080" cy="396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179280" y="11592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质疑问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 rot="2125200">
            <a:off x="7812000" y="5975280"/>
            <a:ext cx="978120" cy="882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感秋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闻秋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赏秋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品秋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 rot="20065200">
            <a:off x="8440200" y="5589720"/>
            <a:ext cx="739800" cy="97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042920" y="54450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  <a:ea typeface="楷体_GB2312"/>
              </a:rPr>
              <a:t>通过预习，你有什么发现？有什么疑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0084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89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91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path" presetID="64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93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4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95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 rot="697200">
            <a:off x="7740360" y="20606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 rot="1836600">
            <a:off x="971640" y="321300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95280" y="2924280"/>
            <a:ext cx="739800" cy="977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9280" y="18576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思考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00000" y="1916280"/>
            <a:ext cx="655164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故都的秋的总印象</a:t>
            </a:r>
            <a:endParaRPr b="0" lang="en-US" sz="1800" spc="-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4076640"/>
            <a:ext cx="80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2205"/>
                </a:solidFill>
                <a:latin typeface="Arial"/>
                <a:ea typeface="楷体_GB2312"/>
              </a:rPr>
              <a:t>总印象从开篇的文眼里来：可是啊，北国的秋，却特别地来得清，来得静，来得悲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59259E-006 C 0.0441 0.00718 0.08837 0.01459 0.14636 0.0095 C 0.20434 0.0044 0.28455 -0.01921 0.34827 -0.03078 C 0.41198 -0.04236 0.46146 -0.06574 0.52847 -0.05949 C 0.59549 -0.05324 0.71302 -0.00393 0.75 0.00718 E">
                                      <p:cBhvr>
                                        <p:cTn id="43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0394 C 0.03924 -0.0845 0.07865 -0.16505 0.1276 -0.1963 C 0.17674 -0.22755 0.23281 -0.18403 0.29358 -0.19167 C 0.35451 -0.19954 0.43715 -0.23334 0.49271 -0.24329 C 0.54809 -0.25301 0.58681 -0.25463 0.62708 -0.25024 C 0.66736 -0.24607 0.73073 -0.26389 0.7349 -0.2176 C 0.73924 -0.17107 0.65156 -0.01806 0.65208 0.02893 C 0.6526 0.07592 0.72379 0.0581 0.7382 0.06388 E">
                                      <p:cBhvr>
                                        <p:cTn id="436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739800" cy="97776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971640" y="1268280"/>
            <a:ext cx="7343640" cy="520560"/>
            <a:chOff x="971640" y="1268280"/>
            <a:chExt cx="7343640" cy="520560"/>
          </a:xfrm>
        </p:grpSpPr>
        <p:sp>
          <p:nvSpPr>
            <p:cNvPr id="125" name=""/>
            <p:cNvSpPr/>
            <p:nvPr/>
          </p:nvSpPr>
          <p:spPr>
            <a:xfrm>
              <a:off x="1403280" y="1268280"/>
              <a:ext cx="691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情感的统摄嵌于文中和末了宕开一笔的联想：又觉得清闲，潜意识下并且还觉得有点儿落寞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971640" y="1412640"/>
              <a:ext cx="28728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971640" y="3068640"/>
            <a:ext cx="7343640" cy="520560"/>
            <a:chOff x="971640" y="3068640"/>
            <a:chExt cx="7343640" cy="520560"/>
          </a:xfrm>
        </p:grpSpPr>
        <p:pic>
          <p:nvPicPr>
            <p:cNvPr id="128" name="" descr=""/>
            <p:cNvPicPr/>
            <p:nvPr/>
          </p:nvPicPr>
          <p:blipFill>
            <a:blip r:embed="rId4"/>
            <a:stretch/>
          </p:blipFill>
          <p:spPr>
            <a:xfrm>
              <a:off x="971640" y="321300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403280" y="3068640"/>
              <a:ext cx="691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2205"/>
                  </a:solidFill>
                  <a:latin typeface="Arial"/>
                  <a:ea typeface="楷体_GB2312"/>
                </a:rPr>
                <a:t>对于秋，总是一样的能特别引起深沉，幽远，严厉，萧索的感触来的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659640" y="4508640"/>
            <a:ext cx="2017800" cy="17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15:29:42Z</dcterms:created>
  <dc:creator/>
  <dc:description/>
  <dc:language>en-US</dc:language>
  <cp:lastModifiedBy>gouweihua</cp:lastModifiedBy>
  <cp:lastPrinted>1899-12-30T00:00:00Z</cp:lastPrinted>
  <dcterms:modified xsi:type="dcterms:W3CDTF">2014-05-14T07:45:52Z</dcterms:modified>
  <cp:revision>7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