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952-389A-4AA5-AF96-1FBA8820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3B3-E3F0-496F-83C8-2B5FFFB9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C57-E72D-4D5B-AA2E-42A64508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BA9-6D09-45B2-B449-00373D84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801E-8F38-4F3B-9D81-C4EA88EF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0EF5-367F-4628-A468-35AD9AFE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B348-5901-472A-99FA-2432DC6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1656-FEB3-43BB-82F7-D1F46D62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1FDF-F03F-49A2-ADE2-2DC3CFFB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48AA-F51D-48B3-87DC-7285451F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0A65-A701-40C2-874C-A1A9C02C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15C-2E49-4284-9D86-608FA7CC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84E8-38FE-4887-9F8E-F6DC743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D13C-3548-4B84-B8E9-187B832F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CE64-2C54-417A-A952-67D8FD93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F2E7-DD2F-4962-899D-513E18E3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20F7-5E46-4489-9705-C3B0128C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15EA-D903-4D00-943A-B03ED174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9919-ADCD-4598-8DD0-EC64A371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0E4B-E2CF-4ACF-8BD5-CEAF47E4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3D13-0150-4B4D-812E-843A0D2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D2EC-2C00-4775-B1BE-05D5E7F9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128-416C-4290-942C-5651568B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2175-F25F-41FB-9A09-E70DD2CE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FA4B-8A2B-4211-AE74-C015558B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A062-88F6-45BB-8DDC-603312DE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42A8-7302-4AE9-B2F3-46AFED71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53B1-7394-4EF1-9289-97EF0B36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22F08-8F8B-487D-8380-4F7DEA54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3F82-54F0-404E-A9E4-45FD3CA1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69F-A33A-442B-A1E1-949E5622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593-13F8-4022-8DBB-8DC9B5CD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D0D-5909-4799-AF5C-084842B2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493-922F-45E2-BFF8-F0C12586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35A-6191-48FD-BBC9-ACAD87A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EF3-8550-4DC6-9474-40DB723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38B3-EFC7-47D0-AED1-8DED028695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F5DF-3775-4815-80D7-941498D009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C04C-F39A-491E-94F6-9B443163DFB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DF44-4902-41C4-BE68-9733658944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70102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感恩节快乐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PPT</a:t>
            </a:r>
            <a:r>
              <a:rPr b="1" i="1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模板</a:t>
            </a:r>
            <a:endParaRPr b="1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ffcc"/>
              </a:solidFill>
              <a:latin typeface="Times New Roman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7c80"/>
              </a:solidFill>
              <a:latin typeface="Times New Roman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dc:language>en-US</dc:language>
  <cp:lastModifiedBy>a</cp:lastModifiedBy>
  <dcterms:modified xsi:type="dcterms:W3CDTF">2014-12-10T15:04:13Z</dcterms:modified>
  <cp:revision>11</cp:revision>
  <dc:subject/>
  <dc:title>Thankful Turk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