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D4D-69ED-4E46-B09E-5389A0DD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73F-D208-45CB-A9B5-23CF9E1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75B-B223-4B4A-AC81-BC1BC575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CAB-0E90-4BA8-93D9-3B1AE065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FC71-8F6F-4FAB-A325-CC4D7EC2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0A9-EB4E-4495-9360-186120A9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470-6B39-4577-9C93-6C520B7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50E2-19F8-444D-BABB-1AD18A3A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BA4-E266-4AD0-8EBF-8F07830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D57-FC35-4392-93B7-EBDD9E2B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078A-5F98-4702-B000-2DA4AEA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73D-9F6D-4C8E-8712-4C6E8252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37FF-F5D0-40F9-8747-1852B8C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5A16-FBFB-4A61-B8C0-F200896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B69-1242-486D-852B-F070FCF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78E-FA0E-441F-BCB5-BFF4D3F4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77ED-35FC-4239-81FC-E2DA35DF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252-D1E6-4BF9-B3CA-052A1B6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D86-4D2B-4E1E-B0F7-1647B0D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E84-B18F-46CF-AD03-4D358FC7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960-C916-4C1C-9BE9-E3DE0A40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683-0BB6-4AD3-84E6-F172632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DC4-B37B-484C-AEA2-D443D41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122-3C74-4771-A4B3-951A85F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780-B2FF-41A1-AA33-AF9DDF9F1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EBA-F182-49F7-8AA8-B5D9E7FDB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7592.htm" TargetMode="External"/><Relationship Id="rId3" Type="http://schemas.openxmlformats.org/officeDocument/2006/relationships/hyperlink" Target="http://baike.baidu.com/view/7496.htm" TargetMode="External"/><Relationship Id="rId4" Type="http://schemas.openxmlformats.org/officeDocument/2006/relationships/hyperlink" Target="http://baike.baidu.com/view/584076.ht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6560" y="549360"/>
            <a:ext cx="35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古诗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1484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楷体_GB2312"/>
              </a:rPr>
              <a:t>《过故人庄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20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628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498600" cy="43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40360" y="1052640"/>
            <a:ext cx="4032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过故人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唐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孟浩然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故人具鸡黍，邀我至田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绿树村边合，青山郭外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开轩面场圃，把酒话桑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待到重阳日，还来就菊花。</a:t>
            </a:r>
            <a:r>
              <a:rPr b="1" lang="zh-CN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49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68720" y="692280"/>
            <a:ext cx="40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《过故人庄》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唐代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诗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孟浩然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的一首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五言律诗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，写的是诗人应邀到一位农村老朋友家做客的经过。在淳朴自然的田园风光之中，举杯饮酒，闲谈家常，充满了乐趣，抒发了诗人和朋友之间真挚的友情。这首诗初看似乎平淡如水，细细品味就像是一幅画着田园风光的中国画，将景、事、情完美地结合在一起，具有强烈的艺术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84360" y="162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首联：故人具鸡黍，邀我至田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421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翻译：</a:t>
            </a: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我的老朋友，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准备了一些酒菜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PMingLiU"/>
              </a:rPr>
              <a:t>；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邀请我到他的乡村家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92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Arial"/>
                <a:ea typeface="楷体_GB2312"/>
              </a:rPr>
              <a:t>课文赏析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4076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首句有一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种亲</a:t>
            </a: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切的味道。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老朋友相聚不必讲排场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何况这位朋友是个农夫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简朴是农家生活的写照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用「鸡黍」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很能展现这种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24600" y="765000"/>
            <a:ext cx="4888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692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课文赏析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13413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颔（</a:t>
            </a:r>
            <a:r>
              <a:rPr b="0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hàn</a:t>
            </a:r>
            <a:r>
              <a:rPr b="0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联「绿树村边合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青山郭外斜。 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565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来到这里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只见村子旁边围绕著许多绿色的树木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;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城郭的外面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也有青色的山峦起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00536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三、四句写农村的景致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抱著悠闲的心情赴约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边走边欣赏田园风光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田庄隐藏在青葱翠绿的树林中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青山由城外斜伸过来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虽只用二句描绘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已能引人作「世</a:t>
            </a:r>
            <a:r>
              <a:rPr b="1" lang="zh-TW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外桃源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62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ff"/>
                </a:solidFill>
                <a:latin typeface="Arial"/>
                <a:ea typeface="楷体_GB2312"/>
              </a:rPr>
              <a:t>课文赏析（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1557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颈联「开筵面场圃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把酒话桑麻。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234936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摆起酒席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面对门前的晒谷场和菜园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;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端起酒杯一边喝酒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一边聊些和农家生活有关的话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64500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五、六句说明主人已经准备好酒菜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殷勤相待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面对晒谷场和菜圃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边喝酒边谈论农作物生长的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1557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尾联「待到重阳日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还来就菊花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205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等到重阳节的时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我一定还要再来这里欣赏菊花</a:t>
            </a:r>
            <a:r>
              <a:rPr b="1" lang="zh-CN" sz="2000" spc="-1" strike="noStrike">
                <a:solidFill>
                  <a:srgbClr val="ffcc00"/>
                </a:solidFill>
                <a:latin typeface="Arial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92572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相聚总有结束的时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因此主人借「重阳节」再次相邀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点出主客间的感情深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93372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为何选择「重阳日」的原因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一是田家平日工作烦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少有闲暇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必须等到佳节才方便宴会亲友；二是重阳节时菊花盛开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较富诗情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而且在古人的观念里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这天喝了菊花酒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可以延年益寿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这又隐含有「祝福」之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76500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楷体_GB2312"/>
              </a:rPr>
              <a:t>课文赏析（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40360" y="47628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重点总整理—结构分析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0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故人具鸡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484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起】— 故人邀请                    造访原因—友情真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91628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邀我至田家   绿树村边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5653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承】— 庄外景色              点出季节 —农村风光                          青山郭外斜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写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133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视觉摩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328464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开筵面场圃               呼应田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57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转】— 相逢场面              主要场景 —饮宴谈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21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把酒话桑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桑麻为「借代法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待到重阳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5445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合】— 后会有期 诗人感想 —隐含祝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还来就菊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48000" y="1984320"/>
            <a:ext cx="46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cc00"/>
                </a:solidFill>
                <a:latin typeface="Arial"/>
                <a:ea typeface="楷体_GB2312"/>
              </a:rPr>
              <a:t>谢谢观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960" y="5805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05:41:20Z</dcterms:created>
  <dc:creator>微软用户</dc:creator>
  <dc:description/>
  <dc:language>en-US</dc:language>
  <cp:lastModifiedBy>微软用户</cp:lastModifiedBy>
  <cp:lastPrinted>1899-12-30T00:00:00Z</cp:lastPrinted>
  <dcterms:modified xsi:type="dcterms:W3CDTF">2014-06-06T07:04:4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