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E83-0510-4F1C-AD62-FEE3A583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98D-CBA1-4D14-BD37-08CCA297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817-DEA5-467C-98E7-29C13500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1B9-0FE5-421B-A998-1A29FDA0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25D9-6B49-4C65-BF18-414F32B7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1DC1-F4FE-4A13-88DF-426EAB5B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CC36-C98E-44FC-A00F-6EAE30D1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93DF-C289-4F95-9D92-C2407BAE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3E04-66BB-474E-B097-047B49C3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1782-43A6-45F6-8D55-E119C7F6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856D-F425-4D8D-9E1E-6859D31D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2CB-13F7-457E-9729-054984A4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00DB-2B65-4FC0-8144-280DDC93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44CF-31C6-400A-A070-89B933AE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ABCA-D178-4F09-89A5-510E1072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6F2C-673E-4971-87CB-D3706561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1D51-AD0A-49F3-9C36-691CCE05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B3B-DAE9-4B56-8DF0-368901F7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6BA-44BE-4D4C-AC6E-24D674F0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66D-FA0E-4A5D-B0D0-0E72848B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82D-090B-4F17-ACF7-B6B6E8B1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57D-5E56-44EF-A6D3-1A08EBC2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0BD-AD77-4F2A-AE5D-C02FD7C0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6B1-CB0D-4EB4-A8C4-87DA7E85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cbd8dd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8213-52C3-4F50-87E2-8D9E8D546474}" type="datetime3">
              <a:rPr b="1" lang="en-US" sz="1000" spc="-1" strike="noStrike">
                <a:solidFill>
                  <a:srgbClr val="cbd8dd"/>
                </a:solidFill>
                <a:latin typeface="Candara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8231e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C1D0-DB58-4495-AA17-AB34EFF62A0F}" type="slidenum">
              <a:rPr b="1" lang="en-US" sz="1600" spc="-1" strike="noStrike">
                <a:solidFill>
                  <a:srgbClr val="48231e"/>
                </a:solidFill>
                <a:latin typeface="Candar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142F-BA64-4BBF-AB7B-9390531D64DA}" type="datetime3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C2D2-4A82-47E3-B018-A04FF5390B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743280" y="3720960"/>
            <a:ext cx="51213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231e"/>
              </a:solidFill>
              <a:latin typeface="Candara"/>
              <a:ea typeface="华文楷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740040" y="1417680"/>
            <a:ext cx="51199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8231e"/>
                </a:solidFill>
                <a:latin typeface="Candara"/>
                <a:ea typeface="华文新魏"/>
              </a:rPr>
              <a:t>古朴之花</a:t>
            </a:r>
            <a:r>
              <a:rPr b="0" lang="zh-CN" sz="4000" spc="-1" strike="noStrike">
                <a:solidFill>
                  <a:srgbClr val="48231e"/>
                </a:solidFill>
                <a:latin typeface="Candara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48231e"/>
                </a:solidFill>
                <a:latin typeface="Candara"/>
                <a:ea typeface="华文新魏"/>
              </a:rPr>
              <a:t>模板</a:t>
            </a:r>
            <a:endParaRPr b="0" lang="en-US" sz="40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2e2224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2e2224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2e2224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2e2224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e2224"/>
                </a:solidFill>
                <a:latin typeface="Candara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e2224"/>
                </a:solidFill>
                <a:latin typeface="Canda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3:30:45Z</dcterms:created>
  <dc:creator>king</dc:creator>
  <dc:description/>
  <dc:language>en-US</dc:language>
  <cp:lastModifiedBy>a</cp:lastModifiedBy>
  <dcterms:modified xsi:type="dcterms:W3CDTF">2014-12-10T15:06:03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