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039-96F6-4506-932F-C95484A7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7036-FB9B-4A79-8892-E807BA58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7012F-6A67-438D-9923-831C8334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B53C6-C776-4332-9515-091E5EF3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95A43-DD9C-416A-B156-E9507948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48CA0-6666-4211-B9A2-F55D1081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78E5F-B850-4B37-895A-EF03A5C7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26B75-804C-49E4-B554-F9D1AD5B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4A207-F6D4-4A9D-A84A-88C68E80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CF3E6-B8BB-4FD4-95C2-40297298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74B49-5EBD-410C-A34E-B8886849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9996D-9E09-47C2-A833-2B6FC4E1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320-06F4-4D6B-AED6-0BB94994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CBFEA-1D2B-4EC9-9360-B37BCECC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B1D2B-A7F8-4F4D-82BF-93830AF3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70CA2-4859-4985-B916-38EC8B45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C869E-2CD4-48CA-B8C4-DF672DB8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7D921-9381-46BA-86DA-213DA4C2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7AFA1-712A-49B0-9716-D9179733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65AED-2E8E-4414-8DD9-06AE9857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D5AAA-2E7E-47F0-9EB7-0A855171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D088D-DCD0-41E2-A2A8-18DAF6C1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C1F95-2721-4825-8C75-B4DC7E89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DA6-DA74-4ECB-AF08-A2B0BDDA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C03CE-6D08-4C5D-9B87-35F20678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13B9D-E3BE-4F02-B799-585C887A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8E160-4038-438B-97D2-763A9DDF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13236-E8FC-4048-8BBD-4E8F9F28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96E8F-5FEC-4B58-BA92-8F76612A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ED6F5-70FC-4117-9295-909CF724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CD500-177D-49E4-9CAF-94568375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5A80B-4622-4C2B-A0ED-1AD04B77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AFBE9-599F-4655-A0C4-BCE4362A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95F01-05D1-49E1-8C7B-98360EA8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897F-1472-4445-A18E-C0A8FB0F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0AE41-0D6A-4FAC-99AD-E44DA1F3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B95F0-5CE6-4CAB-8F53-8D52EFD6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A6F06-EA15-4AA0-857F-3B04C518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A6983-F6C5-4D34-9053-A6059D1F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98C9A-1DC4-40FF-B903-5249B766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FAEF8-631D-42D2-AC84-BF43CE2C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452CB-85CC-4F18-B7E2-22E397CF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50DD7-FF42-42D1-8E37-22BB09AB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79910-E2E3-4664-A6D6-18214B2E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38343-7DA2-4F21-9CBD-C5347E40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E770-9ACA-4700-A78E-3119E7DD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BFBF9-C18E-4B79-82E9-32017412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A173A-9983-49BE-A057-FA0A27AA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42476-3FE6-47E2-B716-2BA94F53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F958E-6720-4E61-8AFC-E483C00B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71AD4-2476-4753-BD7E-2632BCD3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0E43E-CB21-4B6F-8C19-4BF32B50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B74A2E-CB14-45DD-BE33-3851E14D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53B247-4450-49E8-B48A-35277B4A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62F41E-BEF6-4070-BF66-9484C034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4F1FC-A734-4AAC-B71F-3181F425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88F8-2AAA-451C-8DE8-60F0AF4C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A405F-5966-4460-A727-4DD44949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7A66FC-B6BF-408B-B27E-834C1F58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73035E-D7EE-4A13-BC27-C86419D1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E1AB8F-F198-45E1-AC1F-42919853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5748F0-1912-4405-B6BD-BE6AD4D4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CC5D8F-86EA-4285-97C7-FDE1A410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663C3-98EC-48AB-97DD-3DF0DD49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660F9D-9A5F-48B0-8D73-954C2C20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5BCA80-65BB-41BD-A7CF-813AC8F9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CF1602-5092-4F4E-A58F-A9DC60C4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DE0B-5F4C-4225-A5F7-3071B5B8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6AEFB5-9B65-4D59-93B2-940B6E89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866394-5DD7-48F0-87D6-D82A3FB1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C62AB3-611F-4893-961C-58672B10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922460-4BA7-4E6F-B4DF-546DEC3B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BEA7E7-C8BD-469A-B0C3-D729687B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EE0518-52FD-4243-9554-70873CAD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7BC3EC-33C4-4F5F-A8BB-86B7E0B1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09579F-70C3-402B-B2EB-1F6E773E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C2DA14-3BE7-45EA-926E-6B603EDE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4833-7CF2-4D51-BFC8-3C4E7634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8825-F074-40D2-9802-75C20752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5D32-7156-4793-820F-F16640EE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DA93-D400-49C0-972F-ABD8DDD3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0BF7-E788-4899-B70B-343F91FF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5C56-53B1-4964-9C67-B4C53E1B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1652-6DFE-4099-83B6-05B79FCF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AD45-549B-4BF5-91B7-95D9C72A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AC4D-40D4-4753-BA4A-9CBF2069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601EA-EF5D-4E10-BBE0-B2F33593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F79D0-58CB-40B1-93C7-480837B7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17CAB-4757-4A9B-AC0B-25F611D9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E7BF3-C477-4FC6-82EF-303AF1B3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E2424-12A2-4347-83D9-38702F5E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9A2-80D5-4DDB-93A6-DB90CD5E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0C02B-B016-4C12-B1A9-777C6FB5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7DAF9-9ED5-44FB-A008-8440A8C5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34BD4-E8C0-4DE4-A393-6CDE6389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8E299-3128-4ABA-99B4-DCD6BDB1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6CEC3-D617-4F55-BB85-4B0B3248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6A06F-D339-4DF9-B92C-88A255DD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98A3A-E638-4209-8191-A2AF6525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855B0-A0C3-4DDF-BDE2-F3EB5129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8C1F3-41C1-4072-BFB3-E1B2C418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83B28-204E-4001-B29F-A998C61F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2F56-1A3B-4001-A1FD-12078279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D05F3-4732-45F9-A7D5-97D7FB04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48CD2-5C8E-4181-9E9E-4F44FC22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8F83D-C66C-464F-A23A-CC292E4D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DB2AB-372E-49F0-9557-208D8B9E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52CA2-B772-42C6-84F1-24A72670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29F7D-F1A3-4817-8968-EA4B6E85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3AF4F-3803-4C43-ACA1-F52940A5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69975-BC6A-4446-B137-2C8A89A1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E001F-A556-4804-8B62-A2661EC2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BAE39-6EBF-4254-8CB8-61827C8E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77C-E5C4-4A11-A7F2-9D86310E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D895B-2057-4CAC-9C8A-33489487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9A3FE-C6A0-427B-8203-14E9B5A9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637DC-F887-475E-B9E0-0568227B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EFF32-9327-437B-AE8F-15B2E89C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6DAAC-EF7D-44C5-8471-55CE92D8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9942C-4D85-4A1D-B34D-C20766EA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CC362-44B0-40AF-9EF2-ED52EACE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9569B-736E-4C94-9C4F-F5AEEFB1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7F7F0-AA05-44CD-B1D6-C9612958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33A19-5B6C-4C59-96E0-59106EC6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8E3-6FEA-4DE9-BB97-88E02D5D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64CB6-2550-430E-97BE-3BD1FF58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64EB0-2A9C-4A67-A0A0-E3189D1F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22BC6-C55D-4DEF-BDBF-40E9BE32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6573F-1D49-44CA-B177-8F75502A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B4251-957D-46F3-90FE-D9884BB6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FB302-3A1A-4180-A834-78E755A8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26ABD-B30D-4312-8A9F-3EB0D69E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C3ACC-5E3D-4C24-922B-6EC9088F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09CC5-7320-4C07-B12F-C199BFA8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1EBA6-49AE-4DC1-895B-320A785E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C7F-3C96-40F8-A202-6D8A7E31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0EE12-6344-4A3A-9217-29623C43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DA755-5D22-416D-ADE8-1B9E6743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0901F-C1C3-4F31-9F95-A961BC9F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ACC59-26DA-4D49-8529-C9E80708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CA0C5-EFEB-427C-9F4F-55199385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F2CA2-FD1F-4074-9948-3511F79A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92124-4CF3-4C85-A181-7D9C236F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4D5D1-8B43-408A-8BB4-19F99873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604C4-1F68-4BFE-A080-321612B1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B74FF-77A4-4E66-A0F7-74C1D427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9AE-DC1D-4D79-89EC-2AE6BB5D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11F1D-17C5-4DD4-A033-0F331E9C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BE140-664E-47AB-ADBE-BC209899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06931-1322-4398-BC87-2592904B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EAF4F-73C6-41D6-AECC-6E4C51FB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51C94-2DE0-406D-B240-3EC90416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A1266-3034-4B3D-8894-065CA083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71309-01C7-4E1B-BD64-721B0CB1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BC041-4A46-44A7-8915-BF8E2720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98457-19D8-47E5-9180-B0D6F82E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8BBDA-E092-47B1-9EA4-EB1C5F9C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AE9-F782-49B8-931F-AADED005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9D2D7-9771-4485-A6A2-06E6419A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F5AA9-4032-4044-9120-E47BC04A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2EDD6-13A0-4F99-B406-E3E68182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8130E-2C75-4484-AB6A-483B5244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54574-9869-48FA-B7CA-30752BBE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3C4C5-C72D-436C-BD8F-96D2D7B1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C8E08-276D-41AE-B4B1-65EF0D2C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BD489-EC68-4F1F-A7EA-23615F62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EE6F4-8236-41BE-BF0A-FFE5E013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28C64-54D7-468F-8621-9143E466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525252">
                  <a:alpha val="0"/>
                </a:srgbClr>
              </a:gs>
              <a:gs pos="100000">
                <a:srgbClr val="b2b2b2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163080" y="-6480"/>
            <a:ext cx="1440" cy="686916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6213600" y="-6480"/>
            <a:ext cx="2730240" cy="686916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fd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6564240" y="-6480"/>
            <a:ext cx="2598840" cy="6869160"/>
          </a:xfrm>
          <a:custGeom>
            <a:avLst/>
            <a:gdLst>
              <a:gd name="textAreaLeft" fmla="*/ 0 w 2598840"/>
              <a:gd name="textAreaRight" fmla="*/ 2599200 w 25988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>
              <a:gd name="textAreaLeft" fmla="*/ 0 w 289080"/>
              <a:gd name="textAreaRight" fmla="*/ 289440 w 2890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>
              <a:gd name="textAreaLeft" fmla="*/ 0 w 298440"/>
              <a:gd name="textAreaRight" fmla="*/ 298800 w 2984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>
              <a:gd name="textAreaLeft" fmla="*/ 0 w 295200"/>
              <a:gd name="textAreaRight" fmla="*/ 295560 w 29520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>
              <a:gd name="textAreaLeft" fmla="*/ 0 w 298440"/>
              <a:gd name="textAreaRight" fmla="*/ 298800 w 29844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Freeform 12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>
              <a:gd name="textAreaLeft" fmla="*/ 0 w 298440"/>
              <a:gd name="textAreaRight" fmla="*/ 298800 w 2984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>
              <a:gd name="textAreaLeft" fmla="*/ 0 w 301680"/>
              <a:gd name="textAreaRight" fmla="*/ 302040 w 3016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>
              <a:gd name="textAreaLeft" fmla="*/ 0 w 299880"/>
              <a:gd name="textAreaRight" fmla="*/ 300240 w 299880"/>
              <a:gd name="textAreaTop" fmla="*/ 0 h 291960"/>
              <a:gd name="textAreaBottom" fmla="*/ 291960 h 291960"/>
            </a:gdLst>
            <a:ahLst/>
            <a:rect l="textAreaLeft" t="textAreaTop" r="textAreaRight" b="textAreaBottom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>
              <a:gd name="textAreaLeft" fmla="*/ 0 w 292320"/>
              <a:gd name="textAreaRight" fmla="*/ 292680 w 292320"/>
              <a:gd name="textAreaTop" fmla="*/ 0 h 303480"/>
              <a:gd name="textAreaBottom" fmla="*/ 303840 h 303480"/>
            </a:gdLst>
            <a:ahLst/>
            <a:rect l="textAreaLeft" t="textAreaTop" r="textAreaRight" b="textAreaBottom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>
              <a:gd name="textAreaLeft" fmla="*/ 0 w 289080"/>
              <a:gd name="textAreaRight" fmla="*/ 289440 w 2890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>
              <a:gd name="textAreaLeft" fmla="*/ 0 w 293760"/>
              <a:gd name="textAreaRight" fmla="*/ 294120 w 2937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>
              <a:gd name="textAreaLeft" fmla="*/ 0 w 298440"/>
              <a:gd name="textAreaRight" fmla="*/ 298800 w 298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>
                  <a:alpha val="1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Freeform 20"/>
          <p:cNvSpPr/>
          <p:nvPr/>
        </p:nvSpPr>
        <p:spPr>
          <a:xfrm>
            <a:off x="1100160" y="5754600"/>
            <a:ext cx="504720" cy="48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solidFill>
            <a:srgbClr val="aeaeae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1"/>
          <p:cNvSpPr/>
          <p:nvPr/>
        </p:nvSpPr>
        <p:spPr>
          <a:xfrm>
            <a:off x="127080" y="5180040"/>
            <a:ext cx="796680" cy="763560"/>
          </a:xfrm>
          <a:custGeom>
            <a:avLst/>
            <a:gdLst>
              <a:gd name="textAreaLeft" fmla="*/ 0 w 796680"/>
              <a:gd name="textAreaRight" fmla="*/ 797040 w 79668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solidFill>
            <a:srgbClr val="babab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2"/>
          <p:cNvSpPr/>
          <p:nvPr/>
        </p:nvSpPr>
        <p:spPr>
          <a:xfrm>
            <a:off x="-19080" y="5340240"/>
            <a:ext cx="2333520" cy="1544760"/>
          </a:xfrm>
          <a:custGeom>
            <a:avLst/>
            <a:gdLst>
              <a:gd name="textAreaLeft" fmla="*/ 0 w 2333520"/>
              <a:gd name="textAreaRight" fmla="*/ 2333880 w 233352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96969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23" descr="shine for usa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564240" y="-6480"/>
            <a:ext cx="2598840" cy="687384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24" descr="usa swirl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5857920" y="-17640"/>
            <a:ext cx="2895480" cy="6885000"/>
          </a:xfrm>
          <a:prstGeom prst="rect">
            <a:avLst/>
          </a:prstGeom>
          <a:ln w="0">
            <a:noFill/>
          </a:ln>
        </p:spPr>
      </p:pic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2440" y="188640"/>
            <a:ext cx="70722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ftr" idx="1"/>
          </p:nvPr>
        </p:nvSpPr>
        <p:spPr>
          <a:xfrm>
            <a:off x="2484000" y="6472080"/>
            <a:ext cx="352764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Freeform 30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>
              <a:gd name="textAreaLeft" fmla="*/ 0 w 293760"/>
              <a:gd name="textAreaRight" fmla="*/ 294120 w 2937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Freeform 31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>
              <a:gd name="textAreaLeft" fmla="*/ 0 w 298440"/>
              <a:gd name="textAreaRight" fmla="*/ 298800 w 2984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Freeform 32"/>
          <p:cNvSpPr/>
          <p:nvPr/>
        </p:nvSpPr>
        <p:spPr>
          <a:xfrm>
            <a:off x="1781280" y="6391440"/>
            <a:ext cx="357120" cy="339480"/>
          </a:xfrm>
          <a:custGeom>
            <a:avLst/>
            <a:gdLst>
              <a:gd name="textAreaLeft" fmla="*/ 0 w 357120"/>
              <a:gd name="textAreaRight" fmla="*/ 357480 w 3571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solidFill>
            <a:srgbClr val="a7a7a7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Freeform 25"/>
          <p:cNvSpPr/>
          <p:nvPr/>
        </p:nvSpPr>
        <p:spPr>
          <a:xfrm>
            <a:off x="5861160" y="-6480"/>
            <a:ext cx="3044880" cy="6869160"/>
          </a:xfrm>
          <a:custGeom>
            <a:avLst/>
            <a:gdLst>
              <a:gd name="textAreaLeft" fmla="*/ 0 w 3044880"/>
              <a:gd name="textAreaRight" fmla="*/ 3045240 w 304488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body"/>
          </p:nvPr>
        </p:nvSpPr>
        <p:spPr>
          <a:xfrm>
            <a:off x="187200" y="1006200"/>
            <a:ext cx="8337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dt" idx="2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8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9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B193-A6CF-48FB-A5E1-67B432183B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1512-1F94-4B14-9BD7-A9971486E9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B653-88C8-41DC-979D-3B2F9322CB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E32E-7FFA-4BFD-A2D3-33BB990F12E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1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0557-FBAF-48D9-8EDD-3B5AEB8781E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01c1e"/>
              </a:gs>
              <a:gs pos="100000">
                <a:srgbClr val="7e10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13333"/>
                </a:srgbClr>
              </a:gs>
              <a:gs pos="100000">
                <a:srgbClr val="767676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7" descr="usa red shine"/>
          <p:cNvPicPr/>
          <p:nvPr/>
        </p:nvPicPr>
        <p:blipFill>
          <a:blip r:embed="rId2">
            <a:lum bright="-42000"/>
          </a:blip>
          <a:srcRect l="28292" t="0" r="30589" b="0"/>
          <a:stretch/>
        </p:blipFill>
        <p:spPr>
          <a:xfrm>
            <a:off x="5376960" y="-17640"/>
            <a:ext cx="3779640" cy="6894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9163080" y="-6480"/>
            <a:ext cx="1440" cy="686916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4"/>
          <p:cNvSpPr/>
          <p:nvPr/>
        </p:nvSpPr>
        <p:spPr>
          <a:xfrm>
            <a:off x="6213600" y="-6480"/>
            <a:ext cx="2730240" cy="686916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fd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"/>
          <p:cNvSpPr/>
          <p:nvPr/>
        </p:nvSpPr>
        <p:spPr>
          <a:xfrm>
            <a:off x="6564240" y="-6480"/>
            <a:ext cx="2598840" cy="6869160"/>
          </a:xfrm>
          <a:custGeom>
            <a:avLst/>
            <a:gdLst>
              <a:gd name="textAreaLeft" fmla="*/ 0 w 2598840"/>
              <a:gd name="textAreaRight" fmla="*/ 2599200 w 25988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6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>
              <a:gd name="textAreaLeft" fmla="*/ 0 w 289080"/>
              <a:gd name="textAreaRight" fmla="*/ 289440 w 2890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7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>
              <a:gd name="textAreaLeft" fmla="*/ 0 w 298440"/>
              <a:gd name="textAreaRight" fmla="*/ 298800 w 2984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8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>
              <a:gd name="textAreaLeft" fmla="*/ 0 w 295200"/>
              <a:gd name="textAreaRight" fmla="*/ 295560 w 29520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0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1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>
              <a:gd name="textAreaLeft" fmla="*/ 0 w 298440"/>
              <a:gd name="textAreaRight" fmla="*/ 298800 w 29844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2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>
              <a:gd name="textAreaLeft" fmla="*/ 0 w 298440"/>
              <a:gd name="textAreaRight" fmla="*/ 298800 w 2984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3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>
              <a:gd name="textAreaLeft" fmla="*/ 0 w 301680"/>
              <a:gd name="textAreaRight" fmla="*/ 302040 w 3016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4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>
              <a:gd name="textAreaLeft" fmla="*/ 0 w 299880"/>
              <a:gd name="textAreaRight" fmla="*/ 300240 w 299880"/>
              <a:gd name="textAreaTop" fmla="*/ 0 h 291960"/>
              <a:gd name="textAreaBottom" fmla="*/ 291960 h 291960"/>
            </a:gdLst>
            <a:ahLst/>
            <a:rect l="textAreaLeft" t="textAreaTop" r="textAreaRight" b="textAreaBottom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5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>
              <a:gd name="textAreaLeft" fmla="*/ 0 w 292320"/>
              <a:gd name="textAreaRight" fmla="*/ 292680 w 292320"/>
              <a:gd name="textAreaTop" fmla="*/ 0 h 303480"/>
              <a:gd name="textAreaBottom" fmla="*/ 303840 h 303480"/>
            </a:gdLst>
            <a:ahLst/>
            <a:rect l="textAreaLeft" t="textAreaTop" r="textAreaRight" b="textAreaBottom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6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>
              <a:gd name="textAreaLeft" fmla="*/ 0 w 289080"/>
              <a:gd name="textAreaRight" fmla="*/ 289440 w 2890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7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>
              <a:gd name="textAreaLeft" fmla="*/ 0 w 293760"/>
              <a:gd name="textAreaRight" fmla="*/ 294120 w 2937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8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>
              <a:gd name="textAreaLeft" fmla="*/ 0 w 298440"/>
              <a:gd name="textAreaRight" fmla="*/ 298800 w 298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>
                  <a:alpha val="1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0"/>
          <p:cNvSpPr/>
          <p:nvPr/>
        </p:nvSpPr>
        <p:spPr>
          <a:xfrm>
            <a:off x="1100160" y="5754600"/>
            <a:ext cx="504720" cy="48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1"/>
          <p:cNvSpPr/>
          <p:nvPr/>
        </p:nvSpPr>
        <p:spPr>
          <a:xfrm>
            <a:off x="127080" y="5180040"/>
            <a:ext cx="796680" cy="763560"/>
          </a:xfrm>
          <a:custGeom>
            <a:avLst/>
            <a:gdLst>
              <a:gd name="textAreaLeft" fmla="*/ 0 w 796680"/>
              <a:gd name="textAreaRight" fmla="*/ 797040 w 79668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2"/>
          <p:cNvSpPr/>
          <p:nvPr/>
        </p:nvSpPr>
        <p:spPr>
          <a:xfrm>
            <a:off x="-19080" y="5340240"/>
            <a:ext cx="2333520" cy="1544760"/>
          </a:xfrm>
          <a:custGeom>
            <a:avLst/>
            <a:gdLst>
              <a:gd name="textAreaLeft" fmla="*/ 0 w 2333520"/>
              <a:gd name="textAreaRight" fmla="*/ 2333880 w 233352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3" descr="shine for usa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564240" y="-6480"/>
            <a:ext cx="2598840" cy="6873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4" descr="usa swirl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5857920" y="-17640"/>
            <a:ext cx="2895480" cy="688500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7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>
              <a:gd name="textAreaLeft" fmla="*/ 0 w 293760"/>
              <a:gd name="textAreaRight" fmla="*/ 294120 w 2937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8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>
              <a:gd name="textAreaLeft" fmla="*/ 0 w 298440"/>
              <a:gd name="textAreaRight" fmla="*/ 298800 w 2984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9"/>
          <p:cNvSpPr/>
          <p:nvPr/>
        </p:nvSpPr>
        <p:spPr>
          <a:xfrm>
            <a:off x="1781280" y="6391440"/>
            <a:ext cx="357120" cy="339480"/>
          </a:xfrm>
          <a:custGeom>
            <a:avLst/>
            <a:gdLst>
              <a:gd name="textAreaLeft" fmla="*/ 0 w 357120"/>
              <a:gd name="textAreaRight" fmla="*/ 357480 w 3571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0"/>
          <p:cNvSpPr/>
          <p:nvPr/>
        </p:nvSpPr>
        <p:spPr>
          <a:xfrm>
            <a:off x="5861160" y="-6480"/>
            <a:ext cx="3044880" cy="6869160"/>
          </a:xfrm>
          <a:custGeom>
            <a:avLst/>
            <a:gdLst>
              <a:gd name="textAreaLeft" fmla="*/ 0 w 3044880"/>
              <a:gd name="textAreaRight" fmla="*/ 3045240 w 304488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82440" y="188640"/>
            <a:ext cx="70722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87200" y="1006200"/>
            <a:ext cx="8337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4"/>
          </p:nvPr>
        </p:nvSpPr>
        <p:spPr>
          <a:xfrm>
            <a:off x="2484000" y="6472080"/>
            <a:ext cx="352764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5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E9F3-276F-4B16-8AAF-AD92BE0008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5E00-ECDC-4CC0-BB78-3577933966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B526-F48D-4725-AC56-139B99111D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1A15-C7AF-4D3F-A9B0-144438B804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F47C-B33A-476F-BCCA-59EAD3E444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0354-8D5E-429B-8839-8E4B96B64C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5ACE-3537-419D-AE08-3AA766936BC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76360" y="2133360"/>
            <a:ext cx="6950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500" spc="-1" strike="noStrike">
                <a:solidFill>
                  <a:srgbClr val="ffffff"/>
                </a:solidFill>
                <a:latin typeface="叶根友特色简体升级版"/>
                <a:ea typeface="叶根友特色简体升级版"/>
              </a:rPr>
              <a:t>个人简历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3564000" y="4365720"/>
            <a:ext cx="316872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迷你简中倩"/>
                <a:ea typeface="迷你简中倩"/>
              </a:rPr>
              <a:t>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4"/>
          <p:cNvGrpSpPr/>
          <p:nvPr/>
        </p:nvGrpSpPr>
        <p:grpSpPr>
          <a:xfrm>
            <a:off x="755640" y="-2473200"/>
            <a:ext cx="7934400" cy="3707280"/>
            <a:chOff x="755640" y="-2473200"/>
            <a:chExt cx="7934400" cy="3707280"/>
          </a:xfrm>
        </p:grpSpPr>
        <p:pic>
          <p:nvPicPr>
            <p:cNvPr id="634" name="Picture 5" descr="usa bar shadow"/>
            <p:cNvPicPr/>
            <p:nvPr/>
          </p:nvPicPr>
          <p:blipFill>
            <a:blip r:embed="rId1"/>
            <a:srcRect l="8687" t="23734" r="8117" b="61836"/>
            <a:stretch/>
          </p:blipFill>
          <p:spPr>
            <a:xfrm>
              <a:off x="1042920" y="-2473200"/>
              <a:ext cx="7647120" cy="162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5" name="Group 6"/>
            <p:cNvGrpSpPr/>
            <p:nvPr/>
          </p:nvGrpSpPr>
          <p:grpSpPr>
            <a:xfrm>
              <a:off x="755640" y="-1348560"/>
              <a:ext cx="7278840" cy="2582640"/>
              <a:chOff x="755640" y="-1348560"/>
              <a:chExt cx="7278840" cy="2582640"/>
            </a:xfrm>
          </p:grpSpPr>
          <p:sp>
            <p:nvSpPr>
              <p:cNvPr id="636" name="Freeform 7"/>
              <p:cNvSpPr/>
              <p:nvPr/>
            </p:nvSpPr>
            <p:spPr>
              <a:xfrm>
                <a:off x="755640" y="252000"/>
                <a:ext cx="7278840" cy="982080"/>
              </a:xfrm>
              <a:custGeom>
                <a:avLst/>
                <a:gdLst>
                  <a:gd name="textAreaLeft" fmla="*/ 0 w 7278840"/>
                  <a:gd name="textAreaRight" fmla="*/ 7279200 w 7278840"/>
                  <a:gd name="textAreaTop" fmla="*/ 0 h 982080"/>
                  <a:gd name="textAreaBottom" fmla="*/ 982440 h 982080"/>
                </a:gdLst>
                <a:ahLst/>
                <a:rect l="textAreaLeft" t="textAreaTop" r="textAreaRight" b="textAreaBottom"/>
                <a:pathLst>
                  <a:path w="2288" h="190">
                    <a:moveTo>
                      <a:pt x="2141" y="0"/>
                    </a:moveTo>
                    <a:cubicBezTo>
                      <a:pt x="77" y="0"/>
                      <a:pt x="77" y="0"/>
                      <a:pt x="77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137"/>
                      <a:pt x="0" y="137"/>
                      <a:pt x="0" y="137"/>
                    </a:cubicBezTo>
                    <a:cubicBezTo>
                      <a:pt x="0" y="190"/>
                      <a:pt x="0" y="190"/>
                      <a:pt x="0" y="190"/>
                    </a:cubicBezTo>
                    <a:cubicBezTo>
                      <a:pt x="2288" y="190"/>
                      <a:pt x="2288" y="190"/>
                      <a:pt x="2288" y="190"/>
                    </a:cubicBezTo>
                    <a:cubicBezTo>
                      <a:pt x="2252" y="127"/>
                      <a:pt x="2209" y="69"/>
                      <a:pt x="2160" y="20"/>
                    </a:cubicBezTo>
                    <a:cubicBezTo>
                      <a:pt x="2154" y="13"/>
                      <a:pt x="2147" y="7"/>
                      <a:pt x="214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70"/>
                  </a:gs>
                  <a:gs pos="100000">
                    <a:srgbClr val="0010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8"/>
              <p:cNvSpPr/>
              <p:nvPr/>
            </p:nvSpPr>
            <p:spPr>
              <a:xfrm>
                <a:off x="873000" y="-1348560"/>
                <a:ext cx="7037640" cy="832680"/>
              </a:xfrm>
              <a:custGeom>
                <a:avLst/>
                <a:gdLst>
                  <a:gd name="textAreaLeft" fmla="*/ 0 w 7037640"/>
                  <a:gd name="textAreaRight" fmla="*/ 7038000 w 7037640"/>
                  <a:gd name="textAreaTop" fmla="*/ 0 h 832680"/>
                  <a:gd name="textAreaBottom" fmla="*/ 833040 h 832680"/>
                </a:gdLst>
                <a:ahLst/>
                <a:rect l="textAreaLeft" t="textAreaTop" r="textAreaRight" b="textAreaBottom"/>
                <a:pathLst>
                  <a:path w="2212" h="161">
                    <a:moveTo>
                      <a:pt x="2009" y="39"/>
                    </a:moveTo>
                    <a:cubicBezTo>
                      <a:pt x="2050" y="45"/>
                      <a:pt x="2117" y="47"/>
                      <a:pt x="2212" y="93"/>
                    </a:cubicBezTo>
                    <a:cubicBezTo>
                      <a:pt x="2191" y="66"/>
                      <a:pt x="2169" y="41"/>
                      <a:pt x="2146" y="17"/>
                    </a:cubicBezTo>
                    <a:cubicBezTo>
                      <a:pt x="2141" y="12"/>
                      <a:pt x="2135" y="6"/>
                      <a:pt x="212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61"/>
                      <a:pt x="0" y="161"/>
                      <a:pt x="0" y="161"/>
                    </a:cubicBezTo>
                    <a:cubicBezTo>
                      <a:pt x="223" y="153"/>
                      <a:pt x="438" y="124"/>
                      <a:pt x="529" y="110"/>
                    </a:cubicBezTo>
                    <a:cubicBezTo>
                      <a:pt x="977" y="39"/>
                      <a:pt x="1814" y="7"/>
                      <a:pt x="2009" y="3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7254"/>
                    </a:srgbClr>
                  </a:gs>
                  <a:gs pos="100000">
                    <a:srgbClr val="767676">
                      <a:alpha val="1333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8" name="Group 9"/>
          <p:cNvGrpSpPr/>
          <p:nvPr/>
        </p:nvGrpSpPr>
        <p:grpSpPr>
          <a:xfrm>
            <a:off x="0" y="-3240"/>
            <a:ext cx="1618920" cy="1518480"/>
            <a:chOff x="0" y="-3240"/>
            <a:chExt cx="1618920" cy="1518480"/>
          </a:xfrm>
        </p:grpSpPr>
        <p:pic>
          <p:nvPicPr>
            <p:cNvPr id="639" name="Picture 10" descr="usa star shadow"/>
            <p:cNvPicPr/>
            <p:nvPr/>
          </p:nvPicPr>
          <p:blipFill>
            <a:blip r:embed="rId2"/>
            <a:srcRect l="44856" t="43396" r="43575" b="42198"/>
            <a:stretch/>
          </p:blipFill>
          <p:spPr>
            <a:xfrm>
              <a:off x="0" y="3600"/>
              <a:ext cx="1618920" cy="151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0" name="Group 11"/>
            <p:cNvGrpSpPr/>
            <p:nvPr/>
          </p:nvGrpSpPr>
          <p:grpSpPr>
            <a:xfrm>
              <a:off x="28800" y="-3240"/>
              <a:ext cx="1408320" cy="1433160"/>
              <a:chOff x="28800" y="-3240"/>
              <a:chExt cx="1408320" cy="1433160"/>
            </a:xfrm>
          </p:grpSpPr>
          <p:sp>
            <p:nvSpPr>
              <p:cNvPr id="641" name="Freeform 12"/>
              <p:cNvSpPr/>
              <p:nvPr/>
            </p:nvSpPr>
            <p:spPr>
              <a:xfrm>
                <a:off x="1219680" y="291240"/>
                <a:ext cx="77040" cy="1011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0" y="0"/>
                    </a:moveTo>
                    <a:cubicBezTo>
                      <a:pt x="6" y="7"/>
                      <a:pt x="6" y="7"/>
                      <a:pt x="6" y="7"/>
                    </a:cubicBezTo>
                    <a:cubicBezTo>
                      <a:pt x="10" y="12"/>
                      <a:pt x="13" y="16"/>
                      <a:pt x="16" y="21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7" y="8"/>
                      <a:pt x="3" y="4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3"/>
              <p:cNvSpPr/>
              <p:nvPr/>
            </p:nvSpPr>
            <p:spPr>
              <a:xfrm>
                <a:off x="1262880" y="353880"/>
                <a:ext cx="110880" cy="2073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23" h="43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4" y="19"/>
                      <a:pt x="19" y="31"/>
                      <a:pt x="23" y="43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3" y="23"/>
                      <a:pt x="8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4"/>
              <p:cNvSpPr/>
              <p:nvPr/>
            </p:nvSpPr>
            <p:spPr>
              <a:xfrm>
                <a:off x="1340280" y="522720"/>
                <a:ext cx="52920" cy="2030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1" h="42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0" y="19"/>
                      <a:pt x="11" y="30"/>
                      <a:pt x="11" y="42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5" y="22"/>
                      <a:pt x="3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5"/>
              <p:cNvSpPr/>
              <p:nvPr/>
            </p:nvSpPr>
            <p:spPr>
              <a:xfrm>
                <a:off x="1355040" y="686880"/>
                <a:ext cx="38160" cy="140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8" h="29">
                    <a:moveTo>
                      <a:pt x="1" y="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8" y="15"/>
                      <a:pt x="7" y="22"/>
                      <a:pt x="6" y="29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1" y="14"/>
                      <a:pt x="1" y="7"/>
                      <a:pt x="1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6"/>
              <p:cNvSpPr/>
              <p:nvPr/>
            </p:nvSpPr>
            <p:spPr>
              <a:xfrm>
                <a:off x="1330920" y="793080"/>
                <a:ext cx="52920" cy="125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1" h="26">
                    <a:moveTo>
                      <a:pt x="5" y="0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0" y="14"/>
                      <a:pt x="9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" y="12"/>
                      <a:pt x="4" y="6"/>
                      <a:pt x="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7"/>
              <p:cNvSpPr/>
              <p:nvPr/>
            </p:nvSpPr>
            <p:spPr>
              <a:xfrm>
                <a:off x="1296720" y="880200"/>
                <a:ext cx="67680" cy="1202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7" y="0"/>
                    </a:moveTo>
                    <a:cubicBezTo>
                      <a:pt x="14" y="8"/>
                      <a:pt x="14" y="8"/>
                      <a:pt x="14" y="8"/>
                    </a:cubicBezTo>
                    <a:cubicBezTo>
                      <a:pt x="12" y="13"/>
                      <a:pt x="10" y="19"/>
                      <a:pt x="7" y="25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3" y="11"/>
                      <a:pt x="5" y="6"/>
                      <a:pt x="7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8"/>
              <p:cNvSpPr/>
              <p:nvPr/>
            </p:nvSpPr>
            <p:spPr>
              <a:xfrm>
                <a:off x="1253520" y="962280"/>
                <a:ext cx="77040" cy="115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9" y="0"/>
                    </a:moveTo>
                    <a:cubicBezTo>
                      <a:pt x="16" y="8"/>
                      <a:pt x="16" y="8"/>
                      <a:pt x="16" y="8"/>
                    </a:cubicBezTo>
                    <a:cubicBezTo>
                      <a:pt x="13" y="13"/>
                      <a:pt x="10" y="19"/>
                      <a:pt x="6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3" y="11"/>
                      <a:pt x="7" y="5"/>
                      <a:pt x="9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9"/>
              <p:cNvSpPr/>
              <p:nvPr/>
            </p:nvSpPr>
            <p:spPr>
              <a:xfrm>
                <a:off x="1180800" y="1039320"/>
                <a:ext cx="101880" cy="1252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1" h="26">
                    <a:moveTo>
                      <a:pt x="15" y="0"/>
                    </a:moveTo>
                    <a:cubicBezTo>
                      <a:pt x="21" y="8"/>
                      <a:pt x="21" y="8"/>
                      <a:pt x="21" y="8"/>
                    </a:cubicBezTo>
                    <a:cubicBezTo>
                      <a:pt x="17" y="14"/>
                      <a:pt x="12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6" y="12"/>
                      <a:pt x="11" y="6"/>
                      <a:pt x="1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20"/>
              <p:cNvSpPr/>
              <p:nvPr/>
            </p:nvSpPr>
            <p:spPr>
              <a:xfrm>
                <a:off x="250920" y="1102320"/>
                <a:ext cx="963360" cy="327600"/>
              </a:xfrm>
              <a:custGeom>
                <a:avLst/>
                <a:gdLst>
                  <a:gd name="textAreaLeft" fmla="*/ 0 w 963360"/>
                  <a:gd name="textAreaRight" fmla="*/ 963720 w 963360"/>
                  <a:gd name="textAreaTop" fmla="*/ 0 h 327600"/>
                  <a:gd name="textAreaBottom" fmla="*/ 327960 h 327600"/>
                </a:gdLst>
                <a:ahLst/>
                <a:rect l="textAreaLeft" t="textAreaTop" r="textAreaRight" b="textAreaBottom"/>
                <a:pathLst>
                  <a:path w="199" h="68">
                    <a:moveTo>
                      <a:pt x="192" y="5"/>
                    </a:moveTo>
                    <a:cubicBezTo>
                      <a:pt x="199" y="13"/>
                      <a:pt x="199" y="13"/>
                      <a:pt x="199" y="13"/>
                    </a:cubicBezTo>
                    <a:cubicBezTo>
                      <a:pt x="196" y="16"/>
                      <a:pt x="192" y="19"/>
                      <a:pt x="189" y="22"/>
                    </a:cubicBezTo>
                    <a:cubicBezTo>
                      <a:pt x="134" y="68"/>
                      <a:pt x="52" y="62"/>
                      <a:pt x="6" y="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5" y="54"/>
                      <a:pt x="127" y="60"/>
                      <a:pt x="182" y="14"/>
                    </a:cubicBezTo>
                    <a:cubicBezTo>
                      <a:pt x="186" y="11"/>
                      <a:pt x="189" y="8"/>
                      <a:pt x="192" y="5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21"/>
              <p:cNvSpPr/>
              <p:nvPr/>
            </p:nvSpPr>
            <p:spPr>
              <a:xfrm>
                <a:off x="28800" y="-3240"/>
                <a:ext cx="1408320" cy="1395360"/>
              </a:xfrm>
              <a:custGeom>
                <a:avLst/>
                <a:gdLst>
                  <a:gd name="textAreaLeft" fmla="*/ 0 w 1408320"/>
                  <a:gd name="textAreaRight" fmla="*/ 1408680 w 1408320"/>
                  <a:gd name="textAreaTop" fmla="*/ 0 h 1395360"/>
                  <a:gd name="textAreaBottom" fmla="*/ 1395720 h 1395360"/>
                </a:gdLst>
                <a:ahLst/>
                <a:rect l="textAreaLeft" t="textAreaTop" r="textAreaRight" b="textAreaBottom"/>
                <a:pathLst>
                  <a:path w="291" h="289">
                    <a:moveTo>
                      <a:pt x="46" y="229"/>
                    </a:moveTo>
                    <a:cubicBezTo>
                      <a:pt x="0" y="174"/>
                      <a:pt x="8" y="92"/>
                      <a:pt x="63" y="46"/>
                    </a:cubicBezTo>
                    <a:cubicBezTo>
                      <a:pt x="118" y="0"/>
                      <a:pt x="200" y="6"/>
                      <a:pt x="246" y="61"/>
                    </a:cubicBezTo>
                    <a:cubicBezTo>
                      <a:pt x="291" y="115"/>
                      <a:pt x="284" y="197"/>
                      <a:pt x="228" y="243"/>
                    </a:cubicBezTo>
                    <a:cubicBezTo>
                      <a:pt x="173" y="289"/>
                      <a:pt x="91" y="283"/>
                      <a:pt x="46" y="2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2556"/>
                  </a:gs>
                  <a:gs pos="100000">
                    <a:srgbClr val="00429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22"/>
              <p:cNvSpPr/>
              <p:nvPr/>
            </p:nvSpPr>
            <p:spPr>
              <a:xfrm>
                <a:off x="333360" y="102600"/>
                <a:ext cx="1011600" cy="979560"/>
              </a:xfrm>
              <a:custGeom>
                <a:avLst/>
                <a:gdLst>
                  <a:gd name="textAreaLeft" fmla="*/ 0 w 1011600"/>
                  <a:gd name="textAreaRight" fmla="*/ 1011960 w 1011600"/>
                  <a:gd name="textAreaTop" fmla="*/ 0 h 979560"/>
                  <a:gd name="textAreaBottom" fmla="*/ 979920 h 979560"/>
                </a:gdLst>
                <a:ahLst/>
                <a:rect l="textAreaLeft" t="textAreaTop" r="textAreaRight" b="textAreaBottom"/>
                <a:pathLst>
                  <a:path w="209" h="203">
                    <a:moveTo>
                      <a:pt x="95" y="98"/>
                    </a:moveTo>
                    <a:cubicBezTo>
                      <a:pt x="117" y="136"/>
                      <a:pt x="135" y="175"/>
                      <a:pt x="172" y="203"/>
                    </a:cubicBezTo>
                    <a:cubicBezTo>
                      <a:pt x="195" y="181"/>
                      <a:pt x="209" y="151"/>
                      <a:pt x="209" y="117"/>
                    </a:cubicBezTo>
                    <a:cubicBezTo>
                      <a:pt x="209" y="52"/>
                      <a:pt x="156" y="0"/>
                      <a:pt x="91" y="0"/>
                    </a:cubicBezTo>
                    <a:cubicBezTo>
                      <a:pt x="54" y="0"/>
                      <a:pt x="21" y="17"/>
                      <a:pt x="0" y="43"/>
                    </a:cubicBezTo>
                    <a:cubicBezTo>
                      <a:pt x="38" y="51"/>
                      <a:pt x="77" y="67"/>
                      <a:pt x="95" y="9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767676">
                      <a:alpha val="1333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23"/>
              <p:cNvSpPr/>
              <p:nvPr/>
            </p:nvSpPr>
            <p:spPr>
              <a:xfrm>
                <a:off x="678240" y="826920"/>
                <a:ext cx="236520" cy="27504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275040"/>
                  <a:gd name="textAreaBottom" fmla="*/ 275400 h 275040"/>
                </a:gdLst>
                <a:ahLst/>
                <a:rect l="textAreaLeft" t="textAreaTop" r="textAreaRight" b="textAreaBottom"/>
                <a:pathLst>
                  <a:path w="98" h="114">
                    <a:moveTo>
                      <a:pt x="84" y="100"/>
                    </a:moveTo>
                    <a:lnTo>
                      <a:pt x="0" y="0"/>
                    </a:lnTo>
                    <a:lnTo>
                      <a:pt x="14" y="16"/>
                    </a:lnTo>
                    <a:lnTo>
                      <a:pt x="98" y="114"/>
                    </a:lnTo>
                    <a:lnTo>
                      <a:pt x="84" y="100"/>
                    </a:lnTo>
                    <a:close/>
                  </a:path>
                </a:pathLst>
              </a:custGeom>
              <a:solidFill>
                <a:srgbClr val="006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3" name="Group 24"/>
              <p:cNvGrpSpPr/>
              <p:nvPr/>
            </p:nvGrpSpPr>
            <p:grpSpPr>
              <a:xfrm>
                <a:off x="352440" y="247680"/>
                <a:ext cx="832320" cy="853560"/>
                <a:chOff x="352440" y="247680"/>
                <a:chExt cx="832320" cy="853560"/>
              </a:xfrm>
            </p:grpSpPr>
            <p:sp>
              <p:nvSpPr>
                <p:cNvPr id="654" name="Freeform 25"/>
                <p:cNvSpPr/>
                <p:nvPr/>
              </p:nvSpPr>
              <p:spPr>
                <a:xfrm>
                  <a:off x="833040" y="247680"/>
                  <a:ext cx="47880" cy="3474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347400"/>
                    <a:gd name="textAreaBottom" fmla="*/ 347760 h 347400"/>
                  </a:gdLst>
                  <a:ahLst/>
                  <a:rect l="textAreaLeft" t="textAreaTop" r="textAreaRight" b="textAreaBottom"/>
                  <a:pathLst>
                    <a:path w="20" h="144">
                      <a:moveTo>
                        <a:pt x="0" y="0"/>
                      </a:moveTo>
                      <a:lnTo>
                        <a:pt x="12" y="16"/>
                      </a:lnTo>
                      <a:lnTo>
                        <a:pt x="20" y="144"/>
                      </a:lnTo>
                      <a:lnTo>
                        <a:pt x="8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26"/>
                <p:cNvSpPr/>
                <p:nvPr/>
              </p:nvSpPr>
              <p:spPr>
                <a:xfrm>
                  <a:off x="386280" y="826200"/>
                  <a:ext cx="325800" cy="159120"/>
                </a:xfrm>
                <a:custGeom>
                  <a:avLst/>
                  <a:gdLst>
                    <a:gd name="textAreaLeft" fmla="*/ 0 w 325800"/>
                    <a:gd name="textAreaRight" fmla="*/ 326160 w 325800"/>
                    <a:gd name="textAreaTop" fmla="*/ 0 h 159120"/>
                    <a:gd name="textAreaBottom" fmla="*/ 159480 h 159120"/>
                  </a:gdLst>
                  <a:ahLst/>
                  <a:rect l="textAreaLeft" t="textAreaTop" r="textAreaRight" b="textAreaBottom"/>
                  <a:pathLst>
                    <a:path w="135" h="66">
                      <a:moveTo>
                        <a:pt x="121" y="0"/>
                      </a:moveTo>
                      <a:lnTo>
                        <a:pt x="135" y="16"/>
                      </a:lnTo>
                      <a:lnTo>
                        <a:pt x="14" y="66"/>
                      </a:lnTo>
                      <a:lnTo>
                        <a:pt x="0" y="5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27"/>
                <p:cNvSpPr/>
                <p:nvPr/>
              </p:nvSpPr>
              <p:spPr>
                <a:xfrm>
                  <a:off x="861480" y="633960"/>
                  <a:ext cx="323280" cy="154080"/>
                </a:xfrm>
                <a:custGeom>
                  <a:avLst/>
                  <a:gdLst>
                    <a:gd name="textAreaLeft" fmla="*/ 0 w 323280"/>
                    <a:gd name="textAreaRight" fmla="*/ 323640 w 32328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134" h="64">
                      <a:moveTo>
                        <a:pt x="120" y="0"/>
                      </a:moveTo>
                      <a:lnTo>
                        <a:pt x="134" y="14"/>
                      </a:lnTo>
                      <a:lnTo>
                        <a:pt x="14" y="64"/>
                      </a:lnTo>
                      <a:lnTo>
                        <a:pt x="0" y="48"/>
                      </a:lnTo>
                      <a:lnTo>
                        <a:pt x="1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28"/>
                <p:cNvSpPr/>
                <p:nvPr/>
              </p:nvSpPr>
              <p:spPr>
                <a:xfrm>
                  <a:off x="861480" y="749160"/>
                  <a:ext cx="52920" cy="35208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352080"/>
                    <a:gd name="textAreaBottom" fmla="*/ 352440 h 352080"/>
                  </a:gdLst>
                  <a:ahLst/>
                  <a:rect l="textAreaLeft" t="textAreaTop" r="textAreaRight" b="textAreaBottom"/>
                  <a:pathLst>
                    <a:path w="22" h="146">
                      <a:moveTo>
                        <a:pt x="0" y="0"/>
                      </a:moveTo>
                      <a:lnTo>
                        <a:pt x="14" y="16"/>
                      </a:lnTo>
                      <a:lnTo>
                        <a:pt x="22" y="146"/>
                      </a:lnTo>
                      <a:lnTo>
                        <a:pt x="8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29"/>
                <p:cNvSpPr/>
                <p:nvPr/>
              </p:nvSpPr>
              <p:spPr>
                <a:xfrm>
                  <a:off x="352440" y="247680"/>
                  <a:ext cx="799200" cy="820080"/>
                </a:xfrm>
                <a:custGeom>
                  <a:avLst/>
                  <a:gdLst>
                    <a:gd name="textAreaLeft" fmla="*/ 0 w 799200"/>
                    <a:gd name="textAreaRight" fmla="*/ 799560 w 799200"/>
                    <a:gd name="textAreaTop" fmla="*/ 0 h 820080"/>
                    <a:gd name="textAreaBottom" fmla="*/ 820440 h 820080"/>
                  </a:gdLst>
                  <a:ahLst/>
                  <a:rect l="textAreaLeft" t="textAreaTop" r="textAreaRight" b="textAreaBottom"/>
                  <a:pathLst>
                    <a:path w="331" h="340">
                      <a:moveTo>
                        <a:pt x="14" y="290"/>
                      </a:moveTo>
                      <a:lnTo>
                        <a:pt x="85" y="180"/>
                      </a:lnTo>
                      <a:lnTo>
                        <a:pt x="0" y="80"/>
                      </a:lnTo>
                      <a:lnTo>
                        <a:pt x="129" y="110"/>
                      </a:lnTo>
                      <a:lnTo>
                        <a:pt x="199" y="0"/>
                      </a:lnTo>
                      <a:lnTo>
                        <a:pt x="207" y="128"/>
                      </a:lnTo>
                      <a:lnTo>
                        <a:pt x="331" y="160"/>
                      </a:lnTo>
                      <a:lnTo>
                        <a:pt x="211" y="208"/>
                      </a:lnTo>
                      <a:lnTo>
                        <a:pt x="219" y="340"/>
                      </a:lnTo>
                      <a:lnTo>
                        <a:pt x="135" y="240"/>
                      </a:lnTo>
                      <a:lnTo>
                        <a:pt x="14" y="29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2c2c2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9" name="Freeform 30"/>
              <p:cNvSpPr/>
              <p:nvPr/>
            </p:nvSpPr>
            <p:spPr>
              <a:xfrm>
                <a:off x="333360" y="73800"/>
                <a:ext cx="862200" cy="29916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178" h="62">
                    <a:moveTo>
                      <a:pt x="171" y="54"/>
                    </a:moveTo>
                    <a:cubicBezTo>
                      <a:pt x="178" y="62"/>
                      <a:pt x="178" y="62"/>
                      <a:pt x="178" y="62"/>
                    </a:cubicBezTo>
                    <a:cubicBezTo>
                      <a:pt x="137" y="14"/>
                      <a:pt x="65" y="8"/>
                      <a:pt x="16" y="49"/>
                    </a:cubicBezTo>
                    <a:cubicBezTo>
                      <a:pt x="13" y="52"/>
                      <a:pt x="10" y="54"/>
                      <a:pt x="7" y="57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3" y="47"/>
                      <a:pt x="6" y="44"/>
                      <a:pt x="9" y="41"/>
                    </a:cubicBezTo>
                    <a:cubicBezTo>
                      <a:pt x="58" y="0"/>
                      <a:pt x="131" y="6"/>
                      <a:pt x="171" y="54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1"/>
              <p:cNvSpPr/>
              <p:nvPr/>
            </p:nvSpPr>
            <p:spPr>
              <a:xfrm>
                <a:off x="275040" y="310320"/>
                <a:ext cx="91440" cy="1159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2" y="0"/>
                    </a:moveTo>
                    <a:cubicBezTo>
                      <a:pt x="19" y="8"/>
                      <a:pt x="19" y="8"/>
                      <a:pt x="19" y="8"/>
                    </a:cubicBezTo>
                    <a:cubicBezTo>
                      <a:pt x="14" y="13"/>
                      <a:pt x="10" y="18"/>
                      <a:pt x="6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4" y="11"/>
                      <a:pt x="8" y="5"/>
                      <a:pt x="12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2"/>
              <p:cNvSpPr/>
              <p:nvPr/>
            </p:nvSpPr>
            <p:spPr>
              <a:xfrm>
                <a:off x="231480" y="387360"/>
                <a:ext cx="72720" cy="10584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9" y="0"/>
                    </a:moveTo>
                    <a:cubicBezTo>
                      <a:pt x="15" y="8"/>
                      <a:pt x="15" y="8"/>
                      <a:pt x="15" y="8"/>
                    </a:cubicBezTo>
                    <a:cubicBezTo>
                      <a:pt x="12" y="13"/>
                      <a:pt x="9" y="17"/>
                      <a:pt x="7" y="22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" y="10"/>
                      <a:pt x="6" y="5"/>
                      <a:pt x="9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3"/>
              <p:cNvSpPr/>
              <p:nvPr/>
            </p:nvSpPr>
            <p:spPr>
              <a:xfrm>
                <a:off x="202680" y="460080"/>
                <a:ext cx="62280" cy="1058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3" h="22">
                    <a:moveTo>
                      <a:pt x="6" y="0"/>
                    </a:moveTo>
                    <a:cubicBezTo>
                      <a:pt x="13" y="7"/>
                      <a:pt x="13" y="7"/>
                      <a:pt x="13" y="7"/>
                    </a:cubicBezTo>
                    <a:cubicBezTo>
                      <a:pt x="10" y="12"/>
                      <a:pt x="8" y="17"/>
                      <a:pt x="7" y="22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2" y="10"/>
                      <a:pt x="4" y="5"/>
                      <a:pt x="6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4"/>
              <p:cNvSpPr/>
              <p:nvPr/>
            </p:nvSpPr>
            <p:spPr>
              <a:xfrm>
                <a:off x="183240" y="532440"/>
                <a:ext cx="52920" cy="115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1" h="24">
                    <a:moveTo>
                      <a:pt x="4" y="0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9" y="13"/>
                      <a:pt x="8" y="18"/>
                      <a:pt x="7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0"/>
                      <a:pt x="3" y="5"/>
                      <a:pt x="4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5"/>
              <p:cNvSpPr/>
              <p:nvPr/>
            </p:nvSpPr>
            <p:spPr>
              <a:xfrm>
                <a:off x="178200" y="609840"/>
                <a:ext cx="38880" cy="12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8" h="27">
                    <a:moveTo>
                      <a:pt x="1" y="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7" y="14"/>
                      <a:pt x="6" y="20"/>
                      <a:pt x="6" y="27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3"/>
                      <a:pt x="0" y="6"/>
                      <a:pt x="1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6"/>
              <p:cNvSpPr/>
              <p:nvPr/>
            </p:nvSpPr>
            <p:spPr>
              <a:xfrm>
                <a:off x="178200" y="701640"/>
                <a:ext cx="48600" cy="1832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10" h="38">
                    <a:moveTo>
                      <a:pt x="0" y="0"/>
                    </a:moveTo>
                    <a:cubicBezTo>
                      <a:pt x="6" y="8"/>
                      <a:pt x="6" y="8"/>
                      <a:pt x="6" y="8"/>
                    </a:cubicBezTo>
                    <a:cubicBezTo>
                      <a:pt x="6" y="18"/>
                      <a:pt x="7" y="28"/>
                      <a:pt x="10" y="38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1" y="20"/>
                      <a:pt x="0" y="10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7"/>
              <p:cNvSpPr/>
              <p:nvPr/>
            </p:nvSpPr>
            <p:spPr>
              <a:xfrm>
                <a:off x="198000" y="846000"/>
                <a:ext cx="96120" cy="1882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20" h="39">
                    <a:moveTo>
                      <a:pt x="0" y="0"/>
                    </a:moveTo>
                    <a:cubicBezTo>
                      <a:pt x="6" y="8"/>
                      <a:pt x="6" y="8"/>
                      <a:pt x="6" y="8"/>
                    </a:cubicBezTo>
                    <a:cubicBezTo>
                      <a:pt x="9" y="19"/>
                      <a:pt x="14" y="29"/>
                      <a:pt x="20" y="39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7" y="21"/>
                      <a:pt x="2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8"/>
              <p:cNvSpPr/>
              <p:nvPr/>
            </p:nvSpPr>
            <p:spPr>
              <a:xfrm>
                <a:off x="260280" y="996120"/>
                <a:ext cx="77040" cy="96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9" y="12"/>
                      <a:pt x="12" y="16"/>
                      <a:pt x="16" y="20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6" y="8"/>
                      <a:pt x="3" y="4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9"/>
              <p:cNvSpPr/>
              <p:nvPr/>
            </p:nvSpPr>
            <p:spPr>
              <a:xfrm>
                <a:off x="1219680" y="291240"/>
                <a:ext cx="77040" cy="1011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0" y="0"/>
                    </a:moveTo>
                    <a:cubicBezTo>
                      <a:pt x="6" y="7"/>
                      <a:pt x="6" y="7"/>
                      <a:pt x="6" y="7"/>
                    </a:cubicBezTo>
                    <a:cubicBezTo>
                      <a:pt x="10" y="12"/>
                      <a:pt x="13" y="16"/>
                      <a:pt x="16" y="21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7" y="8"/>
                      <a:pt x="3" y="4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0"/>
              <p:cNvSpPr/>
              <p:nvPr/>
            </p:nvSpPr>
            <p:spPr>
              <a:xfrm>
                <a:off x="1262880" y="353880"/>
                <a:ext cx="110880" cy="2073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23" h="43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4" y="19"/>
                      <a:pt x="19" y="31"/>
                      <a:pt x="23" y="43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3" y="23"/>
                      <a:pt x="8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1"/>
              <p:cNvSpPr/>
              <p:nvPr/>
            </p:nvSpPr>
            <p:spPr>
              <a:xfrm>
                <a:off x="1340280" y="522720"/>
                <a:ext cx="52920" cy="2030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1" h="42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0" y="19"/>
                      <a:pt x="11" y="30"/>
                      <a:pt x="11" y="42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5" y="22"/>
                      <a:pt x="3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2"/>
              <p:cNvSpPr/>
              <p:nvPr/>
            </p:nvSpPr>
            <p:spPr>
              <a:xfrm>
                <a:off x="1355040" y="686880"/>
                <a:ext cx="38160" cy="140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8" h="29">
                    <a:moveTo>
                      <a:pt x="1" y="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8" y="15"/>
                      <a:pt x="7" y="22"/>
                      <a:pt x="6" y="29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1" y="14"/>
                      <a:pt x="1" y="7"/>
                      <a:pt x="1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3"/>
              <p:cNvSpPr/>
              <p:nvPr/>
            </p:nvSpPr>
            <p:spPr>
              <a:xfrm>
                <a:off x="1330920" y="793080"/>
                <a:ext cx="52920" cy="125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1" h="26">
                    <a:moveTo>
                      <a:pt x="5" y="0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0" y="14"/>
                      <a:pt x="9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" y="12"/>
                      <a:pt x="4" y="6"/>
                      <a:pt x="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4"/>
              <p:cNvSpPr/>
              <p:nvPr/>
            </p:nvSpPr>
            <p:spPr>
              <a:xfrm>
                <a:off x="1296720" y="880200"/>
                <a:ext cx="67680" cy="1202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7" y="0"/>
                    </a:moveTo>
                    <a:cubicBezTo>
                      <a:pt x="14" y="8"/>
                      <a:pt x="14" y="8"/>
                      <a:pt x="14" y="8"/>
                    </a:cubicBezTo>
                    <a:cubicBezTo>
                      <a:pt x="12" y="13"/>
                      <a:pt x="10" y="19"/>
                      <a:pt x="7" y="25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3" y="11"/>
                      <a:pt x="5" y="6"/>
                      <a:pt x="7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5"/>
              <p:cNvSpPr/>
              <p:nvPr/>
            </p:nvSpPr>
            <p:spPr>
              <a:xfrm>
                <a:off x="1253520" y="962280"/>
                <a:ext cx="77040" cy="115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9" y="0"/>
                    </a:moveTo>
                    <a:cubicBezTo>
                      <a:pt x="16" y="8"/>
                      <a:pt x="16" y="8"/>
                      <a:pt x="16" y="8"/>
                    </a:cubicBezTo>
                    <a:cubicBezTo>
                      <a:pt x="13" y="13"/>
                      <a:pt x="10" y="19"/>
                      <a:pt x="6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3" y="11"/>
                      <a:pt x="7" y="5"/>
                      <a:pt x="9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6"/>
              <p:cNvSpPr/>
              <p:nvPr/>
            </p:nvSpPr>
            <p:spPr>
              <a:xfrm>
                <a:off x="1180800" y="1039320"/>
                <a:ext cx="101880" cy="1252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1" h="26">
                    <a:moveTo>
                      <a:pt x="15" y="0"/>
                    </a:moveTo>
                    <a:cubicBezTo>
                      <a:pt x="21" y="8"/>
                      <a:pt x="21" y="8"/>
                      <a:pt x="21" y="8"/>
                    </a:cubicBezTo>
                    <a:cubicBezTo>
                      <a:pt x="17" y="14"/>
                      <a:pt x="12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6" y="12"/>
                      <a:pt x="11" y="6"/>
                      <a:pt x="1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7"/>
              <p:cNvSpPr/>
              <p:nvPr/>
            </p:nvSpPr>
            <p:spPr>
              <a:xfrm>
                <a:off x="250920" y="1102320"/>
                <a:ext cx="963360" cy="327600"/>
              </a:xfrm>
              <a:custGeom>
                <a:avLst/>
                <a:gdLst>
                  <a:gd name="textAreaLeft" fmla="*/ 0 w 963360"/>
                  <a:gd name="textAreaRight" fmla="*/ 963720 w 963360"/>
                  <a:gd name="textAreaTop" fmla="*/ 0 h 327600"/>
                  <a:gd name="textAreaBottom" fmla="*/ 327960 h 327600"/>
                </a:gdLst>
                <a:ahLst/>
                <a:rect l="textAreaLeft" t="textAreaTop" r="textAreaRight" b="textAreaBottom"/>
                <a:pathLst>
                  <a:path w="199" h="68">
                    <a:moveTo>
                      <a:pt x="192" y="5"/>
                    </a:moveTo>
                    <a:cubicBezTo>
                      <a:pt x="199" y="13"/>
                      <a:pt x="199" y="13"/>
                      <a:pt x="199" y="13"/>
                    </a:cubicBezTo>
                    <a:cubicBezTo>
                      <a:pt x="196" y="16"/>
                      <a:pt x="192" y="19"/>
                      <a:pt x="189" y="22"/>
                    </a:cubicBezTo>
                    <a:cubicBezTo>
                      <a:pt x="134" y="68"/>
                      <a:pt x="52" y="62"/>
                      <a:pt x="6" y="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5" y="54"/>
                      <a:pt x="127" y="60"/>
                      <a:pt x="182" y="14"/>
                    </a:cubicBezTo>
                    <a:cubicBezTo>
                      <a:pt x="186" y="11"/>
                      <a:pt x="189" y="8"/>
                      <a:pt x="192" y="5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8"/>
              <p:cNvSpPr/>
              <p:nvPr/>
            </p:nvSpPr>
            <p:spPr>
              <a:xfrm>
                <a:off x="28800" y="-3240"/>
                <a:ext cx="1408320" cy="1395360"/>
              </a:xfrm>
              <a:custGeom>
                <a:avLst/>
                <a:gdLst>
                  <a:gd name="textAreaLeft" fmla="*/ 0 w 1408320"/>
                  <a:gd name="textAreaRight" fmla="*/ 1408680 w 1408320"/>
                  <a:gd name="textAreaTop" fmla="*/ 0 h 1395360"/>
                  <a:gd name="textAreaBottom" fmla="*/ 1395720 h 1395360"/>
                </a:gdLst>
                <a:ahLst/>
                <a:rect l="textAreaLeft" t="textAreaTop" r="textAreaRight" b="textAreaBottom"/>
                <a:pathLst>
                  <a:path w="291" h="289">
                    <a:moveTo>
                      <a:pt x="46" y="229"/>
                    </a:moveTo>
                    <a:cubicBezTo>
                      <a:pt x="0" y="174"/>
                      <a:pt x="8" y="92"/>
                      <a:pt x="63" y="46"/>
                    </a:cubicBezTo>
                    <a:cubicBezTo>
                      <a:pt x="118" y="0"/>
                      <a:pt x="200" y="6"/>
                      <a:pt x="246" y="61"/>
                    </a:cubicBezTo>
                    <a:cubicBezTo>
                      <a:pt x="291" y="115"/>
                      <a:pt x="284" y="197"/>
                      <a:pt x="228" y="243"/>
                    </a:cubicBezTo>
                    <a:cubicBezTo>
                      <a:pt x="173" y="289"/>
                      <a:pt x="91" y="283"/>
                      <a:pt x="46" y="229"/>
                    </a:cubicBezTo>
                    <a:close/>
                    <a:moveTo>
                      <a:pt x="234" y="70"/>
                    </a:moveTo>
                    <a:cubicBezTo>
                      <a:pt x="194" y="22"/>
                      <a:pt x="121" y="16"/>
                      <a:pt x="72" y="57"/>
                    </a:cubicBezTo>
                    <a:cubicBezTo>
                      <a:pt x="23" y="98"/>
                      <a:pt x="17" y="171"/>
                      <a:pt x="57" y="219"/>
                    </a:cubicBezTo>
                    <a:cubicBezTo>
                      <a:pt x="97" y="267"/>
                      <a:pt x="170" y="273"/>
                      <a:pt x="219" y="232"/>
                    </a:cubicBezTo>
                    <a:cubicBezTo>
                      <a:pt x="268" y="191"/>
                      <a:pt x="275" y="118"/>
                      <a:pt x="234" y="70"/>
                    </a:cubicBezTo>
                  </a:path>
                </a:pathLst>
              </a:custGeom>
              <a:gradFill rotWithShape="0">
                <a:gsLst>
                  <a:gs pos="0">
                    <a:srgbClr val="e01c1e"/>
                  </a:gs>
                  <a:gs pos="100000">
                    <a:srgbClr val="c0181a"/>
                  </a:gs>
                </a:gsLst>
                <a:lin ang="5400000"/>
              </a:gradFill>
              <a:ln w="3240">
                <a:solidFill>
                  <a:srgbClr val="d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31640" y="189000"/>
            <a:ext cx="70722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个人资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37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性别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生日期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毕业学校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毕业专业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话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性格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4"/>
          <p:cNvGrpSpPr/>
          <p:nvPr/>
        </p:nvGrpSpPr>
        <p:grpSpPr>
          <a:xfrm>
            <a:off x="958680" y="-2440080"/>
            <a:ext cx="7934400" cy="3707280"/>
            <a:chOff x="958680" y="-2440080"/>
            <a:chExt cx="7934400" cy="3707280"/>
          </a:xfrm>
        </p:grpSpPr>
        <p:pic>
          <p:nvPicPr>
            <p:cNvPr id="681" name="Picture 5" descr="usa bar shadow"/>
            <p:cNvPicPr/>
            <p:nvPr/>
          </p:nvPicPr>
          <p:blipFill>
            <a:blip r:embed="rId1"/>
            <a:srcRect l="8687" t="23734" r="8117" b="61836"/>
            <a:stretch/>
          </p:blipFill>
          <p:spPr>
            <a:xfrm>
              <a:off x="1245960" y="-2440080"/>
              <a:ext cx="7647120" cy="162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2" name="Group 6"/>
            <p:cNvGrpSpPr/>
            <p:nvPr/>
          </p:nvGrpSpPr>
          <p:grpSpPr>
            <a:xfrm>
              <a:off x="958680" y="-1315440"/>
              <a:ext cx="7278840" cy="2582640"/>
              <a:chOff x="958680" y="-1315440"/>
              <a:chExt cx="7278840" cy="2582640"/>
            </a:xfrm>
          </p:grpSpPr>
          <p:sp>
            <p:nvSpPr>
              <p:cNvPr id="683" name="Freeform 7"/>
              <p:cNvSpPr/>
              <p:nvPr/>
            </p:nvSpPr>
            <p:spPr>
              <a:xfrm>
                <a:off x="958680" y="285120"/>
                <a:ext cx="7278840" cy="982080"/>
              </a:xfrm>
              <a:custGeom>
                <a:avLst/>
                <a:gdLst>
                  <a:gd name="textAreaLeft" fmla="*/ 0 w 7278840"/>
                  <a:gd name="textAreaRight" fmla="*/ 7279200 w 7278840"/>
                  <a:gd name="textAreaTop" fmla="*/ 0 h 982080"/>
                  <a:gd name="textAreaBottom" fmla="*/ 982440 h 982080"/>
                </a:gdLst>
                <a:ahLst/>
                <a:rect l="textAreaLeft" t="textAreaTop" r="textAreaRight" b="textAreaBottom"/>
                <a:pathLst>
                  <a:path w="2288" h="190">
                    <a:moveTo>
                      <a:pt x="2141" y="0"/>
                    </a:moveTo>
                    <a:cubicBezTo>
                      <a:pt x="77" y="0"/>
                      <a:pt x="77" y="0"/>
                      <a:pt x="77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137"/>
                      <a:pt x="0" y="137"/>
                      <a:pt x="0" y="137"/>
                    </a:cubicBezTo>
                    <a:cubicBezTo>
                      <a:pt x="0" y="190"/>
                      <a:pt x="0" y="190"/>
                      <a:pt x="0" y="190"/>
                    </a:cubicBezTo>
                    <a:cubicBezTo>
                      <a:pt x="2288" y="190"/>
                      <a:pt x="2288" y="190"/>
                      <a:pt x="2288" y="190"/>
                    </a:cubicBezTo>
                    <a:cubicBezTo>
                      <a:pt x="2252" y="127"/>
                      <a:pt x="2209" y="69"/>
                      <a:pt x="2160" y="20"/>
                    </a:cubicBezTo>
                    <a:cubicBezTo>
                      <a:pt x="2154" y="13"/>
                      <a:pt x="2147" y="7"/>
                      <a:pt x="214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70"/>
                  </a:gs>
                  <a:gs pos="100000">
                    <a:srgbClr val="0010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8"/>
              <p:cNvSpPr/>
              <p:nvPr/>
            </p:nvSpPr>
            <p:spPr>
              <a:xfrm>
                <a:off x="1076040" y="-1315440"/>
                <a:ext cx="7037640" cy="832680"/>
              </a:xfrm>
              <a:custGeom>
                <a:avLst/>
                <a:gdLst>
                  <a:gd name="textAreaLeft" fmla="*/ 0 w 7037640"/>
                  <a:gd name="textAreaRight" fmla="*/ 7038000 w 7037640"/>
                  <a:gd name="textAreaTop" fmla="*/ 0 h 832680"/>
                  <a:gd name="textAreaBottom" fmla="*/ 833040 h 832680"/>
                </a:gdLst>
                <a:ahLst/>
                <a:rect l="textAreaLeft" t="textAreaTop" r="textAreaRight" b="textAreaBottom"/>
                <a:pathLst>
                  <a:path w="2212" h="161">
                    <a:moveTo>
                      <a:pt x="2009" y="39"/>
                    </a:moveTo>
                    <a:cubicBezTo>
                      <a:pt x="2050" y="45"/>
                      <a:pt x="2117" y="47"/>
                      <a:pt x="2212" y="93"/>
                    </a:cubicBezTo>
                    <a:cubicBezTo>
                      <a:pt x="2191" y="66"/>
                      <a:pt x="2169" y="41"/>
                      <a:pt x="2146" y="17"/>
                    </a:cubicBezTo>
                    <a:cubicBezTo>
                      <a:pt x="2141" y="12"/>
                      <a:pt x="2135" y="6"/>
                      <a:pt x="212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61"/>
                      <a:pt x="0" y="161"/>
                      <a:pt x="0" y="161"/>
                    </a:cubicBezTo>
                    <a:cubicBezTo>
                      <a:pt x="223" y="153"/>
                      <a:pt x="438" y="124"/>
                      <a:pt x="529" y="110"/>
                    </a:cubicBezTo>
                    <a:cubicBezTo>
                      <a:pt x="977" y="39"/>
                      <a:pt x="1814" y="7"/>
                      <a:pt x="2009" y="3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7254"/>
                    </a:srgbClr>
                  </a:gs>
                  <a:gs pos="100000">
                    <a:srgbClr val="767676">
                      <a:alpha val="1333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5" name="Group 9"/>
          <p:cNvGrpSpPr/>
          <p:nvPr/>
        </p:nvGrpSpPr>
        <p:grpSpPr>
          <a:xfrm>
            <a:off x="0" y="-3240"/>
            <a:ext cx="1618920" cy="1518480"/>
            <a:chOff x="0" y="-3240"/>
            <a:chExt cx="1618920" cy="1518480"/>
          </a:xfrm>
        </p:grpSpPr>
        <p:pic>
          <p:nvPicPr>
            <p:cNvPr id="686" name="Picture 10" descr="usa star shadow"/>
            <p:cNvPicPr/>
            <p:nvPr/>
          </p:nvPicPr>
          <p:blipFill>
            <a:blip r:embed="rId2"/>
            <a:srcRect l="44856" t="43396" r="43575" b="42198"/>
            <a:stretch/>
          </p:blipFill>
          <p:spPr>
            <a:xfrm>
              <a:off x="0" y="3600"/>
              <a:ext cx="1618920" cy="151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7" name="Group 11"/>
            <p:cNvGrpSpPr/>
            <p:nvPr/>
          </p:nvGrpSpPr>
          <p:grpSpPr>
            <a:xfrm>
              <a:off x="28800" y="-3240"/>
              <a:ext cx="1408320" cy="1433160"/>
              <a:chOff x="28800" y="-3240"/>
              <a:chExt cx="1408320" cy="1433160"/>
            </a:xfrm>
          </p:grpSpPr>
          <p:sp>
            <p:nvSpPr>
              <p:cNvPr id="688" name="Freeform 12"/>
              <p:cNvSpPr/>
              <p:nvPr/>
            </p:nvSpPr>
            <p:spPr>
              <a:xfrm>
                <a:off x="1219680" y="291240"/>
                <a:ext cx="77040" cy="1011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0" y="0"/>
                    </a:moveTo>
                    <a:cubicBezTo>
                      <a:pt x="6" y="7"/>
                      <a:pt x="6" y="7"/>
                      <a:pt x="6" y="7"/>
                    </a:cubicBezTo>
                    <a:cubicBezTo>
                      <a:pt x="10" y="12"/>
                      <a:pt x="13" y="16"/>
                      <a:pt x="16" y="21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7" y="8"/>
                      <a:pt x="3" y="4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3"/>
              <p:cNvSpPr/>
              <p:nvPr/>
            </p:nvSpPr>
            <p:spPr>
              <a:xfrm>
                <a:off x="1262880" y="353880"/>
                <a:ext cx="110880" cy="2073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23" h="43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4" y="19"/>
                      <a:pt x="19" y="31"/>
                      <a:pt x="23" y="43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3" y="23"/>
                      <a:pt x="8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4"/>
              <p:cNvSpPr/>
              <p:nvPr/>
            </p:nvSpPr>
            <p:spPr>
              <a:xfrm>
                <a:off x="1340280" y="522720"/>
                <a:ext cx="52920" cy="2030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1" h="42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0" y="19"/>
                      <a:pt x="11" y="30"/>
                      <a:pt x="11" y="42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5" y="22"/>
                      <a:pt x="3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5"/>
              <p:cNvSpPr/>
              <p:nvPr/>
            </p:nvSpPr>
            <p:spPr>
              <a:xfrm>
                <a:off x="1355040" y="686880"/>
                <a:ext cx="38160" cy="140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8" h="29">
                    <a:moveTo>
                      <a:pt x="1" y="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8" y="15"/>
                      <a:pt x="7" y="22"/>
                      <a:pt x="6" y="29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1" y="14"/>
                      <a:pt x="1" y="7"/>
                      <a:pt x="1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6"/>
              <p:cNvSpPr/>
              <p:nvPr/>
            </p:nvSpPr>
            <p:spPr>
              <a:xfrm>
                <a:off x="1330920" y="793080"/>
                <a:ext cx="52920" cy="125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1" h="26">
                    <a:moveTo>
                      <a:pt x="5" y="0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0" y="14"/>
                      <a:pt x="9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" y="12"/>
                      <a:pt x="4" y="6"/>
                      <a:pt x="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7"/>
              <p:cNvSpPr/>
              <p:nvPr/>
            </p:nvSpPr>
            <p:spPr>
              <a:xfrm>
                <a:off x="1296720" y="880200"/>
                <a:ext cx="67680" cy="1202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7" y="0"/>
                    </a:moveTo>
                    <a:cubicBezTo>
                      <a:pt x="14" y="8"/>
                      <a:pt x="14" y="8"/>
                      <a:pt x="14" y="8"/>
                    </a:cubicBezTo>
                    <a:cubicBezTo>
                      <a:pt x="12" y="13"/>
                      <a:pt x="10" y="19"/>
                      <a:pt x="7" y="25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3" y="11"/>
                      <a:pt x="5" y="6"/>
                      <a:pt x="7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8"/>
              <p:cNvSpPr/>
              <p:nvPr/>
            </p:nvSpPr>
            <p:spPr>
              <a:xfrm>
                <a:off x="1253520" y="962280"/>
                <a:ext cx="77040" cy="115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9" y="0"/>
                    </a:moveTo>
                    <a:cubicBezTo>
                      <a:pt x="16" y="8"/>
                      <a:pt x="16" y="8"/>
                      <a:pt x="16" y="8"/>
                    </a:cubicBezTo>
                    <a:cubicBezTo>
                      <a:pt x="13" y="13"/>
                      <a:pt x="10" y="19"/>
                      <a:pt x="6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3" y="11"/>
                      <a:pt x="7" y="5"/>
                      <a:pt x="9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9"/>
              <p:cNvSpPr/>
              <p:nvPr/>
            </p:nvSpPr>
            <p:spPr>
              <a:xfrm>
                <a:off x="1180800" y="1039320"/>
                <a:ext cx="101880" cy="1252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1" h="26">
                    <a:moveTo>
                      <a:pt x="15" y="0"/>
                    </a:moveTo>
                    <a:cubicBezTo>
                      <a:pt x="21" y="8"/>
                      <a:pt x="21" y="8"/>
                      <a:pt x="21" y="8"/>
                    </a:cubicBezTo>
                    <a:cubicBezTo>
                      <a:pt x="17" y="14"/>
                      <a:pt x="12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6" y="12"/>
                      <a:pt x="11" y="6"/>
                      <a:pt x="1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20"/>
              <p:cNvSpPr/>
              <p:nvPr/>
            </p:nvSpPr>
            <p:spPr>
              <a:xfrm>
                <a:off x="250920" y="1102320"/>
                <a:ext cx="963360" cy="327600"/>
              </a:xfrm>
              <a:custGeom>
                <a:avLst/>
                <a:gdLst>
                  <a:gd name="textAreaLeft" fmla="*/ 0 w 963360"/>
                  <a:gd name="textAreaRight" fmla="*/ 963720 w 963360"/>
                  <a:gd name="textAreaTop" fmla="*/ 0 h 327600"/>
                  <a:gd name="textAreaBottom" fmla="*/ 327960 h 327600"/>
                </a:gdLst>
                <a:ahLst/>
                <a:rect l="textAreaLeft" t="textAreaTop" r="textAreaRight" b="textAreaBottom"/>
                <a:pathLst>
                  <a:path w="199" h="68">
                    <a:moveTo>
                      <a:pt x="192" y="5"/>
                    </a:moveTo>
                    <a:cubicBezTo>
                      <a:pt x="199" y="13"/>
                      <a:pt x="199" y="13"/>
                      <a:pt x="199" y="13"/>
                    </a:cubicBezTo>
                    <a:cubicBezTo>
                      <a:pt x="196" y="16"/>
                      <a:pt x="192" y="19"/>
                      <a:pt x="189" y="22"/>
                    </a:cubicBezTo>
                    <a:cubicBezTo>
                      <a:pt x="134" y="68"/>
                      <a:pt x="52" y="62"/>
                      <a:pt x="6" y="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5" y="54"/>
                      <a:pt x="127" y="60"/>
                      <a:pt x="182" y="14"/>
                    </a:cubicBezTo>
                    <a:cubicBezTo>
                      <a:pt x="186" y="11"/>
                      <a:pt x="189" y="8"/>
                      <a:pt x="192" y="5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21"/>
              <p:cNvSpPr/>
              <p:nvPr/>
            </p:nvSpPr>
            <p:spPr>
              <a:xfrm>
                <a:off x="28800" y="-3240"/>
                <a:ext cx="1408320" cy="1395360"/>
              </a:xfrm>
              <a:custGeom>
                <a:avLst/>
                <a:gdLst>
                  <a:gd name="textAreaLeft" fmla="*/ 0 w 1408320"/>
                  <a:gd name="textAreaRight" fmla="*/ 1408680 w 1408320"/>
                  <a:gd name="textAreaTop" fmla="*/ 0 h 1395360"/>
                  <a:gd name="textAreaBottom" fmla="*/ 1395720 h 1395360"/>
                </a:gdLst>
                <a:ahLst/>
                <a:rect l="textAreaLeft" t="textAreaTop" r="textAreaRight" b="textAreaBottom"/>
                <a:pathLst>
                  <a:path w="291" h="289">
                    <a:moveTo>
                      <a:pt x="46" y="229"/>
                    </a:moveTo>
                    <a:cubicBezTo>
                      <a:pt x="0" y="174"/>
                      <a:pt x="8" y="92"/>
                      <a:pt x="63" y="46"/>
                    </a:cubicBezTo>
                    <a:cubicBezTo>
                      <a:pt x="118" y="0"/>
                      <a:pt x="200" y="6"/>
                      <a:pt x="246" y="61"/>
                    </a:cubicBezTo>
                    <a:cubicBezTo>
                      <a:pt x="291" y="115"/>
                      <a:pt x="284" y="197"/>
                      <a:pt x="228" y="243"/>
                    </a:cubicBezTo>
                    <a:cubicBezTo>
                      <a:pt x="173" y="289"/>
                      <a:pt x="91" y="283"/>
                      <a:pt x="46" y="2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2556"/>
                  </a:gs>
                  <a:gs pos="100000">
                    <a:srgbClr val="00429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22"/>
              <p:cNvSpPr/>
              <p:nvPr/>
            </p:nvSpPr>
            <p:spPr>
              <a:xfrm>
                <a:off x="333360" y="102600"/>
                <a:ext cx="1011600" cy="979560"/>
              </a:xfrm>
              <a:custGeom>
                <a:avLst/>
                <a:gdLst>
                  <a:gd name="textAreaLeft" fmla="*/ 0 w 1011600"/>
                  <a:gd name="textAreaRight" fmla="*/ 1011960 w 1011600"/>
                  <a:gd name="textAreaTop" fmla="*/ 0 h 979560"/>
                  <a:gd name="textAreaBottom" fmla="*/ 979920 h 979560"/>
                </a:gdLst>
                <a:ahLst/>
                <a:rect l="textAreaLeft" t="textAreaTop" r="textAreaRight" b="textAreaBottom"/>
                <a:pathLst>
                  <a:path w="209" h="203">
                    <a:moveTo>
                      <a:pt x="95" y="98"/>
                    </a:moveTo>
                    <a:cubicBezTo>
                      <a:pt x="117" y="136"/>
                      <a:pt x="135" y="175"/>
                      <a:pt x="172" y="203"/>
                    </a:cubicBezTo>
                    <a:cubicBezTo>
                      <a:pt x="195" y="181"/>
                      <a:pt x="209" y="151"/>
                      <a:pt x="209" y="117"/>
                    </a:cubicBezTo>
                    <a:cubicBezTo>
                      <a:pt x="209" y="52"/>
                      <a:pt x="156" y="0"/>
                      <a:pt x="91" y="0"/>
                    </a:cubicBezTo>
                    <a:cubicBezTo>
                      <a:pt x="54" y="0"/>
                      <a:pt x="21" y="17"/>
                      <a:pt x="0" y="43"/>
                    </a:cubicBezTo>
                    <a:cubicBezTo>
                      <a:pt x="38" y="51"/>
                      <a:pt x="77" y="67"/>
                      <a:pt x="95" y="9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767676">
                      <a:alpha val="1333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23"/>
              <p:cNvSpPr/>
              <p:nvPr/>
            </p:nvSpPr>
            <p:spPr>
              <a:xfrm>
                <a:off x="678240" y="826920"/>
                <a:ext cx="236520" cy="27504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275040"/>
                  <a:gd name="textAreaBottom" fmla="*/ 275400 h 275040"/>
                </a:gdLst>
                <a:ahLst/>
                <a:rect l="textAreaLeft" t="textAreaTop" r="textAreaRight" b="textAreaBottom"/>
                <a:pathLst>
                  <a:path w="98" h="114">
                    <a:moveTo>
                      <a:pt x="84" y="100"/>
                    </a:moveTo>
                    <a:lnTo>
                      <a:pt x="0" y="0"/>
                    </a:lnTo>
                    <a:lnTo>
                      <a:pt x="14" y="16"/>
                    </a:lnTo>
                    <a:lnTo>
                      <a:pt x="98" y="114"/>
                    </a:lnTo>
                    <a:lnTo>
                      <a:pt x="84" y="100"/>
                    </a:lnTo>
                    <a:close/>
                  </a:path>
                </a:pathLst>
              </a:custGeom>
              <a:solidFill>
                <a:srgbClr val="006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0" name="Group 24"/>
              <p:cNvGrpSpPr/>
              <p:nvPr/>
            </p:nvGrpSpPr>
            <p:grpSpPr>
              <a:xfrm>
                <a:off x="352440" y="247680"/>
                <a:ext cx="832320" cy="853560"/>
                <a:chOff x="352440" y="247680"/>
                <a:chExt cx="832320" cy="853560"/>
              </a:xfrm>
            </p:grpSpPr>
            <p:sp>
              <p:nvSpPr>
                <p:cNvPr id="701" name="Freeform 25"/>
                <p:cNvSpPr/>
                <p:nvPr/>
              </p:nvSpPr>
              <p:spPr>
                <a:xfrm>
                  <a:off x="833040" y="247680"/>
                  <a:ext cx="47880" cy="3474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347400"/>
                    <a:gd name="textAreaBottom" fmla="*/ 347760 h 347400"/>
                  </a:gdLst>
                  <a:ahLst/>
                  <a:rect l="textAreaLeft" t="textAreaTop" r="textAreaRight" b="textAreaBottom"/>
                  <a:pathLst>
                    <a:path w="20" h="144">
                      <a:moveTo>
                        <a:pt x="0" y="0"/>
                      </a:moveTo>
                      <a:lnTo>
                        <a:pt x="12" y="16"/>
                      </a:lnTo>
                      <a:lnTo>
                        <a:pt x="20" y="144"/>
                      </a:lnTo>
                      <a:lnTo>
                        <a:pt x="8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26"/>
                <p:cNvSpPr/>
                <p:nvPr/>
              </p:nvSpPr>
              <p:spPr>
                <a:xfrm>
                  <a:off x="386280" y="826200"/>
                  <a:ext cx="325800" cy="159120"/>
                </a:xfrm>
                <a:custGeom>
                  <a:avLst/>
                  <a:gdLst>
                    <a:gd name="textAreaLeft" fmla="*/ 0 w 325800"/>
                    <a:gd name="textAreaRight" fmla="*/ 326160 w 325800"/>
                    <a:gd name="textAreaTop" fmla="*/ 0 h 159120"/>
                    <a:gd name="textAreaBottom" fmla="*/ 159480 h 159120"/>
                  </a:gdLst>
                  <a:ahLst/>
                  <a:rect l="textAreaLeft" t="textAreaTop" r="textAreaRight" b="textAreaBottom"/>
                  <a:pathLst>
                    <a:path w="135" h="66">
                      <a:moveTo>
                        <a:pt x="121" y="0"/>
                      </a:moveTo>
                      <a:lnTo>
                        <a:pt x="135" y="16"/>
                      </a:lnTo>
                      <a:lnTo>
                        <a:pt x="14" y="66"/>
                      </a:lnTo>
                      <a:lnTo>
                        <a:pt x="0" y="5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27"/>
                <p:cNvSpPr/>
                <p:nvPr/>
              </p:nvSpPr>
              <p:spPr>
                <a:xfrm>
                  <a:off x="861480" y="633960"/>
                  <a:ext cx="323280" cy="154080"/>
                </a:xfrm>
                <a:custGeom>
                  <a:avLst/>
                  <a:gdLst>
                    <a:gd name="textAreaLeft" fmla="*/ 0 w 323280"/>
                    <a:gd name="textAreaRight" fmla="*/ 323640 w 32328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134" h="64">
                      <a:moveTo>
                        <a:pt x="120" y="0"/>
                      </a:moveTo>
                      <a:lnTo>
                        <a:pt x="134" y="14"/>
                      </a:lnTo>
                      <a:lnTo>
                        <a:pt x="14" y="64"/>
                      </a:lnTo>
                      <a:lnTo>
                        <a:pt x="0" y="48"/>
                      </a:lnTo>
                      <a:lnTo>
                        <a:pt x="1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Freeform 28"/>
                <p:cNvSpPr/>
                <p:nvPr/>
              </p:nvSpPr>
              <p:spPr>
                <a:xfrm>
                  <a:off x="861480" y="749160"/>
                  <a:ext cx="52920" cy="35208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352080"/>
                    <a:gd name="textAreaBottom" fmla="*/ 352440 h 352080"/>
                  </a:gdLst>
                  <a:ahLst/>
                  <a:rect l="textAreaLeft" t="textAreaTop" r="textAreaRight" b="textAreaBottom"/>
                  <a:pathLst>
                    <a:path w="22" h="146">
                      <a:moveTo>
                        <a:pt x="0" y="0"/>
                      </a:moveTo>
                      <a:lnTo>
                        <a:pt x="14" y="16"/>
                      </a:lnTo>
                      <a:lnTo>
                        <a:pt x="22" y="146"/>
                      </a:lnTo>
                      <a:lnTo>
                        <a:pt x="8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29"/>
                <p:cNvSpPr/>
                <p:nvPr/>
              </p:nvSpPr>
              <p:spPr>
                <a:xfrm>
                  <a:off x="352440" y="247680"/>
                  <a:ext cx="799200" cy="820080"/>
                </a:xfrm>
                <a:custGeom>
                  <a:avLst/>
                  <a:gdLst>
                    <a:gd name="textAreaLeft" fmla="*/ 0 w 799200"/>
                    <a:gd name="textAreaRight" fmla="*/ 799560 w 799200"/>
                    <a:gd name="textAreaTop" fmla="*/ 0 h 820080"/>
                    <a:gd name="textAreaBottom" fmla="*/ 820440 h 820080"/>
                  </a:gdLst>
                  <a:ahLst/>
                  <a:rect l="textAreaLeft" t="textAreaTop" r="textAreaRight" b="textAreaBottom"/>
                  <a:pathLst>
                    <a:path w="331" h="340">
                      <a:moveTo>
                        <a:pt x="14" y="290"/>
                      </a:moveTo>
                      <a:lnTo>
                        <a:pt x="85" y="180"/>
                      </a:lnTo>
                      <a:lnTo>
                        <a:pt x="0" y="80"/>
                      </a:lnTo>
                      <a:lnTo>
                        <a:pt x="129" y="110"/>
                      </a:lnTo>
                      <a:lnTo>
                        <a:pt x="199" y="0"/>
                      </a:lnTo>
                      <a:lnTo>
                        <a:pt x="207" y="128"/>
                      </a:lnTo>
                      <a:lnTo>
                        <a:pt x="331" y="160"/>
                      </a:lnTo>
                      <a:lnTo>
                        <a:pt x="211" y="208"/>
                      </a:lnTo>
                      <a:lnTo>
                        <a:pt x="219" y="340"/>
                      </a:lnTo>
                      <a:lnTo>
                        <a:pt x="135" y="240"/>
                      </a:lnTo>
                      <a:lnTo>
                        <a:pt x="14" y="29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2c2c2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6" name="Freeform 30"/>
              <p:cNvSpPr/>
              <p:nvPr/>
            </p:nvSpPr>
            <p:spPr>
              <a:xfrm>
                <a:off x="333360" y="73800"/>
                <a:ext cx="862200" cy="29916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178" h="62">
                    <a:moveTo>
                      <a:pt x="171" y="54"/>
                    </a:moveTo>
                    <a:cubicBezTo>
                      <a:pt x="178" y="62"/>
                      <a:pt x="178" y="62"/>
                      <a:pt x="178" y="62"/>
                    </a:cubicBezTo>
                    <a:cubicBezTo>
                      <a:pt x="137" y="14"/>
                      <a:pt x="65" y="8"/>
                      <a:pt x="16" y="49"/>
                    </a:cubicBezTo>
                    <a:cubicBezTo>
                      <a:pt x="13" y="52"/>
                      <a:pt x="10" y="54"/>
                      <a:pt x="7" y="57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3" y="47"/>
                      <a:pt x="6" y="44"/>
                      <a:pt x="9" y="41"/>
                    </a:cubicBezTo>
                    <a:cubicBezTo>
                      <a:pt x="58" y="0"/>
                      <a:pt x="131" y="6"/>
                      <a:pt x="171" y="54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1"/>
              <p:cNvSpPr/>
              <p:nvPr/>
            </p:nvSpPr>
            <p:spPr>
              <a:xfrm>
                <a:off x="275040" y="310320"/>
                <a:ext cx="91440" cy="1159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2" y="0"/>
                    </a:moveTo>
                    <a:cubicBezTo>
                      <a:pt x="19" y="8"/>
                      <a:pt x="19" y="8"/>
                      <a:pt x="19" y="8"/>
                    </a:cubicBezTo>
                    <a:cubicBezTo>
                      <a:pt x="14" y="13"/>
                      <a:pt x="10" y="18"/>
                      <a:pt x="6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4" y="11"/>
                      <a:pt x="8" y="5"/>
                      <a:pt x="12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2"/>
              <p:cNvSpPr/>
              <p:nvPr/>
            </p:nvSpPr>
            <p:spPr>
              <a:xfrm>
                <a:off x="231480" y="387360"/>
                <a:ext cx="72720" cy="10584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9" y="0"/>
                    </a:moveTo>
                    <a:cubicBezTo>
                      <a:pt x="15" y="8"/>
                      <a:pt x="15" y="8"/>
                      <a:pt x="15" y="8"/>
                    </a:cubicBezTo>
                    <a:cubicBezTo>
                      <a:pt x="12" y="13"/>
                      <a:pt x="9" y="17"/>
                      <a:pt x="7" y="22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" y="10"/>
                      <a:pt x="6" y="5"/>
                      <a:pt x="9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3"/>
              <p:cNvSpPr/>
              <p:nvPr/>
            </p:nvSpPr>
            <p:spPr>
              <a:xfrm>
                <a:off x="202680" y="460080"/>
                <a:ext cx="62280" cy="1058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3" h="22">
                    <a:moveTo>
                      <a:pt x="6" y="0"/>
                    </a:moveTo>
                    <a:cubicBezTo>
                      <a:pt x="13" y="7"/>
                      <a:pt x="13" y="7"/>
                      <a:pt x="13" y="7"/>
                    </a:cubicBezTo>
                    <a:cubicBezTo>
                      <a:pt x="10" y="12"/>
                      <a:pt x="8" y="17"/>
                      <a:pt x="7" y="22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2" y="10"/>
                      <a:pt x="4" y="5"/>
                      <a:pt x="6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4"/>
              <p:cNvSpPr/>
              <p:nvPr/>
            </p:nvSpPr>
            <p:spPr>
              <a:xfrm>
                <a:off x="183240" y="532440"/>
                <a:ext cx="52920" cy="115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1" h="24">
                    <a:moveTo>
                      <a:pt x="4" y="0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9" y="13"/>
                      <a:pt x="8" y="18"/>
                      <a:pt x="7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0"/>
                      <a:pt x="3" y="5"/>
                      <a:pt x="4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5"/>
              <p:cNvSpPr/>
              <p:nvPr/>
            </p:nvSpPr>
            <p:spPr>
              <a:xfrm>
                <a:off x="178200" y="609840"/>
                <a:ext cx="38880" cy="12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8" h="27">
                    <a:moveTo>
                      <a:pt x="1" y="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7" y="14"/>
                      <a:pt x="6" y="20"/>
                      <a:pt x="6" y="27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3"/>
                      <a:pt x="0" y="6"/>
                      <a:pt x="1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6"/>
              <p:cNvSpPr/>
              <p:nvPr/>
            </p:nvSpPr>
            <p:spPr>
              <a:xfrm>
                <a:off x="178200" y="701640"/>
                <a:ext cx="48600" cy="1832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10" h="38">
                    <a:moveTo>
                      <a:pt x="0" y="0"/>
                    </a:moveTo>
                    <a:cubicBezTo>
                      <a:pt x="6" y="8"/>
                      <a:pt x="6" y="8"/>
                      <a:pt x="6" y="8"/>
                    </a:cubicBezTo>
                    <a:cubicBezTo>
                      <a:pt x="6" y="18"/>
                      <a:pt x="7" y="28"/>
                      <a:pt x="10" y="38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1" y="20"/>
                      <a:pt x="0" y="10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7"/>
              <p:cNvSpPr/>
              <p:nvPr/>
            </p:nvSpPr>
            <p:spPr>
              <a:xfrm>
                <a:off x="198000" y="846000"/>
                <a:ext cx="96120" cy="1882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20" h="39">
                    <a:moveTo>
                      <a:pt x="0" y="0"/>
                    </a:moveTo>
                    <a:cubicBezTo>
                      <a:pt x="6" y="8"/>
                      <a:pt x="6" y="8"/>
                      <a:pt x="6" y="8"/>
                    </a:cubicBezTo>
                    <a:cubicBezTo>
                      <a:pt x="9" y="19"/>
                      <a:pt x="14" y="29"/>
                      <a:pt x="20" y="39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7" y="21"/>
                      <a:pt x="2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8"/>
              <p:cNvSpPr/>
              <p:nvPr/>
            </p:nvSpPr>
            <p:spPr>
              <a:xfrm>
                <a:off x="260280" y="996120"/>
                <a:ext cx="77040" cy="96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9" y="12"/>
                      <a:pt x="12" y="16"/>
                      <a:pt x="16" y="20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6" y="8"/>
                      <a:pt x="3" y="4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9"/>
              <p:cNvSpPr/>
              <p:nvPr/>
            </p:nvSpPr>
            <p:spPr>
              <a:xfrm>
                <a:off x="1219680" y="291240"/>
                <a:ext cx="77040" cy="1011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0" y="0"/>
                    </a:moveTo>
                    <a:cubicBezTo>
                      <a:pt x="6" y="7"/>
                      <a:pt x="6" y="7"/>
                      <a:pt x="6" y="7"/>
                    </a:cubicBezTo>
                    <a:cubicBezTo>
                      <a:pt x="10" y="12"/>
                      <a:pt x="13" y="16"/>
                      <a:pt x="16" y="21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7" y="8"/>
                      <a:pt x="3" y="4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40"/>
              <p:cNvSpPr/>
              <p:nvPr/>
            </p:nvSpPr>
            <p:spPr>
              <a:xfrm>
                <a:off x="1262880" y="353880"/>
                <a:ext cx="110880" cy="2073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23" h="43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4" y="19"/>
                      <a:pt x="19" y="31"/>
                      <a:pt x="23" y="43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3" y="23"/>
                      <a:pt x="8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41"/>
              <p:cNvSpPr/>
              <p:nvPr/>
            </p:nvSpPr>
            <p:spPr>
              <a:xfrm>
                <a:off x="1340280" y="522720"/>
                <a:ext cx="52920" cy="2030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1" h="42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0" y="19"/>
                      <a:pt x="11" y="30"/>
                      <a:pt x="11" y="42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5" y="22"/>
                      <a:pt x="3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42"/>
              <p:cNvSpPr/>
              <p:nvPr/>
            </p:nvSpPr>
            <p:spPr>
              <a:xfrm>
                <a:off x="1355040" y="686880"/>
                <a:ext cx="38160" cy="140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8" h="29">
                    <a:moveTo>
                      <a:pt x="1" y="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8" y="15"/>
                      <a:pt x="7" y="22"/>
                      <a:pt x="6" y="29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1" y="14"/>
                      <a:pt x="1" y="7"/>
                      <a:pt x="1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43"/>
              <p:cNvSpPr/>
              <p:nvPr/>
            </p:nvSpPr>
            <p:spPr>
              <a:xfrm>
                <a:off x="1330920" y="793080"/>
                <a:ext cx="52920" cy="125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1" h="26">
                    <a:moveTo>
                      <a:pt x="5" y="0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0" y="14"/>
                      <a:pt x="9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" y="12"/>
                      <a:pt x="4" y="6"/>
                      <a:pt x="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44"/>
              <p:cNvSpPr/>
              <p:nvPr/>
            </p:nvSpPr>
            <p:spPr>
              <a:xfrm>
                <a:off x="1296720" y="880200"/>
                <a:ext cx="67680" cy="1202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7" y="0"/>
                    </a:moveTo>
                    <a:cubicBezTo>
                      <a:pt x="14" y="8"/>
                      <a:pt x="14" y="8"/>
                      <a:pt x="14" y="8"/>
                    </a:cubicBezTo>
                    <a:cubicBezTo>
                      <a:pt x="12" y="13"/>
                      <a:pt x="10" y="19"/>
                      <a:pt x="7" y="25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3" y="11"/>
                      <a:pt x="5" y="6"/>
                      <a:pt x="7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45"/>
              <p:cNvSpPr/>
              <p:nvPr/>
            </p:nvSpPr>
            <p:spPr>
              <a:xfrm>
                <a:off x="1253520" y="962280"/>
                <a:ext cx="77040" cy="115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9" y="0"/>
                    </a:moveTo>
                    <a:cubicBezTo>
                      <a:pt x="16" y="8"/>
                      <a:pt x="16" y="8"/>
                      <a:pt x="16" y="8"/>
                    </a:cubicBezTo>
                    <a:cubicBezTo>
                      <a:pt x="13" y="13"/>
                      <a:pt x="10" y="19"/>
                      <a:pt x="6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3" y="11"/>
                      <a:pt x="7" y="5"/>
                      <a:pt x="9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46"/>
              <p:cNvSpPr/>
              <p:nvPr/>
            </p:nvSpPr>
            <p:spPr>
              <a:xfrm>
                <a:off x="1180800" y="1039320"/>
                <a:ext cx="101880" cy="1252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1" h="26">
                    <a:moveTo>
                      <a:pt x="15" y="0"/>
                    </a:moveTo>
                    <a:cubicBezTo>
                      <a:pt x="21" y="8"/>
                      <a:pt x="21" y="8"/>
                      <a:pt x="21" y="8"/>
                    </a:cubicBezTo>
                    <a:cubicBezTo>
                      <a:pt x="17" y="14"/>
                      <a:pt x="12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6" y="12"/>
                      <a:pt x="11" y="6"/>
                      <a:pt x="1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47"/>
              <p:cNvSpPr/>
              <p:nvPr/>
            </p:nvSpPr>
            <p:spPr>
              <a:xfrm>
                <a:off x="250920" y="1102320"/>
                <a:ext cx="963360" cy="327600"/>
              </a:xfrm>
              <a:custGeom>
                <a:avLst/>
                <a:gdLst>
                  <a:gd name="textAreaLeft" fmla="*/ 0 w 963360"/>
                  <a:gd name="textAreaRight" fmla="*/ 963720 w 963360"/>
                  <a:gd name="textAreaTop" fmla="*/ 0 h 327600"/>
                  <a:gd name="textAreaBottom" fmla="*/ 327960 h 327600"/>
                </a:gdLst>
                <a:ahLst/>
                <a:rect l="textAreaLeft" t="textAreaTop" r="textAreaRight" b="textAreaBottom"/>
                <a:pathLst>
                  <a:path w="199" h="68">
                    <a:moveTo>
                      <a:pt x="192" y="5"/>
                    </a:moveTo>
                    <a:cubicBezTo>
                      <a:pt x="199" y="13"/>
                      <a:pt x="199" y="13"/>
                      <a:pt x="199" y="13"/>
                    </a:cubicBezTo>
                    <a:cubicBezTo>
                      <a:pt x="196" y="16"/>
                      <a:pt x="192" y="19"/>
                      <a:pt x="189" y="22"/>
                    </a:cubicBezTo>
                    <a:cubicBezTo>
                      <a:pt x="134" y="68"/>
                      <a:pt x="52" y="62"/>
                      <a:pt x="6" y="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5" y="54"/>
                      <a:pt x="127" y="60"/>
                      <a:pt x="182" y="14"/>
                    </a:cubicBezTo>
                    <a:cubicBezTo>
                      <a:pt x="186" y="11"/>
                      <a:pt x="189" y="8"/>
                      <a:pt x="192" y="5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48"/>
              <p:cNvSpPr/>
              <p:nvPr/>
            </p:nvSpPr>
            <p:spPr>
              <a:xfrm>
                <a:off x="28800" y="-3240"/>
                <a:ext cx="1408320" cy="1395360"/>
              </a:xfrm>
              <a:custGeom>
                <a:avLst/>
                <a:gdLst>
                  <a:gd name="textAreaLeft" fmla="*/ 0 w 1408320"/>
                  <a:gd name="textAreaRight" fmla="*/ 1408680 w 1408320"/>
                  <a:gd name="textAreaTop" fmla="*/ 0 h 1395360"/>
                  <a:gd name="textAreaBottom" fmla="*/ 1395720 h 1395360"/>
                </a:gdLst>
                <a:ahLst/>
                <a:rect l="textAreaLeft" t="textAreaTop" r="textAreaRight" b="textAreaBottom"/>
                <a:pathLst>
                  <a:path w="291" h="289">
                    <a:moveTo>
                      <a:pt x="46" y="229"/>
                    </a:moveTo>
                    <a:cubicBezTo>
                      <a:pt x="0" y="174"/>
                      <a:pt x="8" y="92"/>
                      <a:pt x="63" y="46"/>
                    </a:cubicBezTo>
                    <a:cubicBezTo>
                      <a:pt x="118" y="0"/>
                      <a:pt x="200" y="6"/>
                      <a:pt x="246" y="61"/>
                    </a:cubicBezTo>
                    <a:cubicBezTo>
                      <a:pt x="291" y="115"/>
                      <a:pt x="284" y="197"/>
                      <a:pt x="228" y="243"/>
                    </a:cubicBezTo>
                    <a:cubicBezTo>
                      <a:pt x="173" y="289"/>
                      <a:pt x="91" y="283"/>
                      <a:pt x="46" y="229"/>
                    </a:cubicBezTo>
                    <a:close/>
                    <a:moveTo>
                      <a:pt x="234" y="70"/>
                    </a:moveTo>
                    <a:cubicBezTo>
                      <a:pt x="194" y="22"/>
                      <a:pt x="121" y="16"/>
                      <a:pt x="72" y="57"/>
                    </a:cubicBezTo>
                    <a:cubicBezTo>
                      <a:pt x="23" y="98"/>
                      <a:pt x="17" y="171"/>
                      <a:pt x="57" y="219"/>
                    </a:cubicBezTo>
                    <a:cubicBezTo>
                      <a:pt x="97" y="267"/>
                      <a:pt x="170" y="273"/>
                      <a:pt x="219" y="232"/>
                    </a:cubicBezTo>
                    <a:cubicBezTo>
                      <a:pt x="268" y="191"/>
                      <a:pt x="275" y="118"/>
                      <a:pt x="234" y="70"/>
                    </a:cubicBezTo>
                  </a:path>
                </a:pathLst>
              </a:custGeom>
              <a:gradFill rotWithShape="0">
                <a:gsLst>
                  <a:gs pos="0">
                    <a:srgbClr val="e01c1e"/>
                  </a:gs>
                  <a:gs pos="100000">
                    <a:srgbClr val="c0181a"/>
                  </a:gs>
                </a:gsLst>
                <a:lin ang="5400000"/>
              </a:gradFill>
              <a:ln w="3240">
                <a:solidFill>
                  <a:srgbClr val="d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4895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个人经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337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入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参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参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参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4"/>
          <p:cNvGrpSpPr/>
          <p:nvPr/>
        </p:nvGrpSpPr>
        <p:grpSpPr>
          <a:xfrm>
            <a:off x="755640" y="-2473200"/>
            <a:ext cx="7934400" cy="3707280"/>
            <a:chOff x="755640" y="-2473200"/>
            <a:chExt cx="7934400" cy="3707280"/>
          </a:xfrm>
        </p:grpSpPr>
        <p:pic>
          <p:nvPicPr>
            <p:cNvPr id="728" name="Picture 5" descr="usa bar shadow"/>
            <p:cNvPicPr/>
            <p:nvPr/>
          </p:nvPicPr>
          <p:blipFill>
            <a:blip r:embed="rId1"/>
            <a:srcRect l="8687" t="23734" r="8117" b="61836"/>
            <a:stretch/>
          </p:blipFill>
          <p:spPr>
            <a:xfrm>
              <a:off x="1042920" y="-2473200"/>
              <a:ext cx="7647120" cy="162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9" name="Group 6"/>
            <p:cNvGrpSpPr/>
            <p:nvPr/>
          </p:nvGrpSpPr>
          <p:grpSpPr>
            <a:xfrm>
              <a:off x="755640" y="-1348560"/>
              <a:ext cx="7278840" cy="2582640"/>
              <a:chOff x="755640" y="-1348560"/>
              <a:chExt cx="7278840" cy="2582640"/>
            </a:xfrm>
          </p:grpSpPr>
          <p:sp>
            <p:nvSpPr>
              <p:cNvPr id="730" name="Freeform 7"/>
              <p:cNvSpPr/>
              <p:nvPr/>
            </p:nvSpPr>
            <p:spPr>
              <a:xfrm>
                <a:off x="755640" y="252000"/>
                <a:ext cx="7278840" cy="982080"/>
              </a:xfrm>
              <a:custGeom>
                <a:avLst/>
                <a:gdLst>
                  <a:gd name="textAreaLeft" fmla="*/ 0 w 7278840"/>
                  <a:gd name="textAreaRight" fmla="*/ 7279200 w 7278840"/>
                  <a:gd name="textAreaTop" fmla="*/ 0 h 982080"/>
                  <a:gd name="textAreaBottom" fmla="*/ 982440 h 982080"/>
                </a:gdLst>
                <a:ahLst/>
                <a:rect l="textAreaLeft" t="textAreaTop" r="textAreaRight" b="textAreaBottom"/>
                <a:pathLst>
                  <a:path w="2288" h="190">
                    <a:moveTo>
                      <a:pt x="2141" y="0"/>
                    </a:moveTo>
                    <a:cubicBezTo>
                      <a:pt x="77" y="0"/>
                      <a:pt x="77" y="0"/>
                      <a:pt x="77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137"/>
                      <a:pt x="0" y="137"/>
                      <a:pt x="0" y="137"/>
                    </a:cubicBezTo>
                    <a:cubicBezTo>
                      <a:pt x="0" y="190"/>
                      <a:pt x="0" y="190"/>
                      <a:pt x="0" y="190"/>
                    </a:cubicBezTo>
                    <a:cubicBezTo>
                      <a:pt x="2288" y="190"/>
                      <a:pt x="2288" y="190"/>
                      <a:pt x="2288" y="190"/>
                    </a:cubicBezTo>
                    <a:cubicBezTo>
                      <a:pt x="2252" y="127"/>
                      <a:pt x="2209" y="69"/>
                      <a:pt x="2160" y="20"/>
                    </a:cubicBezTo>
                    <a:cubicBezTo>
                      <a:pt x="2154" y="13"/>
                      <a:pt x="2147" y="7"/>
                      <a:pt x="214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70"/>
                  </a:gs>
                  <a:gs pos="100000">
                    <a:srgbClr val="0010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8"/>
              <p:cNvSpPr/>
              <p:nvPr/>
            </p:nvSpPr>
            <p:spPr>
              <a:xfrm>
                <a:off x="873000" y="-1348560"/>
                <a:ext cx="7037640" cy="832680"/>
              </a:xfrm>
              <a:custGeom>
                <a:avLst/>
                <a:gdLst>
                  <a:gd name="textAreaLeft" fmla="*/ 0 w 7037640"/>
                  <a:gd name="textAreaRight" fmla="*/ 7038000 w 7037640"/>
                  <a:gd name="textAreaTop" fmla="*/ 0 h 832680"/>
                  <a:gd name="textAreaBottom" fmla="*/ 833040 h 832680"/>
                </a:gdLst>
                <a:ahLst/>
                <a:rect l="textAreaLeft" t="textAreaTop" r="textAreaRight" b="textAreaBottom"/>
                <a:pathLst>
                  <a:path w="2212" h="161">
                    <a:moveTo>
                      <a:pt x="2009" y="39"/>
                    </a:moveTo>
                    <a:cubicBezTo>
                      <a:pt x="2050" y="45"/>
                      <a:pt x="2117" y="47"/>
                      <a:pt x="2212" y="93"/>
                    </a:cubicBezTo>
                    <a:cubicBezTo>
                      <a:pt x="2191" y="66"/>
                      <a:pt x="2169" y="41"/>
                      <a:pt x="2146" y="17"/>
                    </a:cubicBezTo>
                    <a:cubicBezTo>
                      <a:pt x="2141" y="12"/>
                      <a:pt x="2135" y="6"/>
                      <a:pt x="212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61"/>
                      <a:pt x="0" y="161"/>
                      <a:pt x="0" y="161"/>
                    </a:cubicBezTo>
                    <a:cubicBezTo>
                      <a:pt x="223" y="153"/>
                      <a:pt x="438" y="124"/>
                      <a:pt x="529" y="110"/>
                    </a:cubicBezTo>
                    <a:cubicBezTo>
                      <a:pt x="977" y="39"/>
                      <a:pt x="1814" y="7"/>
                      <a:pt x="2009" y="3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7254"/>
                    </a:srgbClr>
                  </a:gs>
                  <a:gs pos="100000">
                    <a:srgbClr val="767676">
                      <a:alpha val="1333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2" name="Group 9"/>
          <p:cNvGrpSpPr/>
          <p:nvPr/>
        </p:nvGrpSpPr>
        <p:grpSpPr>
          <a:xfrm>
            <a:off x="0" y="-3240"/>
            <a:ext cx="1618920" cy="1518480"/>
            <a:chOff x="0" y="-3240"/>
            <a:chExt cx="1618920" cy="1518480"/>
          </a:xfrm>
        </p:grpSpPr>
        <p:pic>
          <p:nvPicPr>
            <p:cNvPr id="733" name="Picture 10" descr="usa star shadow"/>
            <p:cNvPicPr/>
            <p:nvPr/>
          </p:nvPicPr>
          <p:blipFill>
            <a:blip r:embed="rId2"/>
            <a:srcRect l="44856" t="43396" r="43575" b="42198"/>
            <a:stretch/>
          </p:blipFill>
          <p:spPr>
            <a:xfrm>
              <a:off x="0" y="3600"/>
              <a:ext cx="1618920" cy="151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4" name="Group 11"/>
            <p:cNvGrpSpPr/>
            <p:nvPr/>
          </p:nvGrpSpPr>
          <p:grpSpPr>
            <a:xfrm>
              <a:off x="28800" y="-3240"/>
              <a:ext cx="1408320" cy="1433160"/>
              <a:chOff x="28800" y="-3240"/>
              <a:chExt cx="1408320" cy="1433160"/>
            </a:xfrm>
          </p:grpSpPr>
          <p:sp>
            <p:nvSpPr>
              <p:cNvPr id="735" name="Freeform 12"/>
              <p:cNvSpPr/>
              <p:nvPr/>
            </p:nvSpPr>
            <p:spPr>
              <a:xfrm>
                <a:off x="1219680" y="291240"/>
                <a:ext cx="77040" cy="1011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0" y="0"/>
                    </a:moveTo>
                    <a:cubicBezTo>
                      <a:pt x="6" y="7"/>
                      <a:pt x="6" y="7"/>
                      <a:pt x="6" y="7"/>
                    </a:cubicBezTo>
                    <a:cubicBezTo>
                      <a:pt x="10" y="12"/>
                      <a:pt x="13" y="16"/>
                      <a:pt x="16" y="21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7" y="8"/>
                      <a:pt x="3" y="4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3"/>
              <p:cNvSpPr/>
              <p:nvPr/>
            </p:nvSpPr>
            <p:spPr>
              <a:xfrm>
                <a:off x="1262880" y="353880"/>
                <a:ext cx="110880" cy="2073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23" h="43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4" y="19"/>
                      <a:pt x="19" y="31"/>
                      <a:pt x="23" y="43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3" y="23"/>
                      <a:pt x="8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4"/>
              <p:cNvSpPr/>
              <p:nvPr/>
            </p:nvSpPr>
            <p:spPr>
              <a:xfrm>
                <a:off x="1340280" y="522720"/>
                <a:ext cx="52920" cy="2030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1" h="42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0" y="19"/>
                      <a:pt x="11" y="30"/>
                      <a:pt x="11" y="42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5" y="22"/>
                      <a:pt x="3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5"/>
              <p:cNvSpPr/>
              <p:nvPr/>
            </p:nvSpPr>
            <p:spPr>
              <a:xfrm>
                <a:off x="1355040" y="686880"/>
                <a:ext cx="38160" cy="140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8" h="29">
                    <a:moveTo>
                      <a:pt x="1" y="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8" y="15"/>
                      <a:pt x="7" y="22"/>
                      <a:pt x="6" y="29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1" y="14"/>
                      <a:pt x="1" y="7"/>
                      <a:pt x="1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6"/>
              <p:cNvSpPr/>
              <p:nvPr/>
            </p:nvSpPr>
            <p:spPr>
              <a:xfrm>
                <a:off x="1330920" y="793080"/>
                <a:ext cx="52920" cy="125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1" h="26">
                    <a:moveTo>
                      <a:pt x="5" y="0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0" y="14"/>
                      <a:pt x="9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" y="12"/>
                      <a:pt x="4" y="6"/>
                      <a:pt x="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7"/>
              <p:cNvSpPr/>
              <p:nvPr/>
            </p:nvSpPr>
            <p:spPr>
              <a:xfrm>
                <a:off x="1296720" y="880200"/>
                <a:ext cx="67680" cy="1202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7" y="0"/>
                    </a:moveTo>
                    <a:cubicBezTo>
                      <a:pt x="14" y="8"/>
                      <a:pt x="14" y="8"/>
                      <a:pt x="14" y="8"/>
                    </a:cubicBezTo>
                    <a:cubicBezTo>
                      <a:pt x="12" y="13"/>
                      <a:pt x="10" y="19"/>
                      <a:pt x="7" y="25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3" y="11"/>
                      <a:pt x="5" y="6"/>
                      <a:pt x="7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8"/>
              <p:cNvSpPr/>
              <p:nvPr/>
            </p:nvSpPr>
            <p:spPr>
              <a:xfrm>
                <a:off x="1253520" y="962280"/>
                <a:ext cx="77040" cy="115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9" y="0"/>
                    </a:moveTo>
                    <a:cubicBezTo>
                      <a:pt x="16" y="8"/>
                      <a:pt x="16" y="8"/>
                      <a:pt x="16" y="8"/>
                    </a:cubicBezTo>
                    <a:cubicBezTo>
                      <a:pt x="13" y="13"/>
                      <a:pt x="10" y="19"/>
                      <a:pt x="6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3" y="11"/>
                      <a:pt x="7" y="5"/>
                      <a:pt x="9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9"/>
              <p:cNvSpPr/>
              <p:nvPr/>
            </p:nvSpPr>
            <p:spPr>
              <a:xfrm>
                <a:off x="1180800" y="1039320"/>
                <a:ext cx="101880" cy="1252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1" h="26">
                    <a:moveTo>
                      <a:pt x="15" y="0"/>
                    </a:moveTo>
                    <a:cubicBezTo>
                      <a:pt x="21" y="8"/>
                      <a:pt x="21" y="8"/>
                      <a:pt x="21" y="8"/>
                    </a:cubicBezTo>
                    <a:cubicBezTo>
                      <a:pt x="17" y="14"/>
                      <a:pt x="12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6" y="12"/>
                      <a:pt x="11" y="6"/>
                      <a:pt x="1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20"/>
              <p:cNvSpPr/>
              <p:nvPr/>
            </p:nvSpPr>
            <p:spPr>
              <a:xfrm>
                <a:off x="250920" y="1102320"/>
                <a:ext cx="963360" cy="327600"/>
              </a:xfrm>
              <a:custGeom>
                <a:avLst/>
                <a:gdLst>
                  <a:gd name="textAreaLeft" fmla="*/ 0 w 963360"/>
                  <a:gd name="textAreaRight" fmla="*/ 963720 w 963360"/>
                  <a:gd name="textAreaTop" fmla="*/ 0 h 327600"/>
                  <a:gd name="textAreaBottom" fmla="*/ 327960 h 327600"/>
                </a:gdLst>
                <a:ahLst/>
                <a:rect l="textAreaLeft" t="textAreaTop" r="textAreaRight" b="textAreaBottom"/>
                <a:pathLst>
                  <a:path w="199" h="68">
                    <a:moveTo>
                      <a:pt x="192" y="5"/>
                    </a:moveTo>
                    <a:cubicBezTo>
                      <a:pt x="199" y="13"/>
                      <a:pt x="199" y="13"/>
                      <a:pt x="199" y="13"/>
                    </a:cubicBezTo>
                    <a:cubicBezTo>
                      <a:pt x="196" y="16"/>
                      <a:pt x="192" y="19"/>
                      <a:pt x="189" y="22"/>
                    </a:cubicBezTo>
                    <a:cubicBezTo>
                      <a:pt x="134" y="68"/>
                      <a:pt x="52" y="62"/>
                      <a:pt x="6" y="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5" y="54"/>
                      <a:pt x="127" y="60"/>
                      <a:pt x="182" y="14"/>
                    </a:cubicBezTo>
                    <a:cubicBezTo>
                      <a:pt x="186" y="11"/>
                      <a:pt x="189" y="8"/>
                      <a:pt x="192" y="5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21"/>
              <p:cNvSpPr/>
              <p:nvPr/>
            </p:nvSpPr>
            <p:spPr>
              <a:xfrm>
                <a:off x="28800" y="-3240"/>
                <a:ext cx="1408320" cy="1395360"/>
              </a:xfrm>
              <a:custGeom>
                <a:avLst/>
                <a:gdLst>
                  <a:gd name="textAreaLeft" fmla="*/ 0 w 1408320"/>
                  <a:gd name="textAreaRight" fmla="*/ 1408680 w 1408320"/>
                  <a:gd name="textAreaTop" fmla="*/ 0 h 1395360"/>
                  <a:gd name="textAreaBottom" fmla="*/ 1395720 h 1395360"/>
                </a:gdLst>
                <a:ahLst/>
                <a:rect l="textAreaLeft" t="textAreaTop" r="textAreaRight" b="textAreaBottom"/>
                <a:pathLst>
                  <a:path w="291" h="289">
                    <a:moveTo>
                      <a:pt x="46" y="229"/>
                    </a:moveTo>
                    <a:cubicBezTo>
                      <a:pt x="0" y="174"/>
                      <a:pt x="8" y="92"/>
                      <a:pt x="63" y="46"/>
                    </a:cubicBezTo>
                    <a:cubicBezTo>
                      <a:pt x="118" y="0"/>
                      <a:pt x="200" y="6"/>
                      <a:pt x="246" y="61"/>
                    </a:cubicBezTo>
                    <a:cubicBezTo>
                      <a:pt x="291" y="115"/>
                      <a:pt x="284" y="197"/>
                      <a:pt x="228" y="243"/>
                    </a:cubicBezTo>
                    <a:cubicBezTo>
                      <a:pt x="173" y="289"/>
                      <a:pt x="91" y="283"/>
                      <a:pt x="46" y="2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2556"/>
                  </a:gs>
                  <a:gs pos="100000">
                    <a:srgbClr val="00429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22"/>
              <p:cNvSpPr/>
              <p:nvPr/>
            </p:nvSpPr>
            <p:spPr>
              <a:xfrm>
                <a:off x="333360" y="102600"/>
                <a:ext cx="1011600" cy="979560"/>
              </a:xfrm>
              <a:custGeom>
                <a:avLst/>
                <a:gdLst>
                  <a:gd name="textAreaLeft" fmla="*/ 0 w 1011600"/>
                  <a:gd name="textAreaRight" fmla="*/ 1011960 w 1011600"/>
                  <a:gd name="textAreaTop" fmla="*/ 0 h 979560"/>
                  <a:gd name="textAreaBottom" fmla="*/ 979920 h 979560"/>
                </a:gdLst>
                <a:ahLst/>
                <a:rect l="textAreaLeft" t="textAreaTop" r="textAreaRight" b="textAreaBottom"/>
                <a:pathLst>
                  <a:path w="209" h="203">
                    <a:moveTo>
                      <a:pt x="95" y="98"/>
                    </a:moveTo>
                    <a:cubicBezTo>
                      <a:pt x="117" y="136"/>
                      <a:pt x="135" y="175"/>
                      <a:pt x="172" y="203"/>
                    </a:cubicBezTo>
                    <a:cubicBezTo>
                      <a:pt x="195" y="181"/>
                      <a:pt x="209" y="151"/>
                      <a:pt x="209" y="117"/>
                    </a:cubicBezTo>
                    <a:cubicBezTo>
                      <a:pt x="209" y="52"/>
                      <a:pt x="156" y="0"/>
                      <a:pt x="91" y="0"/>
                    </a:cubicBezTo>
                    <a:cubicBezTo>
                      <a:pt x="54" y="0"/>
                      <a:pt x="21" y="17"/>
                      <a:pt x="0" y="43"/>
                    </a:cubicBezTo>
                    <a:cubicBezTo>
                      <a:pt x="38" y="51"/>
                      <a:pt x="77" y="67"/>
                      <a:pt x="95" y="9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767676">
                      <a:alpha val="1333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23"/>
              <p:cNvSpPr/>
              <p:nvPr/>
            </p:nvSpPr>
            <p:spPr>
              <a:xfrm>
                <a:off x="678240" y="826920"/>
                <a:ext cx="236520" cy="27504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275040"/>
                  <a:gd name="textAreaBottom" fmla="*/ 275400 h 275040"/>
                </a:gdLst>
                <a:ahLst/>
                <a:rect l="textAreaLeft" t="textAreaTop" r="textAreaRight" b="textAreaBottom"/>
                <a:pathLst>
                  <a:path w="98" h="114">
                    <a:moveTo>
                      <a:pt x="84" y="100"/>
                    </a:moveTo>
                    <a:lnTo>
                      <a:pt x="0" y="0"/>
                    </a:lnTo>
                    <a:lnTo>
                      <a:pt x="14" y="16"/>
                    </a:lnTo>
                    <a:lnTo>
                      <a:pt x="98" y="114"/>
                    </a:lnTo>
                    <a:lnTo>
                      <a:pt x="84" y="100"/>
                    </a:lnTo>
                    <a:close/>
                  </a:path>
                </a:pathLst>
              </a:custGeom>
              <a:solidFill>
                <a:srgbClr val="006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7" name="Group 24"/>
              <p:cNvGrpSpPr/>
              <p:nvPr/>
            </p:nvGrpSpPr>
            <p:grpSpPr>
              <a:xfrm>
                <a:off x="352440" y="247680"/>
                <a:ext cx="832320" cy="853560"/>
                <a:chOff x="352440" y="247680"/>
                <a:chExt cx="832320" cy="853560"/>
              </a:xfrm>
            </p:grpSpPr>
            <p:sp>
              <p:nvSpPr>
                <p:cNvPr id="748" name="Freeform 25"/>
                <p:cNvSpPr/>
                <p:nvPr/>
              </p:nvSpPr>
              <p:spPr>
                <a:xfrm>
                  <a:off x="833040" y="247680"/>
                  <a:ext cx="47880" cy="3474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347400"/>
                    <a:gd name="textAreaBottom" fmla="*/ 347760 h 347400"/>
                  </a:gdLst>
                  <a:ahLst/>
                  <a:rect l="textAreaLeft" t="textAreaTop" r="textAreaRight" b="textAreaBottom"/>
                  <a:pathLst>
                    <a:path w="20" h="144">
                      <a:moveTo>
                        <a:pt x="0" y="0"/>
                      </a:moveTo>
                      <a:lnTo>
                        <a:pt x="12" y="16"/>
                      </a:lnTo>
                      <a:lnTo>
                        <a:pt x="20" y="144"/>
                      </a:lnTo>
                      <a:lnTo>
                        <a:pt x="8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26"/>
                <p:cNvSpPr/>
                <p:nvPr/>
              </p:nvSpPr>
              <p:spPr>
                <a:xfrm>
                  <a:off x="386280" y="826200"/>
                  <a:ext cx="325800" cy="159120"/>
                </a:xfrm>
                <a:custGeom>
                  <a:avLst/>
                  <a:gdLst>
                    <a:gd name="textAreaLeft" fmla="*/ 0 w 325800"/>
                    <a:gd name="textAreaRight" fmla="*/ 326160 w 325800"/>
                    <a:gd name="textAreaTop" fmla="*/ 0 h 159120"/>
                    <a:gd name="textAreaBottom" fmla="*/ 159480 h 159120"/>
                  </a:gdLst>
                  <a:ahLst/>
                  <a:rect l="textAreaLeft" t="textAreaTop" r="textAreaRight" b="textAreaBottom"/>
                  <a:pathLst>
                    <a:path w="135" h="66">
                      <a:moveTo>
                        <a:pt x="121" y="0"/>
                      </a:moveTo>
                      <a:lnTo>
                        <a:pt x="135" y="16"/>
                      </a:lnTo>
                      <a:lnTo>
                        <a:pt x="14" y="66"/>
                      </a:lnTo>
                      <a:lnTo>
                        <a:pt x="0" y="5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27"/>
                <p:cNvSpPr/>
                <p:nvPr/>
              </p:nvSpPr>
              <p:spPr>
                <a:xfrm>
                  <a:off x="861480" y="633960"/>
                  <a:ext cx="323280" cy="154080"/>
                </a:xfrm>
                <a:custGeom>
                  <a:avLst/>
                  <a:gdLst>
                    <a:gd name="textAreaLeft" fmla="*/ 0 w 323280"/>
                    <a:gd name="textAreaRight" fmla="*/ 323640 w 32328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134" h="64">
                      <a:moveTo>
                        <a:pt x="120" y="0"/>
                      </a:moveTo>
                      <a:lnTo>
                        <a:pt x="134" y="14"/>
                      </a:lnTo>
                      <a:lnTo>
                        <a:pt x="14" y="64"/>
                      </a:lnTo>
                      <a:lnTo>
                        <a:pt x="0" y="48"/>
                      </a:lnTo>
                      <a:lnTo>
                        <a:pt x="1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28"/>
                <p:cNvSpPr/>
                <p:nvPr/>
              </p:nvSpPr>
              <p:spPr>
                <a:xfrm>
                  <a:off x="861480" y="749160"/>
                  <a:ext cx="52920" cy="35208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352080"/>
                    <a:gd name="textAreaBottom" fmla="*/ 352440 h 352080"/>
                  </a:gdLst>
                  <a:ahLst/>
                  <a:rect l="textAreaLeft" t="textAreaTop" r="textAreaRight" b="textAreaBottom"/>
                  <a:pathLst>
                    <a:path w="22" h="146">
                      <a:moveTo>
                        <a:pt x="0" y="0"/>
                      </a:moveTo>
                      <a:lnTo>
                        <a:pt x="14" y="16"/>
                      </a:lnTo>
                      <a:lnTo>
                        <a:pt x="22" y="146"/>
                      </a:lnTo>
                      <a:lnTo>
                        <a:pt x="8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29"/>
                <p:cNvSpPr/>
                <p:nvPr/>
              </p:nvSpPr>
              <p:spPr>
                <a:xfrm>
                  <a:off x="352440" y="247680"/>
                  <a:ext cx="799200" cy="820080"/>
                </a:xfrm>
                <a:custGeom>
                  <a:avLst/>
                  <a:gdLst>
                    <a:gd name="textAreaLeft" fmla="*/ 0 w 799200"/>
                    <a:gd name="textAreaRight" fmla="*/ 799560 w 799200"/>
                    <a:gd name="textAreaTop" fmla="*/ 0 h 820080"/>
                    <a:gd name="textAreaBottom" fmla="*/ 820440 h 820080"/>
                  </a:gdLst>
                  <a:ahLst/>
                  <a:rect l="textAreaLeft" t="textAreaTop" r="textAreaRight" b="textAreaBottom"/>
                  <a:pathLst>
                    <a:path w="331" h="340">
                      <a:moveTo>
                        <a:pt x="14" y="290"/>
                      </a:moveTo>
                      <a:lnTo>
                        <a:pt x="85" y="180"/>
                      </a:lnTo>
                      <a:lnTo>
                        <a:pt x="0" y="80"/>
                      </a:lnTo>
                      <a:lnTo>
                        <a:pt x="129" y="110"/>
                      </a:lnTo>
                      <a:lnTo>
                        <a:pt x="199" y="0"/>
                      </a:lnTo>
                      <a:lnTo>
                        <a:pt x="207" y="128"/>
                      </a:lnTo>
                      <a:lnTo>
                        <a:pt x="331" y="160"/>
                      </a:lnTo>
                      <a:lnTo>
                        <a:pt x="211" y="208"/>
                      </a:lnTo>
                      <a:lnTo>
                        <a:pt x="219" y="340"/>
                      </a:lnTo>
                      <a:lnTo>
                        <a:pt x="135" y="240"/>
                      </a:lnTo>
                      <a:lnTo>
                        <a:pt x="14" y="29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2c2c2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Freeform 30"/>
              <p:cNvSpPr/>
              <p:nvPr/>
            </p:nvSpPr>
            <p:spPr>
              <a:xfrm>
                <a:off x="333360" y="73800"/>
                <a:ext cx="862200" cy="29916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178" h="62">
                    <a:moveTo>
                      <a:pt x="171" y="54"/>
                    </a:moveTo>
                    <a:cubicBezTo>
                      <a:pt x="178" y="62"/>
                      <a:pt x="178" y="62"/>
                      <a:pt x="178" y="62"/>
                    </a:cubicBezTo>
                    <a:cubicBezTo>
                      <a:pt x="137" y="14"/>
                      <a:pt x="65" y="8"/>
                      <a:pt x="16" y="49"/>
                    </a:cubicBezTo>
                    <a:cubicBezTo>
                      <a:pt x="13" y="52"/>
                      <a:pt x="10" y="54"/>
                      <a:pt x="7" y="57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3" y="47"/>
                      <a:pt x="6" y="44"/>
                      <a:pt x="9" y="41"/>
                    </a:cubicBezTo>
                    <a:cubicBezTo>
                      <a:pt x="58" y="0"/>
                      <a:pt x="131" y="6"/>
                      <a:pt x="171" y="54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31"/>
              <p:cNvSpPr/>
              <p:nvPr/>
            </p:nvSpPr>
            <p:spPr>
              <a:xfrm>
                <a:off x="275040" y="310320"/>
                <a:ext cx="91440" cy="1159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2" y="0"/>
                    </a:moveTo>
                    <a:cubicBezTo>
                      <a:pt x="19" y="8"/>
                      <a:pt x="19" y="8"/>
                      <a:pt x="19" y="8"/>
                    </a:cubicBezTo>
                    <a:cubicBezTo>
                      <a:pt x="14" y="13"/>
                      <a:pt x="10" y="18"/>
                      <a:pt x="6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4" y="11"/>
                      <a:pt x="8" y="5"/>
                      <a:pt x="12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32"/>
              <p:cNvSpPr/>
              <p:nvPr/>
            </p:nvSpPr>
            <p:spPr>
              <a:xfrm>
                <a:off x="231480" y="387360"/>
                <a:ext cx="72720" cy="10584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9" y="0"/>
                    </a:moveTo>
                    <a:cubicBezTo>
                      <a:pt x="15" y="8"/>
                      <a:pt x="15" y="8"/>
                      <a:pt x="15" y="8"/>
                    </a:cubicBezTo>
                    <a:cubicBezTo>
                      <a:pt x="12" y="13"/>
                      <a:pt x="9" y="17"/>
                      <a:pt x="7" y="22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" y="10"/>
                      <a:pt x="6" y="5"/>
                      <a:pt x="9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33"/>
              <p:cNvSpPr/>
              <p:nvPr/>
            </p:nvSpPr>
            <p:spPr>
              <a:xfrm>
                <a:off x="202680" y="460080"/>
                <a:ext cx="62280" cy="1058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3" h="22">
                    <a:moveTo>
                      <a:pt x="6" y="0"/>
                    </a:moveTo>
                    <a:cubicBezTo>
                      <a:pt x="13" y="7"/>
                      <a:pt x="13" y="7"/>
                      <a:pt x="13" y="7"/>
                    </a:cubicBezTo>
                    <a:cubicBezTo>
                      <a:pt x="10" y="12"/>
                      <a:pt x="8" y="17"/>
                      <a:pt x="7" y="22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2" y="10"/>
                      <a:pt x="4" y="5"/>
                      <a:pt x="6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34"/>
              <p:cNvSpPr/>
              <p:nvPr/>
            </p:nvSpPr>
            <p:spPr>
              <a:xfrm>
                <a:off x="183240" y="532440"/>
                <a:ext cx="52920" cy="115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1" h="24">
                    <a:moveTo>
                      <a:pt x="4" y="0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9" y="13"/>
                      <a:pt x="8" y="18"/>
                      <a:pt x="7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0"/>
                      <a:pt x="3" y="5"/>
                      <a:pt x="4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35"/>
              <p:cNvSpPr/>
              <p:nvPr/>
            </p:nvSpPr>
            <p:spPr>
              <a:xfrm>
                <a:off x="178200" y="609840"/>
                <a:ext cx="38880" cy="12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8" h="27">
                    <a:moveTo>
                      <a:pt x="1" y="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7" y="14"/>
                      <a:pt x="6" y="20"/>
                      <a:pt x="6" y="27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3"/>
                      <a:pt x="0" y="6"/>
                      <a:pt x="1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36"/>
              <p:cNvSpPr/>
              <p:nvPr/>
            </p:nvSpPr>
            <p:spPr>
              <a:xfrm>
                <a:off x="178200" y="701640"/>
                <a:ext cx="48600" cy="1832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10" h="38">
                    <a:moveTo>
                      <a:pt x="0" y="0"/>
                    </a:moveTo>
                    <a:cubicBezTo>
                      <a:pt x="6" y="8"/>
                      <a:pt x="6" y="8"/>
                      <a:pt x="6" y="8"/>
                    </a:cubicBezTo>
                    <a:cubicBezTo>
                      <a:pt x="6" y="18"/>
                      <a:pt x="7" y="28"/>
                      <a:pt x="10" y="38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1" y="20"/>
                      <a:pt x="0" y="10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37"/>
              <p:cNvSpPr/>
              <p:nvPr/>
            </p:nvSpPr>
            <p:spPr>
              <a:xfrm>
                <a:off x="198000" y="846000"/>
                <a:ext cx="96120" cy="1882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20" h="39">
                    <a:moveTo>
                      <a:pt x="0" y="0"/>
                    </a:moveTo>
                    <a:cubicBezTo>
                      <a:pt x="6" y="8"/>
                      <a:pt x="6" y="8"/>
                      <a:pt x="6" y="8"/>
                    </a:cubicBezTo>
                    <a:cubicBezTo>
                      <a:pt x="9" y="19"/>
                      <a:pt x="14" y="29"/>
                      <a:pt x="20" y="39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7" y="21"/>
                      <a:pt x="2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38"/>
              <p:cNvSpPr/>
              <p:nvPr/>
            </p:nvSpPr>
            <p:spPr>
              <a:xfrm>
                <a:off x="260280" y="996120"/>
                <a:ext cx="77040" cy="96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9" y="12"/>
                      <a:pt x="12" y="16"/>
                      <a:pt x="16" y="20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6" y="8"/>
                      <a:pt x="3" y="4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39"/>
              <p:cNvSpPr/>
              <p:nvPr/>
            </p:nvSpPr>
            <p:spPr>
              <a:xfrm>
                <a:off x="1219680" y="291240"/>
                <a:ext cx="77040" cy="1011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0" y="0"/>
                    </a:moveTo>
                    <a:cubicBezTo>
                      <a:pt x="6" y="7"/>
                      <a:pt x="6" y="7"/>
                      <a:pt x="6" y="7"/>
                    </a:cubicBezTo>
                    <a:cubicBezTo>
                      <a:pt x="10" y="12"/>
                      <a:pt x="13" y="16"/>
                      <a:pt x="16" y="21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7" y="8"/>
                      <a:pt x="3" y="4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0"/>
              <p:cNvSpPr/>
              <p:nvPr/>
            </p:nvSpPr>
            <p:spPr>
              <a:xfrm>
                <a:off x="1262880" y="353880"/>
                <a:ext cx="110880" cy="2073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23" h="43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4" y="19"/>
                      <a:pt x="19" y="31"/>
                      <a:pt x="23" y="43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3" y="23"/>
                      <a:pt x="8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1"/>
              <p:cNvSpPr/>
              <p:nvPr/>
            </p:nvSpPr>
            <p:spPr>
              <a:xfrm>
                <a:off x="1340280" y="522720"/>
                <a:ext cx="52920" cy="2030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1" h="42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0" y="19"/>
                      <a:pt x="11" y="30"/>
                      <a:pt x="11" y="42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5" y="22"/>
                      <a:pt x="3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42"/>
              <p:cNvSpPr/>
              <p:nvPr/>
            </p:nvSpPr>
            <p:spPr>
              <a:xfrm>
                <a:off x="1355040" y="686880"/>
                <a:ext cx="38160" cy="140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8" h="29">
                    <a:moveTo>
                      <a:pt x="1" y="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8" y="15"/>
                      <a:pt x="7" y="22"/>
                      <a:pt x="6" y="29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1" y="14"/>
                      <a:pt x="1" y="7"/>
                      <a:pt x="1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3"/>
              <p:cNvSpPr/>
              <p:nvPr/>
            </p:nvSpPr>
            <p:spPr>
              <a:xfrm>
                <a:off x="1330920" y="793080"/>
                <a:ext cx="52920" cy="125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1" h="26">
                    <a:moveTo>
                      <a:pt x="5" y="0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0" y="14"/>
                      <a:pt x="9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" y="12"/>
                      <a:pt x="4" y="6"/>
                      <a:pt x="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44"/>
              <p:cNvSpPr/>
              <p:nvPr/>
            </p:nvSpPr>
            <p:spPr>
              <a:xfrm>
                <a:off x="1296720" y="880200"/>
                <a:ext cx="67680" cy="1202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7" y="0"/>
                    </a:moveTo>
                    <a:cubicBezTo>
                      <a:pt x="14" y="8"/>
                      <a:pt x="14" y="8"/>
                      <a:pt x="14" y="8"/>
                    </a:cubicBezTo>
                    <a:cubicBezTo>
                      <a:pt x="12" y="13"/>
                      <a:pt x="10" y="19"/>
                      <a:pt x="7" y="25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3" y="11"/>
                      <a:pt x="5" y="6"/>
                      <a:pt x="7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45"/>
              <p:cNvSpPr/>
              <p:nvPr/>
            </p:nvSpPr>
            <p:spPr>
              <a:xfrm>
                <a:off x="1253520" y="962280"/>
                <a:ext cx="77040" cy="115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9" y="0"/>
                    </a:moveTo>
                    <a:cubicBezTo>
                      <a:pt x="16" y="8"/>
                      <a:pt x="16" y="8"/>
                      <a:pt x="16" y="8"/>
                    </a:cubicBezTo>
                    <a:cubicBezTo>
                      <a:pt x="13" y="13"/>
                      <a:pt x="10" y="19"/>
                      <a:pt x="6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3" y="11"/>
                      <a:pt x="7" y="5"/>
                      <a:pt x="9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46"/>
              <p:cNvSpPr/>
              <p:nvPr/>
            </p:nvSpPr>
            <p:spPr>
              <a:xfrm>
                <a:off x="1180800" y="1039320"/>
                <a:ext cx="101880" cy="1252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1" h="26">
                    <a:moveTo>
                      <a:pt x="15" y="0"/>
                    </a:moveTo>
                    <a:cubicBezTo>
                      <a:pt x="21" y="8"/>
                      <a:pt x="21" y="8"/>
                      <a:pt x="21" y="8"/>
                    </a:cubicBezTo>
                    <a:cubicBezTo>
                      <a:pt x="17" y="14"/>
                      <a:pt x="12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6" y="12"/>
                      <a:pt x="11" y="6"/>
                      <a:pt x="1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47"/>
              <p:cNvSpPr/>
              <p:nvPr/>
            </p:nvSpPr>
            <p:spPr>
              <a:xfrm>
                <a:off x="250920" y="1102320"/>
                <a:ext cx="963360" cy="327600"/>
              </a:xfrm>
              <a:custGeom>
                <a:avLst/>
                <a:gdLst>
                  <a:gd name="textAreaLeft" fmla="*/ 0 w 963360"/>
                  <a:gd name="textAreaRight" fmla="*/ 963720 w 963360"/>
                  <a:gd name="textAreaTop" fmla="*/ 0 h 327600"/>
                  <a:gd name="textAreaBottom" fmla="*/ 327960 h 327600"/>
                </a:gdLst>
                <a:ahLst/>
                <a:rect l="textAreaLeft" t="textAreaTop" r="textAreaRight" b="textAreaBottom"/>
                <a:pathLst>
                  <a:path w="199" h="68">
                    <a:moveTo>
                      <a:pt x="192" y="5"/>
                    </a:moveTo>
                    <a:cubicBezTo>
                      <a:pt x="199" y="13"/>
                      <a:pt x="199" y="13"/>
                      <a:pt x="199" y="13"/>
                    </a:cubicBezTo>
                    <a:cubicBezTo>
                      <a:pt x="196" y="16"/>
                      <a:pt x="192" y="19"/>
                      <a:pt x="189" y="22"/>
                    </a:cubicBezTo>
                    <a:cubicBezTo>
                      <a:pt x="134" y="68"/>
                      <a:pt x="52" y="62"/>
                      <a:pt x="6" y="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5" y="54"/>
                      <a:pt x="127" y="60"/>
                      <a:pt x="182" y="14"/>
                    </a:cubicBezTo>
                    <a:cubicBezTo>
                      <a:pt x="186" y="11"/>
                      <a:pt x="189" y="8"/>
                      <a:pt x="192" y="5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48"/>
              <p:cNvSpPr/>
              <p:nvPr/>
            </p:nvSpPr>
            <p:spPr>
              <a:xfrm>
                <a:off x="28800" y="-3240"/>
                <a:ext cx="1408320" cy="1395360"/>
              </a:xfrm>
              <a:custGeom>
                <a:avLst/>
                <a:gdLst>
                  <a:gd name="textAreaLeft" fmla="*/ 0 w 1408320"/>
                  <a:gd name="textAreaRight" fmla="*/ 1408680 w 1408320"/>
                  <a:gd name="textAreaTop" fmla="*/ 0 h 1395360"/>
                  <a:gd name="textAreaBottom" fmla="*/ 1395720 h 1395360"/>
                </a:gdLst>
                <a:ahLst/>
                <a:rect l="textAreaLeft" t="textAreaTop" r="textAreaRight" b="textAreaBottom"/>
                <a:pathLst>
                  <a:path w="291" h="289">
                    <a:moveTo>
                      <a:pt x="46" y="229"/>
                    </a:moveTo>
                    <a:cubicBezTo>
                      <a:pt x="0" y="174"/>
                      <a:pt x="8" y="92"/>
                      <a:pt x="63" y="46"/>
                    </a:cubicBezTo>
                    <a:cubicBezTo>
                      <a:pt x="118" y="0"/>
                      <a:pt x="200" y="6"/>
                      <a:pt x="246" y="61"/>
                    </a:cubicBezTo>
                    <a:cubicBezTo>
                      <a:pt x="291" y="115"/>
                      <a:pt x="284" y="197"/>
                      <a:pt x="228" y="243"/>
                    </a:cubicBezTo>
                    <a:cubicBezTo>
                      <a:pt x="173" y="289"/>
                      <a:pt x="91" y="283"/>
                      <a:pt x="46" y="229"/>
                    </a:cubicBezTo>
                    <a:close/>
                    <a:moveTo>
                      <a:pt x="234" y="70"/>
                    </a:moveTo>
                    <a:cubicBezTo>
                      <a:pt x="194" y="22"/>
                      <a:pt x="121" y="16"/>
                      <a:pt x="72" y="57"/>
                    </a:cubicBezTo>
                    <a:cubicBezTo>
                      <a:pt x="23" y="98"/>
                      <a:pt x="17" y="171"/>
                      <a:pt x="57" y="219"/>
                    </a:cubicBezTo>
                    <a:cubicBezTo>
                      <a:pt x="97" y="267"/>
                      <a:pt x="170" y="273"/>
                      <a:pt x="219" y="232"/>
                    </a:cubicBezTo>
                    <a:cubicBezTo>
                      <a:pt x="268" y="191"/>
                      <a:pt x="275" y="118"/>
                      <a:pt x="234" y="70"/>
                    </a:cubicBezTo>
                  </a:path>
                </a:pathLst>
              </a:custGeom>
              <a:gradFill rotWithShape="0">
                <a:gsLst>
                  <a:gs pos="0">
                    <a:srgbClr val="e01c1e"/>
                  </a:gs>
                  <a:gs pos="100000">
                    <a:srgbClr val="c0181a"/>
                  </a:gs>
                </a:gsLst>
                <a:lin ang="5400000"/>
              </a:gradFill>
              <a:ln w="3240">
                <a:solidFill>
                  <a:srgbClr val="d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331640" y="189000"/>
            <a:ext cx="70722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我是</a:t>
            </a: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xxx, I ca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337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有             英语四级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级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算机国家二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想             日企翻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热情开朗是我的标签，技术过硬是我的底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想，我敢，我能  是我的座右铭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私は貴社に参加することができることを望ん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私は会社の発展のために力を尽くし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希望能够加入贵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愿意为公司的发展尽一份力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右箭头 48"/>
          <p:cNvSpPr/>
          <p:nvPr/>
        </p:nvSpPr>
        <p:spPr>
          <a:xfrm>
            <a:off x="1042920" y="1700280"/>
            <a:ext cx="936720" cy="144360"/>
          </a:xfrm>
          <a:prstGeom prst="rightArrow">
            <a:avLst>
              <a:gd name="adj1" fmla="val 50000"/>
              <a:gd name="adj2" fmla="val 49927"/>
            </a:avLst>
          </a:prstGeom>
          <a:solidFill>
            <a:srgbClr val="001d70"/>
          </a:solidFill>
          <a:ln w="25560">
            <a:solidFill>
              <a:srgbClr val="001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右箭头 49"/>
          <p:cNvSpPr/>
          <p:nvPr/>
        </p:nvSpPr>
        <p:spPr>
          <a:xfrm>
            <a:off x="1042920" y="2133720"/>
            <a:ext cx="936720" cy="142920"/>
          </a:xfrm>
          <a:prstGeom prst="rightArrow">
            <a:avLst>
              <a:gd name="adj1" fmla="val 50000"/>
              <a:gd name="adj2" fmla="val 50431"/>
            </a:avLst>
          </a:prstGeom>
          <a:solidFill>
            <a:srgbClr val="001d70"/>
          </a:solidFill>
          <a:ln w="25560">
            <a:solidFill>
              <a:srgbClr val="001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7" name="矩形 4"/>
            <p:cNvSpPr/>
            <p:nvPr/>
          </p:nvSpPr>
          <p:spPr>
            <a:xfrm>
              <a:off x="9363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TextBox 7"/>
            <p:cNvSpPr/>
            <p:nvPr/>
          </p:nvSpPr>
          <p:spPr>
            <a:xfrm rot="20926800">
              <a:off x="2037600" y="3390840"/>
              <a:ext cx="504072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06:30:42Z</dcterms:created>
  <dc:creator>new</dc:creator>
  <dc:description/>
  <cp:keywords/>
  <dc:language>en-US</dc:language>
  <cp:lastModifiedBy>a</cp:lastModifiedBy>
  <dcterms:modified xsi:type="dcterms:W3CDTF">2014-05-20T07:28:15Z</dcterms:modified>
  <cp:revision>5</cp:revision>
  <dc:subject/>
  <dc:title>个人简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