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9.jpeg" ContentType="image/jpeg"/>
  <Override PartName="/ppt/media/image31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B12-D185-4539-B357-C63095B8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ACC-FA89-4B45-80D2-644B85E3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B4D-9274-4D1D-BA9A-D6CFA806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6B6-5A75-4A5E-9CCB-D047BEEA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48A7-D139-4E2A-8812-7A91D791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97D1-E461-45B6-8C5B-8594E375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393C-77A7-4BD1-AF94-221A2928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905B-1653-480E-AFEF-E2BEB3F3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90DC-EA04-4183-958F-539114C9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9DBA-7774-466E-AB6F-17D74B7A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67B5-74C5-45BD-803A-5916105D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C41-6C89-455C-BC56-136744DD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C74A-719C-4365-A130-9BAD7145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216C-A001-4B7A-9F8E-C7F617FE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105E-E66C-486E-A4AA-94D76B5E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3ABD-142D-462B-8CE9-7A2C80DD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7E5F-3E4D-43D7-9F4C-6429A78E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76B-CF1A-4CD7-BA81-44AA394F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F21-F113-4127-A3FF-03959EB2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9AB-DAA0-438A-BDD8-B3E604EC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E09-5D01-4F1E-B315-AA7C169C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54F-715D-4520-9705-5F836808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C28-EA31-4400-9A8B-ED62FA9F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1EF-FFB0-4D84-8C3C-9729FE71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DC2E-6E22-4AE9-8BEC-51E48D4B2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1B5B-D517-485C-AD37-A4193023A1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pic_136118"/>
          <p:cNvPicPr/>
          <p:nvPr/>
        </p:nvPicPr>
        <p:blipFill>
          <a:blip r:embed="rId1">
            <a:lum contrast="18000"/>
          </a:blip>
          <a:srcRect l="0" t="40527" r="40697" b="0"/>
          <a:stretch/>
        </p:blipFill>
        <p:spPr>
          <a:xfrm>
            <a:off x="4348080" y="0"/>
            <a:ext cx="47959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Freeform 9"/>
          <p:cNvSpPr/>
          <p:nvPr/>
        </p:nvSpPr>
        <p:spPr>
          <a:xfrm>
            <a:off x="3672000" y="1708200"/>
            <a:ext cx="1904760" cy="515772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5157720"/>
              <a:gd name="textAreaBottom" fmla="*/ 5158080 h 5157720"/>
            </a:gdLst>
            <a:ahLst/>
            <a:rect l="textAreaLeft" t="textAreaTop" r="textAreaRight" b="textAreaBottom"/>
            <a:pathLst>
              <a:path w="411" h="1113">
                <a:moveTo>
                  <a:pt x="411" y="1113"/>
                </a:moveTo>
                <a:cubicBezTo>
                  <a:pt x="340" y="1113"/>
                  <a:pt x="340" y="1113"/>
                  <a:pt x="340" y="1113"/>
                </a:cubicBezTo>
                <a:cubicBezTo>
                  <a:pt x="340" y="1113"/>
                  <a:pt x="0" y="576"/>
                  <a:pt x="239" y="0"/>
                </a:cubicBezTo>
                <a:cubicBezTo>
                  <a:pt x="239" y="0"/>
                  <a:pt x="37" y="581"/>
                  <a:pt x="411" y="1113"/>
                </a:cubicBezTo>
                <a:close/>
              </a:path>
            </a:pathLst>
          </a:custGeom>
          <a:solidFill>
            <a:srgbClr val="6db129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8"/>
          <p:cNvSpPr/>
          <p:nvPr/>
        </p:nvSpPr>
        <p:spPr>
          <a:xfrm>
            <a:off x="0" y="-7920"/>
            <a:ext cx="5675400" cy="6865920"/>
          </a:xfrm>
          <a:custGeom>
            <a:avLst/>
            <a:gdLst>
              <a:gd name="textAreaLeft" fmla="*/ 0 w 5675400"/>
              <a:gd name="textAreaRight" fmla="*/ 5675760 w 5675400"/>
              <a:gd name="textAreaTop" fmla="*/ 0 h 6865920"/>
              <a:gd name="textAreaBottom" fmla="*/ 6866280 h 6865920"/>
            </a:gdLst>
            <a:ahLst/>
            <a:rect l="textAreaLeft" t="textAreaTop" r="textAreaRight" b="textAreaBottom"/>
            <a:pathLst>
              <a:path w="1225" h="1483">
                <a:moveTo>
                  <a:pt x="1225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483"/>
                  <a:pt x="0" y="1483"/>
                  <a:pt x="0" y="1483"/>
                </a:cubicBezTo>
                <a:cubicBezTo>
                  <a:pt x="1132" y="1483"/>
                  <a:pt x="1132" y="1483"/>
                  <a:pt x="1132" y="1483"/>
                </a:cubicBezTo>
                <a:cubicBezTo>
                  <a:pt x="1132" y="1483"/>
                  <a:pt x="679" y="793"/>
                  <a:pt x="1225" y="0"/>
                </a:cubicBezTo>
                <a:close/>
              </a:path>
            </a:pathLst>
          </a:custGeom>
          <a:solidFill>
            <a:srgbClr val="29de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9"/>
          <p:cNvSpPr/>
          <p:nvPr/>
        </p:nvSpPr>
        <p:spPr>
          <a:xfrm>
            <a:off x="3672000" y="1314360"/>
            <a:ext cx="2195280" cy="555480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5554800"/>
              <a:gd name="textAreaBottom" fmla="*/ 5555160 h 5554800"/>
            </a:gdLst>
            <a:ahLst/>
            <a:rect l="textAreaLeft" t="textAreaTop" r="textAreaRight" b="textAreaBottom"/>
            <a:pathLst>
              <a:path w="411" h="1113">
                <a:moveTo>
                  <a:pt x="411" y="1113"/>
                </a:moveTo>
                <a:cubicBezTo>
                  <a:pt x="340" y="1113"/>
                  <a:pt x="340" y="1113"/>
                  <a:pt x="340" y="1113"/>
                </a:cubicBezTo>
                <a:cubicBezTo>
                  <a:pt x="340" y="1113"/>
                  <a:pt x="0" y="576"/>
                  <a:pt x="239" y="0"/>
                </a:cubicBezTo>
                <a:cubicBezTo>
                  <a:pt x="239" y="0"/>
                  <a:pt x="37" y="581"/>
                  <a:pt x="411" y="1113"/>
                </a:cubicBezTo>
                <a:close/>
              </a:path>
            </a:pathLst>
          </a:custGeom>
          <a:solidFill>
            <a:srgbClr val="b2b525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433160" y="790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e4000"/>
                </a:solidFill>
                <a:latin typeface="幼圆"/>
                <a:ea typeface="幼圆"/>
              </a:rPr>
              <a:t>专题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extBox 12" descr=""/>
          <p:cNvPicPr/>
          <p:nvPr/>
        </p:nvPicPr>
        <p:blipFill>
          <a:blip r:embed="rId2"/>
          <a:stretch/>
        </p:blipFill>
        <p:spPr>
          <a:xfrm>
            <a:off x="579600" y="2120760"/>
            <a:ext cx="320652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pic_277071"/>
          <p:cNvPicPr/>
          <p:nvPr/>
        </p:nvPicPr>
        <p:blipFill>
          <a:blip r:embed="rId1"/>
          <a:stretch/>
        </p:blipFill>
        <p:spPr>
          <a:xfrm>
            <a:off x="1924200" y="1657440"/>
            <a:ext cx="5452920" cy="440208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sp>
        <p:nvSpPr>
          <p:cNvPr id="173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11080" y="2563920"/>
            <a:ext cx="5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早期基础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387440" y="6173640"/>
            <a:ext cx="74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梅塞尔松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斯塔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证明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半保留复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811080" y="2563920"/>
            <a:ext cx="5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早期基础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354560" y="285264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克里克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等提出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中心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克里克"/>
          <p:cNvPicPr/>
          <p:nvPr/>
        </p:nvPicPr>
        <p:blipFill>
          <a:blip r:embed="rId1"/>
          <a:stretch/>
        </p:blipFill>
        <p:spPr>
          <a:xfrm>
            <a:off x="1722600" y="1700280"/>
            <a:ext cx="2342880" cy="331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84" name=""/>
          <p:cNvGrpSpPr/>
          <p:nvPr/>
        </p:nvGrpSpPr>
        <p:grpSpPr>
          <a:xfrm>
            <a:off x="1722600" y="5047920"/>
            <a:ext cx="6798600" cy="1235520"/>
            <a:chOff x="1722600" y="5047920"/>
            <a:chExt cx="6798600" cy="1235520"/>
          </a:xfrm>
        </p:grpSpPr>
        <p:sp>
          <p:nvSpPr>
            <p:cNvPr id="185" name="Text Box 10"/>
            <p:cNvSpPr/>
            <p:nvPr/>
          </p:nvSpPr>
          <p:spPr>
            <a:xfrm>
              <a:off x="2640240" y="5416200"/>
              <a:ext cx="99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D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5025600" y="5416200"/>
              <a:ext cx="99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7169040" y="5416200"/>
              <a:ext cx="13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蛋白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>
              <a:off x="3538440" y="5636160"/>
              <a:ext cx="1209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4"/>
            <p:cNvSpPr/>
            <p:nvPr/>
          </p:nvSpPr>
          <p:spPr>
            <a:xfrm>
              <a:off x="5891400" y="5636160"/>
              <a:ext cx="1018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 flipH="1">
              <a:off x="3538440" y="5782320"/>
              <a:ext cx="12096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 rot="17746800">
              <a:off x="2331360" y="5310720"/>
              <a:ext cx="923400" cy="541080"/>
            </a:xfrm>
            <a:custGeom>
              <a:avLst/>
              <a:gdLst>
                <a:gd name="textAreaLeft" fmla="*/ 191160 w 923400"/>
                <a:gd name="textAreaRight" fmla="*/ 662400 w 923400"/>
                <a:gd name="textAreaTop" fmla="*/ 72360 h 541080"/>
                <a:gd name="textAreaBottom" fmla="*/ 468720 h 54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49" hR="21600" stAng="10800000" swAng="5400000"/>
                  <a:lnTo>
                    <a:pt x="11022" y="0"/>
                  </a:lnTo>
                  <a:arcTo wR="8949" hR="21600" stAng="-5400000" swAng="3160093"/>
                  <a:lnTo>
                    <a:pt x="21184" y="15092"/>
                  </a:lnTo>
                  <a:lnTo>
                    <a:pt x="18935" y="21600"/>
                  </a:lnTo>
                  <a:lnTo>
                    <a:pt x="15853" y="15092"/>
                  </a:lnTo>
                  <a:lnTo>
                    <a:pt x="17482" y="15092"/>
                  </a:lnTo>
                  <a:arcTo wR="8949" hR="21600" stAng="-2239907" swAng="-2994140"/>
                  <a:lnTo>
                    <a:pt x="9986" y="145"/>
                  </a:lnTo>
                  <a:arcTo wR="8949" hR="21600" stAng="-5565953" swAng="-5234047"/>
                  <a:close/>
                </a:path>
                <a:path fill="darkenLess" w="21600" h="21600">
                  <a:moveTo>
                    <a:pt x="0" y="21600"/>
                  </a:moveTo>
                  <a:arcTo wR="8949" hR="21600" stAng="10800000" swAng="5400000"/>
                  <a:lnTo>
                    <a:pt x="8949" y="0"/>
                  </a:lnTo>
                  <a:arcTo wR="8949" hR="21600" stAng="-5400000" swAng="165953"/>
                  <a:lnTo>
                    <a:pt x="9986" y="145"/>
                  </a:lnTo>
                  <a:arcTo wR="8949" hR="21600" stAng="-5565953" swAng="-5234047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7"/>
            <p:cNvSpPr/>
            <p:nvPr/>
          </p:nvSpPr>
          <p:spPr>
            <a:xfrm rot="17746800">
              <a:off x="4689000" y="5310720"/>
              <a:ext cx="923400" cy="540720"/>
            </a:xfrm>
            <a:custGeom>
              <a:avLst/>
              <a:gdLst>
                <a:gd name="textAreaLeft" fmla="*/ 191160 w 923400"/>
                <a:gd name="textAreaRight" fmla="*/ 662400 w 923400"/>
                <a:gd name="textAreaTop" fmla="*/ 72360 h 540720"/>
                <a:gd name="textAreaBottom" fmla="*/ 46836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49" hR="21600" stAng="10800000" swAng="5400000"/>
                  <a:lnTo>
                    <a:pt x="11022" y="0"/>
                  </a:lnTo>
                  <a:arcTo wR="8949" hR="21600" stAng="-5400000" swAng="3160093"/>
                  <a:lnTo>
                    <a:pt x="21184" y="15092"/>
                  </a:lnTo>
                  <a:lnTo>
                    <a:pt x="18935" y="21600"/>
                  </a:lnTo>
                  <a:lnTo>
                    <a:pt x="15853" y="15092"/>
                  </a:lnTo>
                  <a:lnTo>
                    <a:pt x="17482" y="15092"/>
                  </a:lnTo>
                  <a:arcTo wR="8949" hR="21600" stAng="-2239907" swAng="-2994140"/>
                  <a:lnTo>
                    <a:pt x="9986" y="145"/>
                  </a:lnTo>
                  <a:arcTo wR="8949" hR="21600" stAng="-5565953" swAng="-5234047"/>
                  <a:close/>
                </a:path>
                <a:path fill="darkenLess" w="21600" h="21600">
                  <a:moveTo>
                    <a:pt x="0" y="21600"/>
                  </a:moveTo>
                  <a:arcTo wR="8949" hR="21600" stAng="10800000" swAng="5400000"/>
                  <a:lnTo>
                    <a:pt x="8949" y="0"/>
                  </a:lnTo>
                  <a:arcTo wR="8949" hR="21600" stAng="-5400000" swAng="165953"/>
                  <a:lnTo>
                    <a:pt x="9986" y="145"/>
                  </a:lnTo>
                  <a:arcTo wR="8949" hR="21600" stAng="-5565953" swAng="-5234047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8"/>
            <p:cNvSpPr/>
            <p:nvPr/>
          </p:nvSpPr>
          <p:spPr>
            <a:xfrm>
              <a:off x="3692880" y="5052960"/>
              <a:ext cx="8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幼圆"/>
                  <a:ea typeface="幼圆"/>
                </a:rPr>
                <a:t>转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5912280" y="5052960"/>
              <a:ext cx="8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幼圆"/>
                  <a:ea typeface="幼圆"/>
                </a:rPr>
                <a:t>翻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0"/>
            <p:cNvSpPr/>
            <p:nvPr/>
          </p:nvSpPr>
          <p:spPr>
            <a:xfrm>
              <a:off x="3538440" y="588456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幼圆"/>
                  <a:ea typeface="幼圆"/>
                </a:rPr>
                <a:t>逆转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1"/>
            <p:cNvSpPr/>
            <p:nvPr/>
          </p:nvSpPr>
          <p:spPr>
            <a:xfrm>
              <a:off x="1722600" y="5178240"/>
              <a:ext cx="8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幼圆"/>
                  <a:ea typeface="幼圆"/>
                </a:rPr>
                <a:t>复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22"/>
            <p:cNvSpPr/>
            <p:nvPr/>
          </p:nvSpPr>
          <p:spPr>
            <a:xfrm rot="17746800">
              <a:off x="6841440" y="5310720"/>
              <a:ext cx="923400" cy="540720"/>
            </a:xfrm>
            <a:custGeom>
              <a:avLst/>
              <a:gdLst>
                <a:gd name="textAreaLeft" fmla="*/ 191160 w 923400"/>
                <a:gd name="textAreaRight" fmla="*/ 662400 w 923400"/>
                <a:gd name="textAreaTop" fmla="*/ 72360 h 540720"/>
                <a:gd name="textAreaBottom" fmla="*/ 46836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49" hR="21600" stAng="10800000" swAng="5400000"/>
                  <a:lnTo>
                    <a:pt x="11022" y="0"/>
                  </a:lnTo>
                  <a:arcTo wR="8949" hR="21600" stAng="-5400000" swAng="3160093"/>
                  <a:lnTo>
                    <a:pt x="21184" y="15092"/>
                  </a:lnTo>
                  <a:lnTo>
                    <a:pt x="18935" y="21600"/>
                  </a:lnTo>
                  <a:lnTo>
                    <a:pt x="15853" y="15092"/>
                  </a:lnTo>
                  <a:lnTo>
                    <a:pt x="17482" y="15092"/>
                  </a:lnTo>
                  <a:arcTo wR="8949" hR="21600" stAng="-2239907" swAng="-2994140"/>
                  <a:lnTo>
                    <a:pt x="9986" y="145"/>
                  </a:lnTo>
                  <a:arcTo wR="8949" hR="21600" stAng="-5565953" swAng="-5234047"/>
                  <a:close/>
                </a:path>
                <a:path fill="darkenLess" w="21600" h="21600">
                  <a:moveTo>
                    <a:pt x="0" y="21600"/>
                  </a:moveTo>
                  <a:arcTo wR="8949" hR="21600" stAng="10800000" swAng="5400000"/>
                  <a:lnTo>
                    <a:pt x="8949" y="0"/>
                  </a:lnTo>
                  <a:arcTo wR="8949" hR="21600" stAng="-5400000" swAng="165953"/>
                  <a:lnTo>
                    <a:pt x="9986" y="145"/>
                  </a:lnTo>
                  <a:arcTo wR="8949" hR="21600" stAng="-5565953" swAng="-5234047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8" descr="9"/>
          <p:cNvPicPr/>
          <p:nvPr/>
        </p:nvPicPr>
        <p:blipFill>
          <a:blip r:embed="rId1"/>
          <a:stretch/>
        </p:blipFill>
        <p:spPr>
          <a:xfrm>
            <a:off x="1844640" y="1644480"/>
            <a:ext cx="5454720" cy="44024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811080" y="2563920"/>
            <a:ext cx="5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早期基础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387440" y="6097680"/>
            <a:ext cx="7334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963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年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尼伦伯格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马太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破译编码氨基酸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遗传密码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966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年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霍拉纳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用实验加以证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747720" y="1943280"/>
            <a:ext cx="6985080" cy="418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因转移载体的发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工具酶的发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)DNA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合成和测序技术的发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4)DNA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外重组的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5)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重组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表达实验的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6)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第一例转基因动物问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7)PCR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技术的发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7" descr="03.jpg"/>
          <p:cNvPicPr/>
          <p:nvPr/>
        </p:nvPicPr>
        <p:blipFill>
          <a:blip r:embed="rId1"/>
          <a:srcRect l="0" t="0" r="0" b="10855"/>
          <a:stretch/>
        </p:blipFill>
        <p:spPr>
          <a:xfrm>
            <a:off x="0" y="0"/>
            <a:ext cx="9144000" cy="3651120"/>
          </a:xfrm>
          <a:prstGeom prst="rect">
            <a:avLst/>
          </a:prstGeom>
          <a:ln w="0">
            <a:noFill/>
          </a:ln>
        </p:spPr>
      </p:pic>
      <p:sp>
        <p:nvSpPr>
          <p:cNvPr id="209" name="Freeform 9"/>
          <p:cNvSpPr/>
          <p:nvPr/>
        </p:nvSpPr>
        <p:spPr>
          <a:xfrm>
            <a:off x="0" y="3589200"/>
            <a:ext cx="9144000" cy="1230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1984" h="268">
                <a:moveTo>
                  <a:pt x="1590" y="78"/>
                </a:moveTo>
                <a:cubicBezTo>
                  <a:pt x="1590" y="78"/>
                  <a:pt x="1812" y="42"/>
                  <a:pt x="1984" y="74"/>
                </a:cubicBezTo>
                <a:cubicBezTo>
                  <a:pt x="1984" y="34"/>
                  <a:pt x="1984" y="34"/>
                  <a:pt x="1984" y="34"/>
                </a:cubicBezTo>
                <a:cubicBezTo>
                  <a:pt x="1984" y="34"/>
                  <a:pt x="1804" y="0"/>
                  <a:pt x="1580" y="40"/>
                </a:cubicBezTo>
                <a:cubicBezTo>
                  <a:pt x="1356" y="80"/>
                  <a:pt x="1136" y="172"/>
                  <a:pt x="958" y="198"/>
                </a:cubicBezTo>
                <a:cubicBezTo>
                  <a:pt x="776" y="224"/>
                  <a:pt x="176" y="176"/>
                  <a:pt x="0" y="138"/>
                </a:cubicBezTo>
                <a:cubicBezTo>
                  <a:pt x="0" y="138"/>
                  <a:pt x="535" y="268"/>
                  <a:pt x="956" y="230"/>
                </a:cubicBezTo>
              </a:path>
            </a:pathLst>
          </a:custGeom>
          <a:solidFill>
            <a:srgbClr val="3c8c93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0"/>
          <p:cNvSpPr/>
          <p:nvPr/>
        </p:nvSpPr>
        <p:spPr>
          <a:xfrm>
            <a:off x="4411800" y="3948120"/>
            <a:ext cx="2909880" cy="696960"/>
          </a:xfrm>
          <a:custGeom>
            <a:avLst/>
            <a:gdLst>
              <a:gd name="textAreaLeft" fmla="*/ 0 w 2909880"/>
              <a:gd name="textAreaRight" fmla="*/ 2910240 w 290988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634" h="152">
                <a:moveTo>
                  <a:pt x="0" y="152"/>
                </a:moveTo>
                <a:cubicBezTo>
                  <a:pt x="286" y="126"/>
                  <a:pt x="426" y="30"/>
                  <a:pt x="634" y="0"/>
                </a:cubicBezTo>
              </a:path>
            </a:pathLst>
          </a:custGeom>
          <a:solidFill>
            <a:srgbClr val="00b05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1"/>
          <p:cNvSpPr/>
          <p:nvPr/>
        </p:nvSpPr>
        <p:spPr>
          <a:xfrm>
            <a:off x="0" y="3349800"/>
            <a:ext cx="9144000" cy="1441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1986" h="314">
                <a:moveTo>
                  <a:pt x="1986" y="92"/>
                </a:moveTo>
                <a:cubicBezTo>
                  <a:pt x="1986" y="16"/>
                  <a:pt x="1986" y="16"/>
                  <a:pt x="1986" y="16"/>
                </a:cubicBezTo>
                <a:cubicBezTo>
                  <a:pt x="1986" y="16"/>
                  <a:pt x="1830" y="0"/>
                  <a:pt x="1662" y="14"/>
                </a:cubicBezTo>
                <a:cubicBezTo>
                  <a:pt x="1494" y="28"/>
                  <a:pt x="1259" y="106"/>
                  <a:pt x="1032" y="178"/>
                </a:cubicBezTo>
                <a:cubicBezTo>
                  <a:pt x="906" y="218"/>
                  <a:pt x="182" y="234"/>
                  <a:pt x="0" y="176"/>
                </a:cubicBezTo>
                <a:cubicBezTo>
                  <a:pt x="0" y="190"/>
                  <a:pt x="0" y="190"/>
                  <a:pt x="0" y="190"/>
                </a:cubicBezTo>
                <a:cubicBezTo>
                  <a:pt x="0" y="190"/>
                  <a:pt x="790" y="314"/>
                  <a:pt x="1024" y="248"/>
                </a:cubicBezTo>
                <a:cubicBezTo>
                  <a:pt x="1258" y="182"/>
                  <a:pt x="1676" y="30"/>
                  <a:pt x="1986" y="92"/>
                </a:cubicBezTo>
                <a:close/>
              </a:path>
            </a:pathLst>
          </a:custGeom>
          <a:solidFill>
            <a:srgbClr val="d9d9d9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Rectangle 15" descr=""/>
          <p:cNvPicPr/>
          <p:nvPr/>
        </p:nvPicPr>
        <p:blipFill>
          <a:blip r:embed="rId2"/>
          <a:stretch/>
        </p:blipFill>
        <p:spPr>
          <a:xfrm>
            <a:off x="146160" y="4730760"/>
            <a:ext cx="88516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814320" y="458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探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092400" y="1217520"/>
            <a:ext cx="535644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苏云金芽孢杆菌含有一种可以合成毒蛋白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让细菌的毒蛋白基因在棉花细胞中表达，可培育出抵抗棉铃虫害的抗虫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06520" y="1211400"/>
            <a:ext cx="2447640" cy="2245680"/>
            <a:chOff x="506520" y="1211400"/>
            <a:chExt cx="2447640" cy="2245680"/>
          </a:xfrm>
        </p:grpSpPr>
        <p:pic>
          <p:nvPicPr>
            <p:cNvPr id="217" name="Picture 9" descr="cotton2"/>
            <p:cNvPicPr/>
            <p:nvPr/>
          </p:nvPicPr>
          <p:blipFill>
            <a:blip r:embed="rId1"/>
            <a:srcRect l="0" t="0" r="0" b="23336"/>
            <a:stretch/>
          </p:blipFill>
          <p:spPr>
            <a:xfrm>
              <a:off x="506520" y="2285640"/>
              <a:ext cx="244764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0" descr="BT棉花3"/>
            <p:cNvPicPr/>
            <p:nvPr/>
          </p:nvPicPr>
          <p:blipFill>
            <a:blip r:embed="rId2"/>
            <a:srcRect l="0" t="3452" r="2186" b="0"/>
            <a:stretch/>
          </p:blipFill>
          <p:spPr>
            <a:xfrm>
              <a:off x="1698840" y="1211400"/>
              <a:ext cx="1254960" cy="10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1" descr="BT棉花4"/>
            <p:cNvPicPr/>
            <p:nvPr/>
          </p:nvPicPr>
          <p:blipFill>
            <a:blip r:embed="rId3"/>
            <a:stretch/>
          </p:blipFill>
          <p:spPr>
            <a:xfrm>
              <a:off x="506520" y="1215720"/>
              <a:ext cx="1192320" cy="106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2"/>
            <p:cNvSpPr/>
            <p:nvPr/>
          </p:nvSpPr>
          <p:spPr>
            <a:xfrm>
              <a:off x="673920" y="2069640"/>
              <a:ext cx="21150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3300"/>
                  </a:solidFill>
                  <a:latin typeface="幼圆"/>
                  <a:ea typeface="幼圆"/>
                </a:rPr>
                <a:t>普通棉花　　抗虫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1"/>
          <p:cNvSpPr/>
          <p:nvPr/>
        </p:nvSpPr>
        <p:spPr>
          <a:xfrm>
            <a:off x="3690360" y="358308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想一想：完成抗虫棉的培育，需要哪些</a:t>
            </a: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关键工作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3" descr=""/>
          <p:cNvPicPr/>
          <p:nvPr/>
        </p:nvPicPr>
        <p:blipFill>
          <a:blip r:embed="rId4"/>
          <a:stretch/>
        </p:blipFill>
        <p:spPr>
          <a:xfrm>
            <a:off x="5680080" y="4106880"/>
            <a:ext cx="2486160" cy="2584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"/>
          <p:cNvPicPr/>
          <p:nvPr/>
        </p:nvPicPr>
        <p:blipFill>
          <a:blip r:embed="rId5"/>
          <a:stretch/>
        </p:blipFill>
        <p:spPr>
          <a:xfrm>
            <a:off x="1806480" y="4889520"/>
            <a:ext cx="32076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"/>
          <p:cNvPicPr/>
          <p:nvPr/>
        </p:nvPicPr>
        <p:blipFill>
          <a:blip r:embed="rId6">
            <a:lum bright="-18000"/>
          </a:blip>
          <a:stretch/>
        </p:blipFill>
        <p:spPr>
          <a:xfrm rot="3747600">
            <a:off x="1703160" y="4717440"/>
            <a:ext cx="368280" cy="4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"/>
          <p:cNvPicPr/>
          <p:nvPr/>
        </p:nvPicPr>
        <p:blipFill>
          <a:blip r:embed="rId7">
            <a:lum bright="-18000"/>
          </a:blip>
          <a:stretch/>
        </p:blipFill>
        <p:spPr>
          <a:xfrm rot="3361200">
            <a:off x="1692000" y="5054400"/>
            <a:ext cx="368280" cy="431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"/>
          <p:cNvPicPr/>
          <p:nvPr/>
        </p:nvPicPr>
        <p:blipFill>
          <a:blip r:embed="rId8"/>
          <a:stretch/>
        </p:blipFill>
        <p:spPr>
          <a:xfrm>
            <a:off x="1101600" y="4211640"/>
            <a:ext cx="2598840" cy="2443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2" descr=""/>
          <p:cNvPicPr/>
          <p:nvPr/>
        </p:nvPicPr>
        <p:blipFill>
          <a:blip r:embed="rId9"/>
          <a:stretch/>
        </p:blipFill>
        <p:spPr>
          <a:xfrm>
            <a:off x="6491160" y="5183280"/>
            <a:ext cx="320760" cy="506160"/>
          </a:xfrm>
          <a:prstGeom prst="rect">
            <a:avLst/>
          </a:prstGeom>
          <a:ln w="0">
            <a:noFill/>
          </a:ln>
        </p:spPr>
      </p:pic>
      <p:sp>
        <p:nvSpPr>
          <p:cNvPr id="228" name="Oval 18"/>
          <p:cNvSpPr/>
          <p:nvPr/>
        </p:nvSpPr>
        <p:spPr>
          <a:xfrm>
            <a:off x="6491160" y="5477040"/>
            <a:ext cx="174600" cy="13788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024440" y="5116680"/>
            <a:ext cx="406080" cy="430200"/>
            <a:chOff x="4024440" y="5116680"/>
            <a:chExt cx="406080" cy="430200"/>
          </a:xfrm>
        </p:grpSpPr>
        <p:pic>
          <p:nvPicPr>
            <p:cNvPr id="230" name="Picture 20" descr=""/>
            <p:cNvPicPr/>
            <p:nvPr/>
          </p:nvPicPr>
          <p:blipFill>
            <a:blip r:embed="rId10"/>
            <a:stretch/>
          </p:blipFill>
          <p:spPr>
            <a:xfrm>
              <a:off x="4109760" y="5132880"/>
              <a:ext cx="320760" cy="4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Oval 21"/>
            <p:cNvSpPr/>
            <p:nvPr/>
          </p:nvSpPr>
          <p:spPr>
            <a:xfrm>
              <a:off x="4024440" y="5116680"/>
              <a:ext cx="393840" cy="412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689840" y="4761000"/>
            <a:ext cx="477360" cy="432360"/>
            <a:chOff x="1689840" y="4761000"/>
            <a:chExt cx="477360" cy="432360"/>
          </a:xfrm>
        </p:grpSpPr>
        <p:pic>
          <p:nvPicPr>
            <p:cNvPr id="233" name="Picture 24" descr=""/>
            <p:cNvPicPr/>
            <p:nvPr/>
          </p:nvPicPr>
          <p:blipFill>
            <a:blip r:embed="rId11">
              <a:lum bright="-12000"/>
            </a:blip>
            <a:stretch/>
          </p:blipFill>
          <p:spPr>
            <a:xfrm rot="4613400">
              <a:off x="1881360" y="4762080"/>
              <a:ext cx="9432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25" descr=""/>
            <p:cNvPicPr/>
            <p:nvPr/>
          </p:nvPicPr>
          <p:blipFill>
            <a:blip r:embed="rId12">
              <a:lum bright="-12000"/>
            </a:blip>
            <a:stretch/>
          </p:blipFill>
          <p:spPr>
            <a:xfrm rot="8246400">
              <a:off x="1776240" y="4822200"/>
              <a:ext cx="302400" cy="30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1650240" y="5113440"/>
            <a:ext cx="477360" cy="432360"/>
            <a:chOff x="1650240" y="5113440"/>
            <a:chExt cx="477360" cy="432360"/>
          </a:xfrm>
        </p:grpSpPr>
        <p:pic>
          <p:nvPicPr>
            <p:cNvPr id="236" name="Picture 27" descr=""/>
            <p:cNvPicPr/>
            <p:nvPr/>
          </p:nvPicPr>
          <p:blipFill>
            <a:blip r:embed="rId13">
              <a:lum bright="-12000"/>
            </a:blip>
            <a:stretch/>
          </p:blipFill>
          <p:spPr>
            <a:xfrm rot="4613400">
              <a:off x="1841760" y="5114520"/>
              <a:ext cx="9432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28" descr=""/>
            <p:cNvPicPr/>
            <p:nvPr/>
          </p:nvPicPr>
          <p:blipFill>
            <a:blip r:embed="rId14">
              <a:lum bright="-12000"/>
            </a:blip>
            <a:stretch/>
          </p:blipFill>
          <p:spPr>
            <a:xfrm rot="8246400">
              <a:off x="1736640" y="5174640"/>
              <a:ext cx="302400" cy="309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"/>
                            </p:stCondLst>
                            <p:childTnLst>
                              <p:par>
                                <p:cTn id="36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0.25677 0.03172 E">
                                      <p:cBhvr>
                                        <p:cTn id="369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55 0.00416 L 0.26371 0.02222 E">
                                      <p:cBhvr>
                                        <p:cTn id="385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1654920" y="458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工程培育抗虫棉的简要过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870440" y="13381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普通棉花</a:t>
            </a:r>
            <a:r>
              <a:rPr b="1" lang="en-US" sz="30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无抗虫特性</a:t>
            </a:r>
            <a:r>
              <a:rPr b="1" lang="en-US" sz="30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1557360" y="1862280"/>
            <a:ext cx="0" cy="598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623880" y="1863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提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392040" y="24480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抗虫基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1784520" y="2125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通过运载体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2367000" y="2735280"/>
            <a:ext cx="232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6754680" y="1936800"/>
            <a:ext cx="1800" cy="37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6813720" y="3041640"/>
            <a:ext cx="1440" cy="382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4694400" y="2460600"/>
            <a:ext cx="413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转基因棉花含</a:t>
            </a:r>
            <a:r>
              <a:rPr b="1" lang="zh-CN" sz="3000" spc="-1" strike="noStrike">
                <a:solidFill>
                  <a:srgbClr val="333399"/>
                </a:solidFill>
                <a:latin typeface="幼圆"/>
                <a:ea typeface="幼圆"/>
              </a:rPr>
              <a:t>抗虫基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6823080" y="4043520"/>
            <a:ext cx="144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4819680" y="440208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转基因棉花有</a:t>
            </a:r>
            <a:r>
              <a:rPr b="1" lang="zh-CN" sz="3000" spc="-1" strike="noStrike">
                <a:solidFill>
                  <a:srgbClr val="333399"/>
                </a:solidFill>
                <a:latin typeface="幼圆"/>
                <a:ea typeface="幼圆"/>
              </a:rPr>
              <a:t>抗虫特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433440" y="12891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苏云金芽孢杆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572000" y="3417840"/>
            <a:ext cx="435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转基因棉花产生</a:t>
            </a:r>
            <a:r>
              <a:rPr b="1" lang="zh-CN" sz="3000" spc="-1" strike="noStrike">
                <a:solidFill>
                  <a:srgbClr val="333399"/>
                </a:solidFill>
                <a:latin typeface="幼圆"/>
                <a:ea typeface="幼圆"/>
              </a:rPr>
              <a:t>伴胞晶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523800" y="5408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思考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以上过程中关键步骤或难点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1643040" y="458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工程培育抗虫棉的关键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4360" y="1492200"/>
            <a:ext cx="2877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关键步骤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141720" y="1533600"/>
            <a:ext cx="51814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抗虫基因从苏云金芽孢杆菌细胞内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提取出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706320" y="3459240"/>
            <a:ext cx="2878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关键步骤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135240" y="3511440"/>
            <a:ext cx="53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抗虫基因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与棉花</a:t>
            </a:r>
            <a:r>
              <a:rPr b="1" lang="en-US" sz="3200" spc="-1" strike="noStrike">
                <a:solidFill>
                  <a:srgbClr val="0033cc"/>
                </a:solidFill>
                <a:latin typeface="幼圆"/>
                <a:ea typeface="幼圆"/>
              </a:rPr>
              <a:t>DNA“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缝合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96960" y="5057640"/>
            <a:ext cx="2878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关键步骤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135240" y="505764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抗虫基因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进入棉花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28720" y="2529000"/>
            <a:ext cx="748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幼圆"/>
                <a:ea typeface="幼圆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分子手术刀”</a:t>
            </a:r>
            <a:r>
              <a:rPr b="1" lang="en-US" sz="3000" spc="-1" strike="noStrike">
                <a:solidFill>
                  <a:srgbClr val="000000"/>
                </a:solidFill>
                <a:latin typeface="幼圆"/>
                <a:ea typeface="幼圆"/>
              </a:rPr>
              <a:t>—— </a:t>
            </a:r>
            <a:r>
              <a:rPr b="1" lang="zh-CN" sz="3000" spc="-1" strike="noStrike">
                <a:solidFill>
                  <a:srgbClr val="ff3300"/>
                </a:solidFill>
                <a:latin typeface="幼圆"/>
                <a:ea typeface="幼圆"/>
              </a:rPr>
              <a:t>限制性核酸内切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849240" y="428472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幼圆"/>
                <a:ea typeface="幼圆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分子缝合针”</a:t>
            </a:r>
            <a:r>
              <a:rPr b="1" lang="en-US" sz="3000" spc="-1" strike="noStrike">
                <a:solidFill>
                  <a:srgbClr val="000000"/>
                </a:solidFill>
                <a:latin typeface="幼圆"/>
                <a:ea typeface="幼圆"/>
              </a:rPr>
              <a:t>—— </a:t>
            </a:r>
            <a:r>
              <a:rPr b="1" lang="en-US" sz="3000" spc="-1" strike="noStrike">
                <a:solidFill>
                  <a:srgbClr val="ff3300"/>
                </a:solidFill>
                <a:latin typeface="幼圆"/>
                <a:ea typeface="幼圆"/>
              </a:rPr>
              <a:t>DNA</a:t>
            </a:r>
            <a:r>
              <a:rPr b="1" lang="zh-CN" sz="3000" spc="-1" strike="noStrike">
                <a:solidFill>
                  <a:srgbClr val="ff3300"/>
                </a:solidFill>
                <a:latin typeface="幼圆"/>
                <a:ea typeface="幼圆"/>
              </a:rPr>
              <a:t>连接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843120" y="5654520"/>
            <a:ext cx="485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幼圆"/>
                <a:ea typeface="幼圆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分子运输车”</a:t>
            </a:r>
            <a:r>
              <a:rPr b="1" lang="en-US" sz="3000" spc="-1" strike="noStrike">
                <a:solidFill>
                  <a:srgbClr val="000000"/>
                </a:solidFill>
                <a:latin typeface="幼圆"/>
                <a:ea typeface="幼圆"/>
              </a:rPr>
              <a:t>——</a:t>
            </a:r>
            <a:r>
              <a:rPr b="1" lang="zh-CN" sz="3000" spc="-1" strike="noStrike">
                <a:solidFill>
                  <a:srgbClr val="ff3300"/>
                </a:solidFill>
                <a:latin typeface="幼圆"/>
                <a:ea typeface="幼圆"/>
              </a:rPr>
              <a:t>载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12"/>
          <p:cNvSpPr/>
          <p:nvPr/>
        </p:nvSpPr>
        <p:spPr>
          <a:xfrm>
            <a:off x="684360" y="321480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3"/>
          <p:cNvSpPr/>
          <p:nvPr/>
        </p:nvSpPr>
        <p:spPr>
          <a:xfrm>
            <a:off x="684360" y="501480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1909080" y="458640"/>
            <a:ext cx="50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限制性核酸内切酶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“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子手术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17"/>
          <p:cNvSpPr/>
          <p:nvPr/>
        </p:nvSpPr>
        <p:spPr>
          <a:xfrm>
            <a:off x="615960" y="298440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04920" y="1339920"/>
            <a:ext cx="6729480" cy="1557000"/>
            <a:chOff x="304920" y="1339920"/>
            <a:chExt cx="6729480" cy="1557000"/>
          </a:xfrm>
        </p:grpSpPr>
        <p:sp>
          <p:nvSpPr>
            <p:cNvPr id="271" name="TextBox 18"/>
            <p:cNvSpPr/>
            <p:nvPr/>
          </p:nvSpPr>
          <p:spPr>
            <a:xfrm>
              <a:off x="304920" y="1339920"/>
              <a:ext cx="680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1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9"/>
            <p:cNvSpPr/>
            <p:nvPr/>
          </p:nvSpPr>
          <p:spPr>
            <a:xfrm>
              <a:off x="2647440" y="1384200"/>
              <a:ext cx="438696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名称来源：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限制性核酸内切酶，又称限制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主要从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幼圆"/>
                </a:rPr>
                <a:t>原核生物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中分离纯化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3840" y="3117960"/>
            <a:ext cx="6978960" cy="1557000"/>
            <a:chOff x="393840" y="3117960"/>
            <a:chExt cx="6978960" cy="1557000"/>
          </a:xfrm>
        </p:grpSpPr>
        <p:sp>
          <p:nvSpPr>
            <p:cNvPr id="274" name="TextBox 20"/>
            <p:cNvSpPr/>
            <p:nvPr/>
          </p:nvSpPr>
          <p:spPr>
            <a:xfrm>
              <a:off x="393840" y="3117960"/>
              <a:ext cx="68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2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1"/>
            <p:cNvSpPr/>
            <p:nvPr/>
          </p:nvSpPr>
          <p:spPr>
            <a:xfrm>
              <a:off x="2772360" y="3162240"/>
              <a:ext cx="460044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用特点：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识别特定核苷酸序列，使每条链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特定部位的两个核苷酸之间的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幼圆"/>
                </a:rPr>
                <a:t>磷酸二酯键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断开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直接连接符 22"/>
          <p:cNvSpPr/>
          <p:nvPr/>
        </p:nvSpPr>
        <p:spPr>
          <a:xfrm>
            <a:off x="615960" y="476244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3"/>
          <p:cNvSpPr/>
          <p:nvPr/>
        </p:nvSpPr>
        <p:spPr>
          <a:xfrm>
            <a:off x="482760" y="4762440"/>
            <a:ext cx="68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바탕"/>
                <a:ea typeface="바탕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2588400" y="4807080"/>
            <a:ext cx="396036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用结果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幼圆"/>
              </a:rPr>
              <a:t>识产生黏性末端或平末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思考：限制酶在于原核生物中的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780840" y="458640"/>
            <a:ext cx="19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类与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17"/>
          <p:cNvSpPr/>
          <p:nvPr/>
        </p:nvSpPr>
        <p:spPr>
          <a:xfrm>
            <a:off x="527040" y="271764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22"/>
          <p:cNvSpPr/>
          <p:nvPr/>
        </p:nvSpPr>
        <p:spPr>
          <a:xfrm>
            <a:off x="615960" y="476244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1513440" y="1162080"/>
            <a:ext cx="61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已经从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微生物中分离出了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限制性内切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限制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032480" y="2850840"/>
            <a:ext cx="40626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粘质沙雷氏杆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Serratia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marcesens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820200" y="3029040"/>
            <a:ext cx="10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ma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927000" y="3784680"/>
            <a:ext cx="42166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大肠杆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Escherichia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coli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R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6661080" y="4229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E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co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R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704880" y="5069880"/>
            <a:ext cx="822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习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流感嗜血杆菌的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菌株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 Haemophilus influenzae d 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先后分离到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种限制酶，则分别命名为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5"/>
          <p:cNvSpPr/>
          <p:nvPr/>
        </p:nvSpPr>
        <p:spPr>
          <a:xfrm>
            <a:off x="2616120" y="5740560"/>
            <a:ext cx="47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Hin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d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、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Hin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dⅡ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和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Hin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d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右箭头 31"/>
          <p:cNvSpPr/>
          <p:nvPr/>
        </p:nvSpPr>
        <p:spPr>
          <a:xfrm>
            <a:off x="5460840" y="3162240"/>
            <a:ext cx="978120" cy="39996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右箭头 32"/>
          <p:cNvSpPr/>
          <p:nvPr/>
        </p:nvSpPr>
        <p:spPr>
          <a:xfrm>
            <a:off x="5460840" y="4229280"/>
            <a:ext cx="978120" cy="39996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3"/>
          <p:cNvSpPr/>
          <p:nvPr/>
        </p:nvSpPr>
        <p:spPr>
          <a:xfrm>
            <a:off x="402840" y="2513880"/>
            <a:ext cx="729000" cy="2587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命名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065960" y="458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工程的应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274400" y="1154160"/>
            <a:ext cx="6712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年全世界约有糖尿病患者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8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亿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我国约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6000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治疗糖尿病特效药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胰岛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每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00kg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猪或牛的胰腺中仅可提取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幼圆"/>
                <a:ea typeface="幼圆"/>
              </a:rPr>
              <a:t>~~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5g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"/>
          <p:cNvSpPr/>
          <p:nvPr/>
        </p:nvSpPr>
        <p:spPr>
          <a:xfrm>
            <a:off x="522360" y="293364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7360" y="3068640"/>
            <a:ext cx="56001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979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年，美国将人的胰岛素基因重组到大肠杆菌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实现了细菌生产胰岛素，大大降低了生产成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9760" y="5003640"/>
            <a:ext cx="6937560" cy="809640"/>
            <a:chOff x="689760" y="5003640"/>
            <a:chExt cx="6937560" cy="809640"/>
          </a:xfrm>
        </p:grpSpPr>
        <p:sp>
          <p:nvSpPr>
            <p:cNvPr id="94" name="Text Box 11"/>
            <p:cNvSpPr/>
            <p:nvPr/>
          </p:nvSpPr>
          <p:spPr>
            <a:xfrm>
              <a:off x="689760" y="5292720"/>
              <a:ext cx="69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DNA(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基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　　　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mRNA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蛋白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性状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2"/>
            <p:cNvSpPr/>
            <p:nvPr/>
          </p:nvSpPr>
          <p:spPr>
            <a:xfrm>
              <a:off x="2395440" y="5580000"/>
              <a:ext cx="100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3"/>
            <p:cNvSpPr/>
            <p:nvPr/>
          </p:nvSpPr>
          <p:spPr>
            <a:xfrm>
              <a:off x="4627800" y="558000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2612520" y="5003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转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5"/>
            <p:cNvSpPr/>
            <p:nvPr/>
          </p:nvSpPr>
          <p:spPr>
            <a:xfrm>
              <a:off x="4773240" y="5003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翻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直接连接符 14"/>
          <p:cNvSpPr/>
          <p:nvPr/>
        </p:nvSpPr>
        <p:spPr>
          <a:xfrm>
            <a:off x="522360" y="428472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1771920" y="43131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楷体_GB2312"/>
              </a:rPr>
              <a:t>思考：基因的表达与基因的什么过程有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85920" y="5877000"/>
            <a:ext cx="50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密码子在生物界是　　　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3348000" y="58341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幼圆"/>
                <a:ea typeface="幼圆"/>
              </a:rPr>
              <a:t>通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幼圆"/>
              </a:rPr>
              <a:t>断开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4"/>
          <p:cNvSpPr/>
          <p:nvPr/>
        </p:nvSpPr>
        <p:spPr>
          <a:xfrm>
            <a:off x="3705120" y="107316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684360" y="836640"/>
            <a:ext cx="50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1773360"/>
            <a:ext cx="4572000" cy="5084640"/>
            <a:chOff x="0" y="1773360"/>
            <a:chExt cx="4572000" cy="5084640"/>
          </a:xfrm>
        </p:grpSpPr>
        <p:grpSp>
          <p:nvGrpSpPr>
            <p:cNvPr id="298" name=""/>
            <p:cNvGrpSpPr/>
            <p:nvPr/>
          </p:nvGrpSpPr>
          <p:grpSpPr>
            <a:xfrm>
              <a:off x="0" y="1773360"/>
              <a:ext cx="4572000" cy="5084640"/>
              <a:chOff x="0" y="1773360"/>
              <a:chExt cx="4572000" cy="508464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0" y="1773360"/>
                <a:ext cx="4572000" cy="5084640"/>
                <a:chOff x="0" y="1773360"/>
                <a:chExt cx="4572000" cy="508464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0" y="1773360"/>
                  <a:ext cx="4572000" cy="5084640"/>
                  <a:chOff x="0" y="1773360"/>
                  <a:chExt cx="4572000" cy="5084640"/>
                </a:xfrm>
              </p:grpSpPr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0" y="4326120"/>
                    <a:ext cx="4572000" cy="2531880"/>
                    <a:chOff x="0" y="4326120"/>
                    <a:chExt cx="4572000" cy="2531880"/>
                  </a:xfrm>
                </p:grpSpPr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0" y="4326120"/>
                      <a:ext cx="4572000" cy="2531880"/>
                      <a:chOff x="0" y="4326120"/>
                      <a:chExt cx="4572000" cy="2531880"/>
                    </a:xfrm>
                  </p:grpSpPr>
                  <p:pic>
                    <p:nvPicPr>
                      <p:cNvPr id="303" name="Picture 19" descr="C:\Documents and Settings\user1\My Documents\My Pictures\pic_133241.jpg"/>
                      <p:cNvPicPr/>
                      <p:nvPr/>
                    </p:nvPicPr>
                    <p:blipFill>
                      <a:blip r:embed="rId1"/>
                      <a:srcRect l="37656" t="27754" r="6210" b="50038"/>
                      <a:stretch/>
                    </p:blipFill>
                    <p:spPr>
                      <a:xfrm>
                        <a:off x="0" y="4326120"/>
                        <a:ext cx="4572000" cy="253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304" name="Text Box 22"/>
                      <p:cNvSpPr/>
                      <p:nvPr/>
                    </p:nvSpPr>
                    <p:spPr>
                      <a:xfrm>
                        <a:off x="2891160" y="4591080"/>
                        <a:ext cx="672120" cy="459720"/>
                      </a:xfrm>
                      <a:prstGeom prst="rect">
                        <a:avLst/>
                      </a:prstGeom>
                      <a:solidFill>
                        <a:srgbClr val="bbe0e3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  </a:t>
                        </a: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T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5" name=""/>
                    <p:cNvGrpSpPr/>
                    <p:nvPr/>
                  </p:nvGrpSpPr>
                  <p:grpSpPr>
                    <a:xfrm>
                      <a:off x="2062080" y="4668840"/>
                      <a:ext cx="1544760" cy="1422360"/>
                      <a:chOff x="2062080" y="4668840"/>
                      <a:chExt cx="1544760" cy="1422360"/>
                    </a:xfrm>
                  </p:grpSpPr>
                  <p:sp>
                    <p:nvSpPr>
                      <p:cNvPr id="306" name="Text Box 12"/>
                      <p:cNvSpPr/>
                      <p:nvPr/>
                    </p:nvSpPr>
                    <p:spPr>
                      <a:xfrm>
                        <a:off x="3272400" y="5236920"/>
                        <a:ext cx="3344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1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7" name="Text Box 13"/>
                      <p:cNvSpPr/>
                      <p:nvPr/>
                    </p:nvSpPr>
                    <p:spPr>
                      <a:xfrm>
                        <a:off x="3203640" y="5695560"/>
                        <a:ext cx="33588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2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8" name="Text Box 14"/>
                      <p:cNvSpPr/>
                      <p:nvPr/>
                    </p:nvSpPr>
                    <p:spPr>
                      <a:xfrm>
                        <a:off x="2129040" y="5722920"/>
                        <a:ext cx="3355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3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9" name="Text Box 15"/>
                      <p:cNvSpPr/>
                      <p:nvPr/>
                    </p:nvSpPr>
                    <p:spPr>
                      <a:xfrm>
                        <a:off x="2062080" y="5245560"/>
                        <a:ext cx="3344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4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0" name="Text Box 16"/>
                      <p:cNvSpPr/>
                      <p:nvPr/>
                    </p:nvSpPr>
                    <p:spPr>
                      <a:xfrm>
                        <a:off x="2196000" y="4668840"/>
                        <a:ext cx="33588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5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0" y="1773360"/>
                    <a:ext cx="4572000" cy="2532240"/>
                    <a:chOff x="0" y="1773360"/>
                    <a:chExt cx="4572000" cy="2532240"/>
                  </a:xfrm>
                </p:grpSpPr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0" y="1773360"/>
                      <a:ext cx="4572000" cy="2532240"/>
                      <a:chOff x="0" y="1773360"/>
                      <a:chExt cx="4572000" cy="2532240"/>
                    </a:xfrm>
                  </p:grpSpPr>
                  <p:pic>
                    <p:nvPicPr>
                      <p:cNvPr id="313" name="Picture 5" descr="C:\Documents and Settings\user1\My Documents\My Pictures\pic_133241.jpg"/>
                      <p:cNvPicPr/>
                      <p:nvPr/>
                    </p:nvPicPr>
                    <p:blipFill>
                      <a:blip r:embed="rId2"/>
                      <a:srcRect l="37656" t="27150" r="6210" b="50638"/>
                      <a:stretch/>
                    </p:blipFill>
                    <p:spPr>
                      <a:xfrm>
                        <a:off x="0" y="1773360"/>
                        <a:ext cx="4572000" cy="253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314" name="Text Box 20"/>
                      <p:cNvSpPr/>
                      <p:nvPr/>
                    </p:nvSpPr>
                    <p:spPr>
                      <a:xfrm>
                        <a:off x="2884320" y="2114640"/>
                        <a:ext cx="709920" cy="459720"/>
                      </a:xfrm>
                      <a:prstGeom prst="rect">
                        <a:avLst/>
                      </a:prstGeom>
                      <a:solidFill>
                        <a:srgbClr val="bbe0e3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  </a:t>
                        </a: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5" name=""/>
                    <p:cNvGrpSpPr/>
                    <p:nvPr/>
                  </p:nvGrpSpPr>
                  <p:grpSpPr>
                    <a:xfrm>
                      <a:off x="1987560" y="2239920"/>
                      <a:ext cx="1533240" cy="1419120"/>
                      <a:chOff x="1987560" y="2239920"/>
                      <a:chExt cx="1533240" cy="1419120"/>
                    </a:xfrm>
                  </p:grpSpPr>
                  <p:sp>
                    <p:nvSpPr>
                      <p:cNvPr id="316" name="Text Box 7"/>
                      <p:cNvSpPr/>
                      <p:nvPr/>
                    </p:nvSpPr>
                    <p:spPr>
                      <a:xfrm>
                        <a:off x="3187440" y="2805120"/>
                        <a:ext cx="3333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1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Text Box 8"/>
                      <p:cNvSpPr/>
                      <p:nvPr/>
                    </p:nvSpPr>
                    <p:spPr>
                      <a:xfrm>
                        <a:off x="2980800" y="3290760"/>
                        <a:ext cx="3315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2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Text Box 9"/>
                      <p:cNvSpPr/>
                      <p:nvPr/>
                    </p:nvSpPr>
                    <p:spPr>
                      <a:xfrm>
                        <a:off x="2120400" y="3290760"/>
                        <a:ext cx="3297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3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Text Box 10"/>
                      <p:cNvSpPr/>
                      <p:nvPr/>
                    </p:nvSpPr>
                    <p:spPr>
                      <a:xfrm>
                        <a:off x="1987560" y="281304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4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Text Box 11"/>
                      <p:cNvSpPr/>
                      <p:nvPr/>
                    </p:nvSpPr>
                    <p:spPr>
                      <a:xfrm>
                        <a:off x="2185920" y="2239920"/>
                        <a:ext cx="3315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0000"/>
                            </a:solidFill>
                            <a:latin typeface="Comic Sans MS"/>
                          </a:rPr>
                          <a:t>5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21" name="Text Box 28"/>
                <p:cNvSpPr/>
                <p:nvPr/>
              </p:nvSpPr>
              <p:spPr>
                <a:xfrm>
                  <a:off x="1163520" y="2157480"/>
                  <a:ext cx="57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Text Box 29"/>
                <p:cNvSpPr/>
                <p:nvPr/>
              </p:nvSpPr>
              <p:spPr>
                <a:xfrm>
                  <a:off x="1176480" y="2827440"/>
                  <a:ext cx="57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30"/>
                <p:cNvSpPr/>
                <p:nvPr/>
              </p:nvSpPr>
              <p:spPr>
                <a:xfrm>
                  <a:off x="1187280" y="4638960"/>
                  <a:ext cx="57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Text Box 31"/>
                <p:cNvSpPr/>
                <p:nvPr/>
              </p:nvSpPr>
              <p:spPr>
                <a:xfrm>
                  <a:off x="1171440" y="5316840"/>
                  <a:ext cx="57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Rectangle 32"/>
              <p:cNvSpPr/>
              <p:nvPr/>
            </p:nvSpPr>
            <p:spPr>
              <a:xfrm>
                <a:off x="2484360" y="3463920"/>
                <a:ext cx="303120" cy="193680"/>
              </a:xfrm>
              <a:prstGeom prst="rect">
                <a:avLst/>
              </a:prstGeom>
              <a:solidFill>
                <a:srgbClr val="ea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Text Box 33"/>
            <p:cNvSpPr/>
            <p:nvPr/>
          </p:nvSpPr>
          <p:spPr>
            <a:xfrm>
              <a:off x="2195640" y="3429000"/>
              <a:ext cx="57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H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72800" y="3429000"/>
            <a:ext cx="1438560" cy="1536840"/>
            <a:chOff x="1072800" y="3429000"/>
            <a:chExt cx="1438560" cy="1536840"/>
          </a:xfrm>
        </p:grpSpPr>
        <p:sp>
          <p:nvSpPr>
            <p:cNvPr id="328" name="Line 35"/>
            <p:cNvSpPr/>
            <p:nvPr/>
          </p:nvSpPr>
          <p:spPr>
            <a:xfrm flipH="1">
              <a:off x="1072800" y="3429000"/>
              <a:ext cx="1335240" cy="147312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36"/>
            <p:cNvSpPr/>
            <p:nvPr/>
          </p:nvSpPr>
          <p:spPr>
            <a:xfrm flipH="1">
              <a:off x="1476360" y="3645000"/>
              <a:ext cx="1008000" cy="129528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37"/>
            <p:cNvSpPr/>
            <p:nvPr/>
          </p:nvSpPr>
          <p:spPr>
            <a:xfrm>
              <a:off x="1106640" y="4867200"/>
              <a:ext cx="358560" cy="9864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38"/>
            <p:cNvSpPr/>
            <p:nvPr/>
          </p:nvSpPr>
          <p:spPr>
            <a:xfrm>
              <a:off x="2397240" y="3429000"/>
              <a:ext cx="114120" cy="14436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572000" y="1773360"/>
            <a:ext cx="4572000" cy="5084640"/>
            <a:chOff x="4572000" y="1773360"/>
            <a:chExt cx="4572000" cy="5084640"/>
          </a:xfrm>
        </p:grpSpPr>
        <p:grpSp>
          <p:nvGrpSpPr>
            <p:cNvPr id="333" name=""/>
            <p:cNvGrpSpPr/>
            <p:nvPr/>
          </p:nvGrpSpPr>
          <p:grpSpPr>
            <a:xfrm>
              <a:off x="4572000" y="1773360"/>
              <a:ext cx="4572000" cy="5084640"/>
              <a:chOff x="4572000" y="1773360"/>
              <a:chExt cx="4572000" cy="508464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4572000" y="1773360"/>
                <a:ext cx="4572000" cy="5084640"/>
                <a:chOff x="4572000" y="1773360"/>
                <a:chExt cx="4572000" cy="508464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4572000" y="1773360"/>
                  <a:ext cx="4572000" cy="5084640"/>
                  <a:chOff x="4572000" y="1773360"/>
                  <a:chExt cx="4572000" cy="5084640"/>
                </a:xfrm>
              </p:grpSpPr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4572000" y="1773360"/>
                    <a:ext cx="4572000" cy="5084640"/>
                    <a:chOff x="4572000" y="1773360"/>
                    <a:chExt cx="4572000" cy="5084640"/>
                  </a:xfrm>
                </p:grpSpPr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4572000" y="4326120"/>
                      <a:ext cx="4572000" cy="2531880"/>
                      <a:chOff x="4572000" y="4326120"/>
                      <a:chExt cx="4572000" cy="2531880"/>
                    </a:xfrm>
                  </p:grpSpPr>
                  <p:grpSp>
                    <p:nvGrpSpPr>
                      <p:cNvPr id="338" name=""/>
                      <p:cNvGrpSpPr/>
                      <p:nvPr/>
                    </p:nvGrpSpPr>
                    <p:grpSpPr>
                      <a:xfrm>
                        <a:off x="4572000" y="4326120"/>
                        <a:ext cx="4572000" cy="2531880"/>
                        <a:chOff x="4572000" y="4326120"/>
                        <a:chExt cx="4572000" cy="2531880"/>
                      </a:xfrm>
                    </p:grpSpPr>
                    <p:pic>
                      <p:nvPicPr>
                        <p:cNvPr id="339" name="Picture 19" descr="C:\Documents and Settings\user1\My Documents\My Pictures\pic_133241.jpg"/>
                        <p:cNvPicPr/>
                        <p:nvPr/>
                      </p:nvPicPr>
                      <p:blipFill>
                        <a:blip r:embed="rId3"/>
                        <a:srcRect l="37656" t="27754" r="6210" b="50038"/>
                        <a:stretch/>
                      </p:blipFill>
                      <p:spPr>
                        <a:xfrm>
                          <a:off x="4572000" y="4326120"/>
                          <a:ext cx="4572000" cy="2531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340" name="Text Box 22"/>
                        <p:cNvSpPr/>
                        <p:nvPr/>
                      </p:nvSpPr>
                      <p:spPr>
                        <a:xfrm>
                          <a:off x="7463160" y="4591080"/>
                          <a:ext cx="672120" cy="459720"/>
                        </a:xfrm>
                        <a:prstGeom prst="rect">
                          <a:avLst/>
                        </a:prstGeom>
                        <a:solidFill>
                          <a:srgbClr val="bbe0e3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  </a:t>
                          </a: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T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1" name=""/>
                      <p:cNvGrpSpPr/>
                      <p:nvPr/>
                    </p:nvGrpSpPr>
                    <p:grpSpPr>
                      <a:xfrm>
                        <a:off x="6634080" y="4668840"/>
                        <a:ext cx="1544760" cy="1422360"/>
                        <a:chOff x="6634080" y="4668840"/>
                        <a:chExt cx="1544760" cy="1422360"/>
                      </a:xfrm>
                    </p:grpSpPr>
                    <p:sp>
                      <p:nvSpPr>
                        <p:cNvPr id="342" name="Text Box 12"/>
                        <p:cNvSpPr/>
                        <p:nvPr/>
                      </p:nvSpPr>
                      <p:spPr>
                        <a:xfrm>
                          <a:off x="7844400" y="5236920"/>
                          <a:ext cx="33444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1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Text Box 13"/>
                        <p:cNvSpPr/>
                        <p:nvPr/>
                      </p:nvSpPr>
                      <p:spPr>
                        <a:xfrm>
                          <a:off x="7775640" y="5695560"/>
                          <a:ext cx="33588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2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Text Box 14"/>
                        <p:cNvSpPr/>
                        <p:nvPr/>
                      </p:nvSpPr>
                      <p:spPr>
                        <a:xfrm>
                          <a:off x="6701040" y="5722920"/>
                          <a:ext cx="3355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3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Text Box 15"/>
                        <p:cNvSpPr/>
                        <p:nvPr/>
                      </p:nvSpPr>
                      <p:spPr>
                        <a:xfrm>
                          <a:off x="6634080" y="5245560"/>
                          <a:ext cx="33444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4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Text Box 16"/>
                        <p:cNvSpPr/>
                        <p:nvPr/>
                      </p:nvSpPr>
                      <p:spPr>
                        <a:xfrm>
                          <a:off x="6768000" y="4668840"/>
                          <a:ext cx="33588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5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47" name=""/>
                    <p:cNvGrpSpPr/>
                    <p:nvPr/>
                  </p:nvGrpSpPr>
                  <p:grpSpPr>
                    <a:xfrm>
                      <a:off x="4572000" y="1773360"/>
                      <a:ext cx="4572000" cy="2532240"/>
                      <a:chOff x="4572000" y="1773360"/>
                      <a:chExt cx="4572000" cy="2532240"/>
                    </a:xfrm>
                  </p:grpSpPr>
                  <p:grpSp>
                    <p:nvGrpSpPr>
                      <p:cNvPr id="348" name=""/>
                      <p:cNvGrpSpPr/>
                      <p:nvPr/>
                    </p:nvGrpSpPr>
                    <p:grpSpPr>
                      <a:xfrm>
                        <a:off x="4572000" y="1773360"/>
                        <a:ext cx="4572000" cy="2532240"/>
                        <a:chOff x="4572000" y="1773360"/>
                        <a:chExt cx="4572000" cy="2532240"/>
                      </a:xfrm>
                    </p:grpSpPr>
                    <p:pic>
                      <p:nvPicPr>
                        <p:cNvPr id="349" name="Picture 5" descr="C:\Documents and Settings\user1\My Documents\My Pictures\pic_133241.jpg"/>
                        <p:cNvPicPr/>
                        <p:nvPr/>
                      </p:nvPicPr>
                      <p:blipFill>
                        <a:blip r:embed="rId4"/>
                        <a:srcRect l="37656" t="27150" r="6210" b="50638"/>
                        <a:stretch/>
                      </p:blipFill>
                      <p:spPr>
                        <a:xfrm>
                          <a:off x="4572000" y="1773360"/>
                          <a:ext cx="4572000" cy="2532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350" name="Text Box 20"/>
                        <p:cNvSpPr/>
                        <p:nvPr/>
                      </p:nvSpPr>
                      <p:spPr>
                        <a:xfrm>
                          <a:off x="7456320" y="2114640"/>
                          <a:ext cx="709920" cy="459720"/>
                        </a:xfrm>
                        <a:prstGeom prst="rect">
                          <a:avLst/>
                        </a:prstGeom>
                        <a:solidFill>
                          <a:srgbClr val="bbe0e3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  </a:t>
                          </a: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A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1" name=""/>
                      <p:cNvGrpSpPr/>
                      <p:nvPr/>
                    </p:nvGrpSpPr>
                    <p:grpSpPr>
                      <a:xfrm>
                        <a:off x="6559560" y="2239920"/>
                        <a:ext cx="1533240" cy="1419120"/>
                        <a:chOff x="6559560" y="2239920"/>
                        <a:chExt cx="1533240" cy="1419120"/>
                      </a:xfrm>
                    </p:grpSpPr>
                    <p:sp>
                      <p:nvSpPr>
                        <p:cNvPr id="352" name="Text Box 7"/>
                        <p:cNvSpPr/>
                        <p:nvPr/>
                      </p:nvSpPr>
                      <p:spPr>
                        <a:xfrm>
                          <a:off x="7759440" y="2805120"/>
                          <a:ext cx="33336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1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Text Box 8"/>
                        <p:cNvSpPr/>
                        <p:nvPr/>
                      </p:nvSpPr>
                      <p:spPr>
                        <a:xfrm>
                          <a:off x="7552800" y="3290760"/>
                          <a:ext cx="33156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2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Text Box 9"/>
                        <p:cNvSpPr/>
                        <p:nvPr/>
                      </p:nvSpPr>
                      <p:spPr>
                        <a:xfrm>
                          <a:off x="6692400" y="3290760"/>
                          <a:ext cx="32976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3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Text Box 10"/>
                        <p:cNvSpPr/>
                        <p:nvPr/>
                      </p:nvSpPr>
                      <p:spPr>
                        <a:xfrm>
                          <a:off x="6559560" y="2813040"/>
                          <a:ext cx="33300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4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Text Box 11"/>
                        <p:cNvSpPr/>
                        <p:nvPr/>
                      </p:nvSpPr>
                      <p:spPr>
                        <a:xfrm>
                          <a:off x="6757920" y="2239920"/>
                          <a:ext cx="33156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0000"/>
                              </a:solidFill>
                              <a:latin typeface="Comic Sans MS"/>
                            </a:rPr>
                            <a:t>5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357" name="Text Box 64"/>
                  <p:cNvSpPr/>
                  <p:nvPr/>
                </p:nvSpPr>
                <p:spPr>
                  <a:xfrm>
                    <a:off x="5735520" y="2157480"/>
                    <a:ext cx="574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H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Text Box 65"/>
                  <p:cNvSpPr/>
                  <p:nvPr/>
                </p:nvSpPr>
                <p:spPr>
                  <a:xfrm>
                    <a:off x="5748480" y="2827440"/>
                    <a:ext cx="57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H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Text Box 66"/>
                  <p:cNvSpPr/>
                  <p:nvPr/>
                </p:nvSpPr>
                <p:spPr>
                  <a:xfrm>
                    <a:off x="5759280" y="4653000"/>
                    <a:ext cx="574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H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Text Box 67"/>
                  <p:cNvSpPr/>
                  <p:nvPr/>
                </p:nvSpPr>
                <p:spPr>
                  <a:xfrm>
                    <a:off x="5759280" y="5316840"/>
                    <a:ext cx="574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华文中宋"/>
                      </a:rPr>
                      <a:t>H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1" name="Rectangle 68"/>
                <p:cNvSpPr/>
                <p:nvPr/>
              </p:nvSpPr>
              <p:spPr>
                <a:xfrm>
                  <a:off x="7056360" y="3463920"/>
                  <a:ext cx="303120" cy="193680"/>
                </a:xfrm>
                <a:prstGeom prst="rect">
                  <a:avLst/>
                </a:prstGeom>
                <a:solidFill>
                  <a:srgbClr val="eaf5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Text Box 69"/>
              <p:cNvSpPr/>
              <p:nvPr/>
            </p:nvSpPr>
            <p:spPr>
              <a:xfrm>
                <a:off x="6832440" y="3429000"/>
                <a:ext cx="576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Rectangle 70"/>
            <p:cNvSpPr/>
            <p:nvPr/>
          </p:nvSpPr>
          <p:spPr>
            <a:xfrm>
              <a:off x="5796000" y="4724640"/>
              <a:ext cx="360360" cy="288720"/>
            </a:xfrm>
            <a:prstGeom prst="rect">
              <a:avLst/>
            </a:prstGeom>
            <a:solidFill>
              <a:srgbClr val="fca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Line 6"/>
          <p:cNvSpPr/>
          <p:nvPr/>
        </p:nvSpPr>
        <p:spPr>
          <a:xfrm flipH="1">
            <a:off x="5897520" y="3659040"/>
            <a:ext cx="1152720" cy="134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72"/>
          <p:cNvSpPr/>
          <p:nvPr/>
        </p:nvSpPr>
        <p:spPr>
          <a:xfrm>
            <a:off x="3708360" y="429264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3"/>
          <p:cNvSpPr/>
          <p:nvPr/>
        </p:nvSpPr>
        <p:spPr>
          <a:xfrm>
            <a:off x="4788000" y="4005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r>
              <a:rPr b="1" lang="en-US" sz="1600" spc="-1" strike="noStrike" baseline="-6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幼圆"/>
              </a:rPr>
              <a:t>断开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684360" y="836640"/>
            <a:ext cx="50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79280" y="1962000"/>
          <a:ext cx="8659800" cy="1677960"/>
        </p:xfrm>
        <a:graphic>
          <a:graphicData uri="http://schemas.openxmlformats.org/drawingml/2006/table">
            <a:tbl>
              <a:tblPr/>
              <a:tblGrid>
                <a:gridCol w="1285920"/>
                <a:gridCol w="3687840"/>
                <a:gridCol w="3686040"/>
              </a:tblGrid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限制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DNA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解旋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区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16"/>
          <p:cNvSpPr/>
          <p:nvPr/>
        </p:nvSpPr>
        <p:spPr>
          <a:xfrm>
            <a:off x="88920" y="1025640"/>
            <a:ext cx="325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9"/>
          <p:cNvSpPr/>
          <p:nvPr/>
        </p:nvSpPr>
        <p:spPr>
          <a:xfrm>
            <a:off x="228600" y="1241280"/>
            <a:ext cx="8915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限制性内切酶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旋酶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3492360" y="3473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1476360" y="2681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切割特定的核苷酸序列的磷酸二酯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5364000" y="268128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条链的氢键打开形成两条单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79280" y="4495680"/>
          <a:ext cx="8793000" cy="2190600"/>
        </p:xfrm>
        <a:graphic>
          <a:graphicData uri="http://schemas.openxmlformats.org/drawingml/2006/table">
            <a:tbl>
              <a:tblPr/>
              <a:tblGrid>
                <a:gridCol w="1306440"/>
                <a:gridCol w="3743280"/>
                <a:gridCol w="3743280"/>
              </a:tblGrid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限制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DNA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水解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区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Rectangle 44"/>
          <p:cNvSpPr/>
          <p:nvPr/>
        </p:nvSpPr>
        <p:spPr>
          <a:xfrm>
            <a:off x="228600" y="3833640"/>
            <a:ext cx="8915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限制性内切酶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水解酶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6"/>
          <p:cNvSpPr/>
          <p:nvPr/>
        </p:nvSpPr>
        <p:spPr>
          <a:xfrm>
            <a:off x="1415880" y="52070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切割特定的核苷酸序列的磷酸二酯键，形成片段的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5184720" y="538488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切割磷酸二酯键，形成单个的脱氧核苷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104"/>
          <p:cNvSpPr/>
          <p:nvPr/>
        </p:nvSpPr>
        <p:spPr>
          <a:xfrm>
            <a:off x="438120" y="3828960"/>
            <a:ext cx="831204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图片 18" descr="b258f5c4e2a7d0c18326ace8.jp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230720" y="1676520"/>
            <a:ext cx="4681440" cy="51210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幼圆"/>
              </a:rPr>
              <a:t>断开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684360" y="836640"/>
            <a:ext cx="50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9"/>
          <p:cNvSpPr/>
          <p:nvPr/>
        </p:nvSpPr>
        <p:spPr>
          <a:xfrm>
            <a:off x="476280" y="1224000"/>
            <a:ext cx="8915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限制酶的识别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回文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3492360" y="3473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7"/>
          <p:cNvSpPr/>
          <p:nvPr/>
        </p:nvSpPr>
        <p:spPr>
          <a:xfrm>
            <a:off x="1280520" y="2184480"/>
            <a:ext cx="2100960" cy="329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文序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切割部位，一条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向读的碱基顺序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一条链反向读的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序完全一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幼圆"/>
              </a:rPr>
              <a:t>断开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684360" y="836640"/>
            <a:ext cx="50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88920" y="1025640"/>
            <a:ext cx="325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3492360" y="3473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457200" y="1951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250920" y="136044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EcoR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3203640" y="2833560"/>
            <a:ext cx="4308480" cy="1695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4386240" cy="16956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3"/>
          <a:srcRect l="11405" t="3117" r="18509" b="66001"/>
          <a:stretch/>
        </p:blipFill>
        <p:spPr>
          <a:xfrm>
            <a:off x="1042920" y="2900520"/>
            <a:ext cx="6408720" cy="1542960"/>
          </a:xfrm>
          <a:prstGeom prst="rect">
            <a:avLst/>
          </a:prstGeom>
          <a:ln w="0">
            <a:noFill/>
          </a:ln>
        </p:spPr>
      </p:pic>
      <p:sp>
        <p:nvSpPr>
          <p:cNvPr id="398" name="Oval 7"/>
          <p:cNvSpPr/>
          <p:nvPr/>
        </p:nvSpPr>
        <p:spPr>
          <a:xfrm>
            <a:off x="2556000" y="1936800"/>
            <a:ext cx="3457440" cy="3530520"/>
          </a:xfrm>
          <a:prstGeom prst="ellipse">
            <a:avLst/>
          </a:prstGeom>
          <a:solidFill>
            <a:srgbClr val="ff0000">
              <a:alpha val="23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8" descr="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5183280" y="4097160"/>
            <a:ext cx="541080" cy="635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2771640" y="2657520"/>
            <a:ext cx="541440" cy="63504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2612880" y="2584440"/>
            <a:ext cx="861480" cy="828720"/>
            <a:chOff x="2612880" y="2584440"/>
            <a:chExt cx="861480" cy="828720"/>
          </a:xfrm>
        </p:grpSpPr>
        <p:pic>
          <p:nvPicPr>
            <p:cNvPr id="402" name="Picture 11" descr=""/>
            <p:cNvPicPr/>
            <p:nvPr/>
          </p:nvPicPr>
          <p:blipFill>
            <a:blip r:embed="rId6">
              <a:lum bright="-12000"/>
            </a:blip>
            <a:stretch/>
          </p:blipFill>
          <p:spPr>
            <a:xfrm>
              <a:off x="2981520" y="2584440"/>
              <a:ext cx="20952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12" descr=""/>
            <p:cNvPicPr/>
            <p:nvPr/>
          </p:nvPicPr>
          <p:blipFill>
            <a:blip r:embed="rId7">
              <a:lum bright="-12000"/>
            </a:blip>
            <a:stretch/>
          </p:blipFill>
          <p:spPr>
            <a:xfrm rot="3633000">
              <a:off x="2775600" y="2649600"/>
              <a:ext cx="535320" cy="68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4" name=""/>
          <p:cNvGrpSpPr/>
          <p:nvPr/>
        </p:nvGrpSpPr>
        <p:grpSpPr>
          <a:xfrm>
            <a:off x="5020920" y="3987720"/>
            <a:ext cx="861480" cy="828720"/>
            <a:chOff x="5020920" y="3987720"/>
            <a:chExt cx="861480" cy="828720"/>
          </a:xfrm>
        </p:grpSpPr>
        <p:pic>
          <p:nvPicPr>
            <p:cNvPr id="405" name="Picture 14" descr=""/>
            <p:cNvPicPr/>
            <p:nvPr/>
          </p:nvPicPr>
          <p:blipFill>
            <a:blip r:embed="rId8">
              <a:lum bright="-12000"/>
            </a:blip>
            <a:stretch/>
          </p:blipFill>
          <p:spPr>
            <a:xfrm>
              <a:off x="5389560" y="3987720"/>
              <a:ext cx="20952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15" descr=""/>
            <p:cNvPicPr/>
            <p:nvPr/>
          </p:nvPicPr>
          <p:blipFill>
            <a:blip r:embed="rId9">
              <a:lum bright="-12000"/>
            </a:blip>
            <a:stretch/>
          </p:blipFill>
          <p:spPr>
            <a:xfrm rot="3633000">
              <a:off x="5183640" y="4052880"/>
              <a:ext cx="535320" cy="68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Text Box 16"/>
          <p:cNvSpPr/>
          <p:nvPr/>
        </p:nvSpPr>
        <p:spPr>
          <a:xfrm>
            <a:off x="4438800" y="5829480"/>
            <a:ext cx="21603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黏性末端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7"/>
          <p:cNvSpPr/>
          <p:nvPr/>
        </p:nvSpPr>
        <p:spPr>
          <a:xfrm>
            <a:off x="5105520" y="191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黏性末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>
            <a:hlinkClick r:id="rId10" action="ppaction://hlinksldjump"/>
          </p:cNvPr>
          <p:cNvSpPr/>
          <p:nvPr/>
        </p:nvSpPr>
        <p:spPr>
          <a:xfrm>
            <a:off x="0" y="685800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"/>
                            </p:stCondLst>
                            <p:childTnLst>
                              <p:par>
                                <p:cTn id="67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5185E-006 L 0.16614 -0.25695 E">
                                      <p:cBhvr>
                                        <p:cTn id="679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-0.13854 0.26713 E">
                                      <p:cBhvr>
                                        <p:cTn id="68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幼圆"/>
              </a:rPr>
              <a:t>断开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4360" y="836640"/>
            <a:ext cx="50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6"/>
          <p:cNvSpPr/>
          <p:nvPr/>
        </p:nvSpPr>
        <p:spPr>
          <a:xfrm>
            <a:off x="88920" y="1025640"/>
            <a:ext cx="325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3492360" y="3473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584600" y="2260440"/>
            <a:ext cx="3457800" cy="1735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912960" y="2190600"/>
            <a:ext cx="3671640" cy="1841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3"/>
          <a:stretch/>
        </p:blipFill>
        <p:spPr>
          <a:xfrm>
            <a:off x="768240" y="2232000"/>
            <a:ext cx="7489800" cy="1820880"/>
          </a:xfrm>
          <a:prstGeom prst="rect">
            <a:avLst/>
          </a:prstGeom>
          <a:ln w="0">
            <a:noFill/>
          </a:ln>
        </p:spPr>
      </p:pic>
      <p:sp>
        <p:nvSpPr>
          <p:cNvPr id="418" name="Oval 5"/>
          <p:cNvSpPr/>
          <p:nvPr/>
        </p:nvSpPr>
        <p:spPr>
          <a:xfrm>
            <a:off x="2927520" y="1295280"/>
            <a:ext cx="3457440" cy="3530880"/>
          </a:xfrm>
          <a:prstGeom prst="ellipse">
            <a:avLst/>
          </a:prstGeom>
          <a:solidFill>
            <a:srgbClr val="ff0000">
              <a:alpha val="23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4259160" y="2087640"/>
            <a:ext cx="541440" cy="635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4259160" y="3672000"/>
            <a:ext cx="541440" cy="63504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8"/>
          <p:cNvSpPr/>
          <p:nvPr/>
        </p:nvSpPr>
        <p:spPr>
          <a:xfrm>
            <a:off x="6202440" y="1530360"/>
            <a:ext cx="20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Sma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9"/>
          <p:cNvSpPr/>
          <p:nvPr/>
        </p:nvSpPr>
        <p:spPr>
          <a:xfrm flipH="1">
            <a:off x="3360240" y="4535640"/>
            <a:ext cx="28908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0"/>
          <p:cNvSpPr/>
          <p:nvPr/>
        </p:nvSpPr>
        <p:spPr>
          <a:xfrm>
            <a:off x="5594400" y="4608360"/>
            <a:ext cx="21420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098600" y="2016000"/>
            <a:ext cx="861480" cy="828720"/>
            <a:chOff x="4098600" y="2016000"/>
            <a:chExt cx="861480" cy="828720"/>
          </a:xfrm>
        </p:grpSpPr>
        <p:pic>
          <p:nvPicPr>
            <p:cNvPr id="425" name="Picture 12" descr=""/>
            <p:cNvPicPr/>
            <p:nvPr/>
          </p:nvPicPr>
          <p:blipFill>
            <a:blip r:embed="rId6">
              <a:lum bright="-12000"/>
            </a:blip>
            <a:stretch/>
          </p:blipFill>
          <p:spPr>
            <a:xfrm>
              <a:off x="4467240" y="2016000"/>
              <a:ext cx="20952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13" descr=""/>
            <p:cNvPicPr/>
            <p:nvPr/>
          </p:nvPicPr>
          <p:blipFill>
            <a:blip r:embed="rId7">
              <a:lum bright="-12000"/>
            </a:blip>
            <a:stretch/>
          </p:blipFill>
          <p:spPr>
            <a:xfrm rot="3633000">
              <a:off x="4261320" y="2081160"/>
              <a:ext cx="535320" cy="68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"/>
          <p:cNvGrpSpPr/>
          <p:nvPr/>
        </p:nvGrpSpPr>
        <p:grpSpPr>
          <a:xfrm>
            <a:off x="4098600" y="3635280"/>
            <a:ext cx="861480" cy="828720"/>
            <a:chOff x="4098600" y="3635280"/>
            <a:chExt cx="861480" cy="828720"/>
          </a:xfrm>
        </p:grpSpPr>
        <p:pic>
          <p:nvPicPr>
            <p:cNvPr id="428" name="Picture 15" descr=""/>
            <p:cNvPicPr/>
            <p:nvPr/>
          </p:nvPicPr>
          <p:blipFill>
            <a:blip r:embed="rId8">
              <a:lum bright="-12000"/>
            </a:blip>
            <a:stretch/>
          </p:blipFill>
          <p:spPr>
            <a:xfrm>
              <a:off x="4467240" y="3635280"/>
              <a:ext cx="20952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16" descr=""/>
            <p:cNvPicPr/>
            <p:nvPr/>
          </p:nvPicPr>
          <p:blipFill>
            <a:blip r:embed="rId9">
              <a:lum bright="-12000"/>
            </a:blip>
            <a:stretch/>
          </p:blipFill>
          <p:spPr>
            <a:xfrm rot="3633000">
              <a:off x="4261320" y="3700440"/>
              <a:ext cx="535320" cy="68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Text Box 17"/>
          <p:cNvSpPr/>
          <p:nvPr/>
        </p:nvSpPr>
        <p:spPr>
          <a:xfrm>
            <a:off x="1727280" y="4673520"/>
            <a:ext cx="551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平末端                   　　　平末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0.02362 0.41551 E">
                                      <p:cBhvr>
                                        <p:cTn id="71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-0.00232 L -0.03923 0.40949 E">
                                      <p:cBhvr>
                                        <p:cTn id="719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1"/>
          <p:cNvSpPr/>
          <p:nvPr/>
        </p:nvSpPr>
        <p:spPr>
          <a:xfrm>
            <a:off x="392040" y="458640"/>
            <a:ext cx="76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“分子缝合针”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7"/>
          <p:cNvSpPr/>
          <p:nvPr/>
        </p:nvSpPr>
        <p:spPr>
          <a:xfrm>
            <a:off x="615960" y="298440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76280" y="1179360"/>
            <a:ext cx="6248160" cy="1557000"/>
            <a:chOff x="476280" y="1179360"/>
            <a:chExt cx="6248160" cy="1557000"/>
          </a:xfrm>
        </p:grpSpPr>
        <p:sp>
          <p:nvSpPr>
            <p:cNvPr id="435" name="TextBox 18"/>
            <p:cNvSpPr/>
            <p:nvPr/>
          </p:nvSpPr>
          <p:spPr>
            <a:xfrm>
              <a:off x="476280" y="1179360"/>
              <a:ext cx="680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1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19"/>
            <p:cNvSpPr/>
            <p:nvPr/>
          </p:nvSpPr>
          <p:spPr>
            <a:xfrm>
              <a:off x="1557360" y="1223640"/>
              <a:ext cx="516708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种类 ：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⑴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E·coli DNA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连接酶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        ⑵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T4  DNA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连接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93840" y="3117960"/>
            <a:ext cx="6524640" cy="1557000"/>
            <a:chOff x="393840" y="3117960"/>
            <a:chExt cx="6524640" cy="1557000"/>
          </a:xfrm>
        </p:grpSpPr>
        <p:sp>
          <p:nvSpPr>
            <p:cNvPr id="438" name="TextBox 20"/>
            <p:cNvSpPr/>
            <p:nvPr/>
          </p:nvSpPr>
          <p:spPr>
            <a:xfrm>
              <a:off x="393840" y="3117960"/>
              <a:ext cx="680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2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Box 21"/>
            <p:cNvSpPr/>
            <p:nvPr/>
          </p:nvSpPr>
          <p:spPr>
            <a:xfrm>
              <a:off x="2592360" y="3162240"/>
              <a:ext cx="432612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用：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恢复被限制酶切开的两个核苷酸之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的磷酸二酯键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直接连接符 22"/>
          <p:cNvSpPr/>
          <p:nvPr/>
        </p:nvSpPr>
        <p:spPr>
          <a:xfrm>
            <a:off x="615960" y="476244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3"/>
          <p:cNvSpPr/>
          <p:nvPr/>
        </p:nvSpPr>
        <p:spPr>
          <a:xfrm>
            <a:off x="482760" y="4762440"/>
            <a:ext cx="68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바탕"/>
                <a:ea typeface="바탕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24"/>
          <p:cNvSpPr/>
          <p:nvPr/>
        </p:nvSpPr>
        <p:spPr>
          <a:xfrm>
            <a:off x="2345040" y="5138640"/>
            <a:ext cx="332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用原理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幼圆"/>
              </a:rPr>
              <a:t>催化磷酸二酯键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E·coli DNA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酶或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4DNA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684360" y="836640"/>
            <a:ext cx="50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88920" y="1025640"/>
            <a:ext cx="325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3492360" y="3473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4348080" y="1251000"/>
            <a:ext cx="4632480" cy="18223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"/>
          <p:cNvPicPr/>
          <p:nvPr/>
        </p:nvPicPr>
        <p:blipFill>
          <a:blip r:embed="rId2"/>
          <a:stretch/>
        </p:blipFill>
        <p:spPr>
          <a:xfrm>
            <a:off x="0" y="3987720"/>
            <a:ext cx="4637160" cy="179244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2620800" y="1467000"/>
            <a:ext cx="4105440" cy="3571560"/>
            <a:chOff x="2620800" y="1467000"/>
            <a:chExt cx="4105440" cy="3571560"/>
          </a:xfrm>
        </p:grpSpPr>
        <p:sp>
          <p:nvSpPr>
            <p:cNvPr id="451" name="Oval 6"/>
            <p:cNvSpPr/>
            <p:nvPr/>
          </p:nvSpPr>
          <p:spPr>
            <a:xfrm>
              <a:off x="5500440" y="3814560"/>
              <a:ext cx="762120" cy="761760"/>
            </a:xfrm>
            <a:prstGeom prst="ellipse">
              <a:avLst/>
            </a:prstGeom>
            <a:solidFill>
              <a:srgbClr val="00ff00">
                <a:alpha val="39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7"/>
            <p:cNvSpPr/>
            <p:nvPr/>
          </p:nvSpPr>
          <p:spPr>
            <a:xfrm>
              <a:off x="2620800" y="1467000"/>
              <a:ext cx="4105440" cy="3571560"/>
            </a:xfrm>
            <a:prstGeom prst="ellipse">
              <a:avLst/>
            </a:prstGeom>
            <a:solidFill>
              <a:srgbClr val="0000ff">
                <a:alpha val="19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8"/>
            <p:cNvSpPr/>
            <p:nvPr/>
          </p:nvSpPr>
          <p:spPr>
            <a:xfrm>
              <a:off x="2908080" y="2116080"/>
              <a:ext cx="762120" cy="761400"/>
            </a:xfrm>
            <a:prstGeom prst="ellipse">
              <a:avLst/>
            </a:prstGeom>
            <a:solidFill>
              <a:srgbClr val="00ff00">
                <a:alpha val="39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Line 11"/>
          <p:cNvSpPr/>
          <p:nvPr/>
        </p:nvSpPr>
        <p:spPr>
          <a:xfrm>
            <a:off x="2979720" y="2619360"/>
            <a:ext cx="576360" cy="0"/>
          </a:xfrm>
          <a:prstGeom prst="line">
            <a:avLst/>
          </a:prstGeom>
          <a:ln w="60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2"/>
          <p:cNvSpPr/>
          <p:nvPr/>
        </p:nvSpPr>
        <p:spPr>
          <a:xfrm>
            <a:off x="5572080" y="4175280"/>
            <a:ext cx="576360" cy="0"/>
          </a:xfrm>
          <a:prstGeom prst="line">
            <a:avLst/>
          </a:prstGeom>
          <a:ln w="60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2013480" y="5372280"/>
            <a:ext cx="48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恢复被限制酶切开的两个核苷酸之间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磷酸二酯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09249E-007 L -0.10955 0.17827 E">
                                      <p:cBhvr>
                                        <p:cTn id="750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13873E-006 L 0.12136 -0.21549 E">
                                      <p:cBhvr>
                                        <p:cTn id="752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T4DNA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684360" y="836640"/>
            <a:ext cx="50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6"/>
          <p:cNvSpPr/>
          <p:nvPr/>
        </p:nvSpPr>
        <p:spPr>
          <a:xfrm>
            <a:off x="88920" y="1025640"/>
            <a:ext cx="325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0"/>
          <p:cNvSpPr/>
          <p:nvPr/>
        </p:nvSpPr>
        <p:spPr>
          <a:xfrm>
            <a:off x="3492360" y="3473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685800" y="145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7"/>
          <p:cNvSpPr/>
          <p:nvPr/>
        </p:nvSpPr>
        <p:spPr>
          <a:xfrm>
            <a:off x="228600" y="5189400"/>
            <a:ext cx="87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T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华文中宋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DNA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连接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还可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平末端之间的缝隙“缝合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起来，但效率较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8" descr=""/>
          <p:cNvPicPr/>
          <p:nvPr/>
        </p:nvPicPr>
        <p:blipFill>
          <a:blip r:embed="rId1"/>
          <a:stretch/>
        </p:blipFill>
        <p:spPr>
          <a:xfrm>
            <a:off x="0" y="2043000"/>
            <a:ext cx="9144000" cy="2739960"/>
          </a:xfrm>
          <a:prstGeom prst="rect">
            <a:avLst/>
          </a:prstGeom>
          <a:ln w="0">
            <a:noFill/>
          </a:ln>
        </p:spPr>
      </p:pic>
      <p:sp>
        <p:nvSpPr>
          <p:cNvPr id="465" name="Oval 19"/>
          <p:cNvSpPr/>
          <p:nvPr/>
        </p:nvSpPr>
        <p:spPr>
          <a:xfrm>
            <a:off x="4255920" y="1984320"/>
            <a:ext cx="762120" cy="762120"/>
          </a:xfrm>
          <a:prstGeom prst="ellipse">
            <a:avLst/>
          </a:prstGeom>
          <a:solidFill>
            <a:srgbClr val="00ff00">
              <a:alpha val="39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4243320" y="3973680"/>
            <a:ext cx="762120" cy="761760"/>
          </a:xfrm>
          <a:prstGeom prst="ellipse">
            <a:avLst/>
          </a:prstGeom>
          <a:solidFill>
            <a:srgbClr val="00ff00">
              <a:alpha val="39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2286000" y="1989000"/>
            <a:ext cx="4751280" cy="2735280"/>
          </a:xfrm>
          <a:prstGeom prst="ellipse">
            <a:avLst/>
          </a:prstGeom>
          <a:solidFill>
            <a:srgbClr val="0000ff">
              <a:alpha val="19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2"/>
          <p:cNvSpPr/>
          <p:nvPr/>
        </p:nvSpPr>
        <p:spPr>
          <a:xfrm>
            <a:off x="4356000" y="2403360"/>
            <a:ext cx="576360" cy="0"/>
          </a:xfrm>
          <a:prstGeom prst="line">
            <a:avLst/>
          </a:prstGeom>
          <a:ln w="60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3"/>
          <p:cNvSpPr/>
          <p:nvPr/>
        </p:nvSpPr>
        <p:spPr>
          <a:xfrm>
            <a:off x="4356000" y="4346640"/>
            <a:ext cx="576360" cy="0"/>
          </a:xfrm>
          <a:prstGeom prst="line">
            <a:avLst/>
          </a:prstGeom>
          <a:ln w="60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4"/>
          <p:cNvSpPr/>
          <p:nvPr/>
        </p:nvSpPr>
        <p:spPr>
          <a:xfrm>
            <a:off x="6189840" y="1303200"/>
            <a:ext cx="202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  <a:ea typeface="华文中宋"/>
              </a:rPr>
              <a:t>T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 Black"/>
                <a:ea typeface="华文中宋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Arial Black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ff3300"/>
                </a:solidFill>
                <a:latin typeface="Arial Black"/>
                <a:ea typeface="华文中宋"/>
              </a:rPr>
              <a:t>连接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5"/>
          <p:cNvSpPr/>
          <p:nvPr/>
        </p:nvSpPr>
        <p:spPr>
          <a:xfrm flipH="1">
            <a:off x="5148360" y="1754280"/>
            <a:ext cx="79200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酶类型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88920" y="1025640"/>
            <a:ext cx="325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0"/>
          <p:cNvSpPr/>
          <p:nvPr/>
        </p:nvSpPr>
        <p:spPr>
          <a:xfrm>
            <a:off x="3492360" y="3473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200160" y="1951200"/>
          <a:ext cx="8856360" cy="3184200"/>
        </p:xfrm>
        <a:graphic>
          <a:graphicData uri="http://schemas.openxmlformats.org/drawingml/2006/table">
            <a:tbl>
              <a:tblPr/>
              <a:tblGrid>
                <a:gridCol w="2879280"/>
                <a:gridCol w="1584360"/>
                <a:gridCol w="1297080"/>
                <a:gridCol w="3095640"/>
              </a:tblGrid>
              <a:tr h="520200">
                <a:tc rowSpan="2"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类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7" name="Text Box 43"/>
          <p:cNvSpPr/>
          <p:nvPr/>
        </p:nvSpPr>
        <p:spPr>
          <a:xfrm>
            <a:off x="112680" y="3273480"/>
            <a:ext cx="30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E·col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连接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4"/>
          <p:cNvSpPr/>
          <p:nvPr/>
        </p:nvSpPr>
        <p:spPr>
          <a:xfrm>
            <a:off x="417600" y="4384800"/>
            <a:ext cx="25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连接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5"/>
          <p:cNvSpPr/>
          <p:nvPr/>
        </p:nvSpPr>
        <p:spPr>
          <a:xfrm>
            <a:off x="3152880" y="2224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来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6"/>
          <p:cNvSpPr/>
          <p:nvPr/>
        </p:nvSpPr>
        <p:spPr>
          <a:xfrm>
            <a:off x="6032520" y="19368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7"/>
          <p:cNvSpPr/>
          <p:nvPr/>
        </p:nvSpPr>
        <p:spPr>
          <a:xfrm>
            <a:off x="2935440" y="33195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大肠杆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8"/>
          <p:cNvSpPr/>
          <p:nvPr/>
        </p:nvSpPr>
        <p:spPr>
          <a:xfrm>
            <a:off x="2792520" y="43848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噬菌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9"/>
          <p:cNvSpPr/>
          <p:nvPr/>
        </p:nvSpPr>
        <p:spPr>
          <a:xfrm>
            <a:off x="4665600" y="3390840"/>
            <a:ext cx="12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恢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二酯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0"/>
          <p:cNvSpPr/>
          <p:nvPr/>
        </p:nvSpPr>
        <p:spPr>
          <a:xfrm>
            <a:off x="5997600" y="331956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只能连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黏性末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1"/>
          <p:cNvSpPr/>
          <p:nvPr/>
        </p:nvSpPr>
        <p:spPr>
          <a:xfrm>
            <a:off x="5888160" y="4183200"/>
            <a:ext cx="32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能连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黏性末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平末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效率较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2"/>
          <p:cNvSpPr/>
          <p:nvPr/>
        </p:nvSpPr>
        <p:spPr>
          <a:xfrm>
            <a:off x="4664160" y="25131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相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3"/>
          <p:cNvSpPr/>
          <p:nvPr/>
        </p:nvSpPr>
        <p:spPr>
          <a:xfrm>
            <a:off x="6824520" y="25131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差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较：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酶与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20600" y="1368360"/>
          <a:ext cx="8964720" cy="5045040"/>
        </p:xfrm>
        <a:graphic>
          <a:graphicData uri="http://schemas.openxmlformats.org/drawingml/2006/table">
            <a:tbl>
              <a:tblPr/>
              <a:tblGrid>
                <a:gridCol w="1332000"/>
                <a:gridCol w="3816360"/>
                <a:gridCol w="381636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DNA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华文中宋"/>
                          <a:ea typeface="华文中宋"/>
                        </a:rPr>
                        <a:t>聚合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DNA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华文中宋"/>
                          <a:ea typeface="华文中宋"/>
                        </a:rPr>
                        <a:t>连接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区别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区别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相同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1" name="Text Box 65"/>
          <p:cNvSpPr/>
          <p:nvPr/>
        </p:nvSpPr>
        <p:spPr>
          <a:xfrm>
            <a:off x="3433680" y="2808360"/>
            <a:ext cx="1943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6"/>
          <p:cNvSpPr/>
          <p:nvPr/>
        </p:nvSpPr>
        <p:spPr>
          <a:xfrm>
            <a:off x="1389240" y="2220840"/>
            <a:ext cx="39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能将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单个核苷酸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连接到已有的核酸片段上，形成磷酸二酯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67"/>
          <p:cNvSpPr/>
          <p:nvPr/>
        </p:nvSpPr>
        <p:spPr>
          <a:xfrm>
            <a:off x="3941640" y="58150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形成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磷酸二酯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8"/>
          <p:cNvSpPr/>
          <p:nvPr/>
        </p:nvSpPr>
        <p:spPr>
          <a:xfrm>
            <a:off x="5275440" y="2373480"/>
            <a:ext cx="35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两个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片段之间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形成磷酸二酯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9"/>
          <p:cNvSpPr/>
          <p:nvPr/>
        </p:nvSpPr>
        <p:spPr>
          <a:xfrm>
            <a:off x="1465200" y="3973680"/>
            <a:ext cx="38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以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一条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链为模板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将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单个核苷酸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通过磷酸二酯键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连接成一条互补的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0"/>
          <p:cNvSpPr/>
          <p:nvPr/>
        </p:nvSpPr>
        <p:spPr>
          <a:xfrm>
            <a:off x="5519880" y="3973680"/>
            <a:ext cx="35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双链上的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两个缺口同时连接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起来，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不需要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1065960" y="458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工程的产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22360" y="1359000"/>
            <a:ext cx="2436840" cy="2436840"/>
            <a:chOff x="522360" y="1359000"/>
            <a:chExt cx="2436840" cy="2436840"/>
          </a:xfrm>
        </p:grpSpPr>
        <p:pic>
          <p:nvPicPr>
            <p:cNvPr id="106" name="Picture 8" descr="转基因荧光鱼"/>
            <p:cNvPicPr/>
            <p:nvPr/>
          </p:nvPicPr>
          <p:blipFill>
            <a:blip r:embed="rId1"/>
            <a:stretch/>
          </p:blipFill>
          <p:spPr>
            <a:xfrm>
              <a:off x="522360" y="1359000"/>
              <a:ext cx="2436840" cy="19414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07" name="矩形 26"/>
            <p:cNvSpPr/>
            <p:nvPr/>
          </p:nvSpPr>
          <p:spPr>
            <a:xfrm>
              <a:off x="522360" y="3311640"/>
              <a:ext cx="2435400" cy="484200"/>
            </a:xfrm>
            <a:prstGeom prst="rect">
              <a:avLst/>
            </a:prstGeom>
            <a:solidFill>
              <a:srgbClr val="c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5"/>
            <p:cNvSpPr/>
            <p:nvPr/>
          </p:nvSpPr>
          <p:spPr>
            <a:xfrm>
              <a:off x="863640" y="3312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多彩小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52680" y="1359000"/>
            <a:ext cx="2438640" cy="2436840"/>
            <a:chOff x="3352680" y="1359000"/>
            <a:chExt cx="2438640" cy="2436840"/>
          </a:xfrm>
        </p:grpSpPr>
        <p:pic>
          <p:nvPicPr>
            <p:cNvPr id="110" name="Picture 7" descr="转基因超级鼠"/>
            <p:cNvPicPr/>
            <p:nvPr/>
          </p:nvPicPr>
          <p:blipFill>
            <a:blip r:embed="rId2"/>
            <a:stretch/>
          </p:blipFill>
          <p:spPr>
            <a:xfrm>
              <a:off x="3376440" y="1359000"/>
              <a:ext cx="2404080" cy="19659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11" name="矩形 27"/>
            <p:cNvSpPr/>
            <p:nvPr/>
          </p:nvSpPr>
          <p:spPr>
            <a:xfrm>
              <a:off x="3352680" y="3324600"/>
              <a:ext cx="2438640" cy="4712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28"/>
            <p:cNvSpPr/>
            <p:nvPr/>
          </p:nvSpPr>
          <p:spPr>
            <a:xfrm>
              <a:off x="3781440" y="33350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转基因小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333600" y="4022640"/>
            <a:ext cx="2436840" cy="2436840"/>
            <a:chOff x="3333600" y="4022640"/>
            <a:chExt cx="2436840" cy="2436840"/>
          </a:xfrm>
        </p:grpSpPr>
        <p:pic>
          <p:nvPicPr>
            <p:cNvPr id="114" name="Picture 2" descr="转基因荧光猪"/>
            <p:cNvPicPr/>
            <p:nvPr/>
          </p:nvPicPr>
          <p:blipFill>
            <a:blip r:embed="rId3"/>
            <a:stretch/>
          </p:blipFill>
          <p:spPr>
            <a:xfrm>
              <a:off x="3363840" y="4022640"/>
              <a:ext cx="2406600" cy="19735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15" name="矩形 31"/>
            <p:cNvSpPr/>
            <p:nvPr/>
          </p:nvSpPr>
          <p:spPr>
            <a:xfrm>
              <a:off x="3333600" y="5967360"/>
              <a:ext cx="2436840" cy="4921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3"/>
            <p:cNvSpPr/>
            <p:nvPr/>
          </p:nvSpPr>
          <p:spPr>
            <a:xfrm>
              <a:off x="3743280" y="596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转基因小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92120" y="4022640"/>
            <a:ext cx="2471760" cy="2476800"/>
            <a:chOff x="492120" y="4022640"/>
            <a:chExt cx="2471760" cy="2476800"/>
          </a:xfrm>
        </p:grpSpPr>
        <p:pic>
          <p:nvPicPr>
            <p:cNvPr id="118" name="Picture 9" descr=""/>
            <p:cNvPicPr/>
            <p:nvPr/>
          </p:nvPicPr>
          <p:blipFill>
            <a:blip r:embed="rId4"/>
            <a:srcRect l="50015" t="26" r="0" b="0"/>
            <a:stretch/>
          </p:blipFill>
          <p:spPr>
            <a:xfrm>
              <a:off x="507240" y="4022640"/>
              <a:ext cx="2421360" cy="20178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19" name="矩形 32"/>
            <p:cNvSpPr/>
            <p:nvPr/>
          </p:nvSpPr>
          <p:spPr>
            <a:xfrm>
              <a:off x="492120" y="6031080"/>
              <a:ext cx="2471760" cy="4284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34"/>
            <p:cNvSpPr/>
            <p:nvPr/>
          </p:nvSpPr>
          <p:spPr>
            <a:xfrm>
              <a:off x="833760" y="6039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辣椒香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184800" y="1336680"/>
            <a:ext cx="2436840" cy="2441160"/>
            <a:chOff x="6184800" y="1336680"/>
            <a:chExt cx="2436840" cy="2441160"/>
          </a:xfrm>
        </p:grpSpPr>
        <p:pic>
          <p:nvPicPr>
            <p:cNvPr id="122" name="Picture 6" descr="蓝玫瑰（转基因）"/>
            <p:cNvPicPr/>
            <p:nvPr/>
          </p:nvPicPr>
          <p:blipFill>
            <a:blip r:embed="rId5"/>
            <a:srcRect l="0" t="0" r="16194" b="0"/>
            <a:stretch/>
          </p:blipFill>
          <p:spPr>
            <a:xfrm>
              <a:off x="6192720" y="1336680"/>
              <a:ext cx="2428920" cy="20239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23" name="矩形 29"/>
            <p:cNvSpPr/>
            <p:nvPr/>
          </p:nvSpPr>
          <p:spPr>
            <a:xfrm>
              <a:off x="6184800" y="3317760"/>
              <a:ext cx="2427480" cy="45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35"/>
            <p:cNvSpPr/>
            <p:nvPr/>
          </p:nvSpPr>
          <p:spPr>
            <a:xfrm>
              <a:off x="6513840" y="33181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蓝色玫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6880" y="4035600"/>
            <a:ext cx="2436840" cy="2436480"/>
            <a:chOff x="6176880" y="4035600"/>
            <a:chExt cx="2436840" cy="2436480"/>
          </a:xfrm>
        </p:grpSpPr>
        <p:pic>
          <p:nvPicPr>
            <p:cNvPr id="126" name="Picture 9" descr=""/>
            <p:cNvPicPr/>
            <p:nvPr/>
          </p:nvPicPr>
          <p:blipFill>
            <a:blip r:embed="rId6"/>
            <a:srcRect l="0" t="6713" r="50015" b="0"/>
            <a:stretch/>
          </p:blipFill>
          <p:spPr>
            <a:xfrm>
              <a:off x="6176880" y="4035600"/>
              <a:ext cx="2436840" cy="19508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27" name="矩形 30"/>
            <p:cNvSpPr/>
            <p:nvPr/>
          </p:nvSpPr>
          <p:spPr>
            <a:xfrm>
              <a:off x="6178320" y="5986440"/>
              <a:ext cx="2435400" cy="485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6"/>
            <p:cNvSpPr/>
            <p:nvPr/>
          </p:nvSpPr>
          <p:spPr>
            <a:xfrm>
              <a:off x="6509160" y="598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黑籽番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Box 1"/>
          <p:cNvSpPr/>
          <p:nvPr/>
        </p:nvSpPr>
        <p:spPr>
          <a:xfrm>
            <a:off x="392040" y="458640"/>
            <a:ext cx="61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“分子运输车”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17"/>
          <p:cNvSpPr/>
          <p:nvPr/>
        </p:nvSpPr>
        <p:spPr>
          <a:xfrm>
            <a:off x="704880" y="400680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82760" y="1295280"/>
            <a:ext cx="6064920" cy="2487240"/>
            <a:chOff x="482760" y="1295280"/>
            <a:chExt cx="6064920" cy="2487240"/>
          </a:xfrm>
        </p:grpSpPr>
        <p:sp>
          <p:nvSpPr>
            <p:cNvPr id="501" name="TextBox 18"/>
            <p:cNvSpPr/>
            <p:nvPr/>
          </p:nvSpPr>
          <p:spPr>
            <a:xfrm>
              <a:off x="482760" y="1295280"/>
              <a:ext cx="849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1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Box 19"/>
            <p:cNvSpPr/>
            <p:nvPr/>
          </p:nvSpPr>
          <p:spPr>
            <a:xfrm>
              <a:off x="3134520" y="1339560"/>
              <a:ext cx="3413160" cy="24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载体需要的条件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⑴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Bernard MT Condensed"/>
                  <a:ea typeface="黑体"/>
                </a:rPr>
                <a:t>~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个限制酶切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⑵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对受体细胞无害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⑶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导入基因能在受体细胞中复制、表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⑷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有某些标记基因，便于筛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71680" y="4140360"/>
            <a:ext cx="6138720" cy="1557000"/>
            <a:chOff x="571680" y="4140360"/>
            <a:chExt cx="6138720" cy="1557000"/>
          </a:xfrm>
        </p:grpSpPr>
        <p:sp>
          <p:nvSpPr>
            <p:cNvPr id="504" name="TextBox 20"/>
            <p:cNvSpPr/>
            <p:nvPr/>
          </p:nvSpPr>
          <p:spPr>
            <a:xfrm>
              <a:off x="571680" y="4140360"/>
              <a:ext cx="788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2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Box 21"/>
            <p:cNvSpPr/>
            <p:nvPr/>
          </p:nvSpPr>
          <p:spPr>
            <a:xfrm>
              <a:off x="2603880" y="4184640"/>
              <a:ext cx="4106520" cy="15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常用运载体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⑴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细菌的质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⑵</a:t>
              </a:r>
              <a:r>
                <a:rPr b="1" lang="el-GR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λ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幼圆"/>
                </a:rPr>
                <a:t>噬菌体衍生物或某些动植物病毒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用的载体：质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pic_136123"/>
          <p:cNvPicPr/>
          <p:nvPr/>
        </p:nvPicPr>
        <p:blipFill>
          <a:blip r:embed="rId1"/>
          <a:srcRect l="2308" t="28418" r="63955" b="42813"/>
          <a:stretch/>
        </p:blipFill>
        <p:spPr>
          <a:xfrm>
            <a:off x="2482920" y="1162080"/>
            <a:ext cx="4054320" cy="5403960"/>
          </a:xfrm>
          <a:prstGeom prst="rect">
            <a:avLst/>
          </a:prstGeom>
          <a:ln w="0">
            <a:noFill/>
          </a:ln>
        </p:spPr>
      </p:pic>
      <p:sp>
        <p:nvSpPr>
          <p:cNvPr id="509" name="Line 6"/>
          <p:cNvSpPr/>
          <p:nvPr/>
        </p:nvSpPr>
        <p:spPr>
          <a:xfrm flipV="1">
            <a:off x="5076720" y="5373720"/>
            <a:ext cx="1656000" cy="43344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6767640" y="4653000"/>
            <a:ext cx="2376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能复制并带着插入的目的基因一起复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8"/>
          <p:cNvSpPr/>
          <p:nvPr/>
        </p:nvSpPr>
        <p:spPr>
          <a:xfrm flipV="1">
            <a:off x="4932360" y="3860280"/>
            <a:ext cx="1727280" cy="57636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6877080" y="3573360"/>
            <a:ext cx="2016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有切割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0"/>
          <p:cNvSpPr/>
          <p:nvPr/>
        </p:nvSpPr>
        <p:spPr>
          <a:xfrm flipH="1" flipV="1">
            <a:off x="2484000" y="4581360"/>
            <a:ext cx="574920" cy="21600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0" y="2852640"/>
            <a:ext cx="23400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有标记基因的存在，可用含氨苄青霉素的培养基鉴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堂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3"/>
          <p:cNvSpPr/>
          <p:nvPr/>
        </p:nvSpPr>
        <p:spPr>
          <a:xfrm>
            <a:off x="547920" y="1650960"/>
            <a:ext cx="849384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ts val="58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在基因工程中，切割运载体和含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目的基因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DN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片段，需使用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A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同种限制酶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B.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两种限制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C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同种连接酶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D.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两种连接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7594560" y="24512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堂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3"/>
          <p:cNvSpPr/>
          <p:nvPr/>
        </p:nvSpPr>
        <p:spPr>
          <a:xfrm>
            <a:off x="1284480" y="1428840"/>
            <a:ext cx="6479280" cy="45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不属于质粒被选为基因运载体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理由是 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、能复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、有多个限制酶切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、具有标记基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、它是环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2882880" y="2184480"/>
            <a:ext cx="6094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1"/>
          <p:cNvSpPr/>
          <p:nvPr/>
        </p:nvSpPr>
        <p:spPr>
          <a:xfrm>
            <a:off x="392040" y="45864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堂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-1123560" y="1295280"/>
            <a:ext cx="1227060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以下说法正确的是                 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、所有的限制酶只能识别一种特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核苷酸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、质粒是基因工程中唯一的运载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、运载体必须具备的条件之一是：具有多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限制酶切点，以便与外源基因连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、基因控制的性状都能在后代表现出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7861320" y="1295280"/>
            <a:ext cx="6094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1065960" y="458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工程的概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567520" y="1314360"/>
            <a:ext cx="3939120" cy="18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因工程，又叫</a:t>
            </a:r>
            <a:r>
              <a:rPr b="1" lang="en-US" sz="2800" spc="-1" strike="noStrike">
                <a:solidFill>
                  <a:srgbClr val="c00000"/>
                </a:solidFill>
                <a:latin typeface="幼圆"/>
                <a:ea typeface="幼圆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重组技术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通俗的说，就是</a:t>
            </a: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按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人们的意愿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把一种生物的</a:t>
            </a: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某种基因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提取出来，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以修饰改造，然后放到</a:t>
            </a: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另一种生物的细胞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里，定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地改造生物的遗传特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8"/>
          <p:cNvSpPr/>
          <p:nvPr/>
        </p:nvSpPr>
        <p:spPr>
          <a:xfrm>
            <a:off x="522360" y="329400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22360" y="3429000"/>
          <a:ext cx="8099280" cy="3171960"/>
        </p:xfrm>
        <a:graphic>
          <a:graphicData uri="http://schemas.openxmlformats.org/drawingml/2006/table">
            <a:tbl>
              <a:tblPr/>
              <a:tblGrid>
                <a:gridCol w="3059280"/>
                <a:gridCol w="5040000"/>
              </a:tblGrid>
              <a:tr h="57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基因工程的别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操作环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操作对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操作水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基本过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25"/>
          <p:cNvSpPr/>
          <p:nvPr/>
        </p:nvSpPr>
        <p:spPr>
          <a:xfrm>
            <a:off x="3871800" y="3473280"/>
            <a:ext cx="46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幼圆"/>
                <a:ea typeface="幼圆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重组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4392720" y="4052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生物体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5002200" y="4649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4240080" y="5364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幼圆"/>
                <a:ea typeface="幼圆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分子水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3505320" y="59799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剪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4240080" y="5983200"/>
            <a:ext cx="18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→ 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拼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5641920" y="5997600"/>
            <a:ext cx="17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→ 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6997680" y="59976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→ 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表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811080" y="2563920"/>
            <a:ext cx="5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早期基础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3"/>
          <p:cNvPicPr/>
          <p:nvPr/>
        </p:nvPicPr>
        <p:blipFill>
          <a:blip r:embed="rId1"/>
          <a:stretch/>
        </p:blipFill>
        <p:spPr>
          <a:xfrm>
            <a:off x="1844640" y="1646280"/>
            <a:ext cx="5454720" cy="44006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2664000" y="6046920"/>
            <a:ext cx="38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达尔文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提出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生物进化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811080" y="2563920"/>
            <a:ext cx="5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早期基础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4"/>
          <p:cNvPicPr/>
          <p:nvPr/>
        </p:nvPicPr>
        <p:blipFill>
          <a:blip r:embed="rId1"/>
          <a:stretch/>
        </p:blipFill>
        <p:spPr>
          <a:xfrm>
            <a:off x="1844640" y="1631880"/>
            <a:ext cx="5454720" cy="44020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1403280" y="60688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孟德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提出基因的</a:t>
            </a: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分离定律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幼圆"/>
                <a:ea typeface="幼圆"/>
              </a:rPr>
              <a:t>自由组合定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811080" y="2563920"/>
            <a:ext cx="5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早期基础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5"/>
          <p:cNvPicPr/>
          <p:nvPr/>
        </p:nvPicPr>
        <p:blipFill>
          <a:blip r:embed="rId1"/>
          <a:stretch/>
        </p:blipFill>
        <p:spPr>
          <a:xfrm>
            <a:off x="1833480" y="1644480"/>
            <a:ext cx="5454720" cy="44024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2276640" y="5904000"/>
            <a:ext cx="501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摩尔根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证明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基因在染色体上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   并提出基因的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连锁互换定律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6"/>
          <p:cNvPicPr/>
          <p:nvPr/>
        </p:nvPicPr>
        <p:blipFill>
          <a:blip r:embed="rId1"/>
          <a:stretch/>
        </p:blipFill>
        <p:spPr>
          <a:xfrm>
            <a:off x="1841400" y="1660680"/>
            <a:ext cx="5454720" cy="44035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11080" y="2563920"/>
            <a:ext cx="5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早期基础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646280" y="6195960"/>
            <a:ext cx="70660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艾弗里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证明</a:t>
            </a:r>
            <a:r>
              <a:rPr b="1" lang="en-US" sz="2800" spc="-1" strike="noStrike">
                <a:solidFill>
                  <a:srgbClr val="ff3300"/>
                </a:solidFill>
                <a:latin typeface="幼圆"/>
                <a:ea typeface="幼圆"/>
              </a:rPr>
              <a:t>DNA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是主要遗传物质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从一种生物个体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转移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到另一种生物个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7"/>
          <p:cNvPicPr/>
          <p:nvPr/>
        </p:nvPicPr>
        <p:blipFill>
          <a:blip r:embed="rId1"/>
          <a:stretch/>
        </p:blipFill>
        <p:spPr>
          <a:xfrm>
            <a:off x="1844640" y="1712880"/>
            <a:ext cx="5454720" cy="44038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"/>
          <p:cNvSpPr/>
          <p:nvPr/>
        </p:nvSpPr>
        <p:spPr>
          <a:xfrm>
            <a:off x="982440" y="45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探索之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572120" y="1155600"/>
            <a:ext cx="359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基础理论和技术发展催生了基因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4"/>
          <p:cNvSpPr/>
          <p:nvPr/>
        </p:nvSpPr>
        <p:spPr>
          <a:xfrm>
            <a:off x="522360" y="1154160"/>
            <a:ext cx="8099280" cy="0"/>
          </a:xfrm>
          <a:prstGeom prst="line">
            <a:avLst/>
          </a:prstGeom>
          <a:ln w="284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11080" y="2563920"/>
            <a:ext cx="5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早期基础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467000" y="6116760"/>
            <a:ext cx="70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沃森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克里克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提出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双螺旋结构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模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8:15:27Z</dcterms:created>
  <dc:creator>jzxpc</dc:creator>
  <dc:description/>
  <cp:keywords/>
  <dc:language>en-US</dc:language>
  <cp:lastModifiedBy>a</cp:lastModifiedBy>
  <dcterms:modified xsi:type="dcterms:W3CDTF">2014-05-19T00:55:42Z</dcterms:modified>
  <cp:revision>1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