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376-6C0D-48A6-AE0C-0A1B71FA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4FF-F673-4FBF-A0CC-83910DBB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FB3-FBE8-4750-AD3E-8D3597E8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364-A88C-4B3A-93FF-B28DBCC3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5308-F60A-48BA-A5BE-954149A2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37E5-C0BB-4B66-87F9-8D5E0677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BE77-3269-413B-AAF6-C465A148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8B70-4D70-4F77-887E-8784F810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B1E5-D637-4E24-A0C2-0CC7FF53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3822-DECC-4814-8EB6-7630B5BB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B615-B498-4EE5-8CC1-BCECDF1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E3E-C39C-45DB-837D-5D17D3C8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2493-15EB-4D1C-A1E8-5B9D2AE5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440E-4B32-4737-9BAE-63A0511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A5CA-DD3B-48BF-AEF1-CB0D80AE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482E-8BE4-4340-94BC-85BA3F79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5228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2600"/>
            <a:ext cx="264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DD30-B95E-4B6D-91CA-B8015250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EE5-8E5E-49B4-AFFD-A0D58E43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7EC-81A8-495D-986A-399717D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E37-B5EB-45C1-B14E-9ABE938B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9F0-FCC1-4468-B71B-3548438D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A3C-9986-42E0-87A8-D4E626F8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260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080-9970-4FE6-94C4-4C95101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52280"/>
            <a:ext cx="4015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2600"/>
            <a:ext cx="82296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7FE-0730-41E3-9166-67291AC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1291286264594.jpg"/>
          <p:cNvPicPr/>
          <p:nvPr/>
        </p:nvPicPr>
        <p:blipFill>
          <a:blip r:embed="rId2"/>
          <a:srcRect l="0" t="0" r="0" b="9829"/>
          <a:stretch/>
        </p:blipFill>
        <p:spPr>
          <a:xfrm>
            <a:off x="0" y="1440"/>
            <a:ext cx="913608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10A9-A68D-4466-A426-9BDC181624A5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9BF9-B65F-4A7C-B0C0-79A0CF5FAD3C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Administrator\Desktop\新建文件夹\1291286264594.jpg"/>
          <p:cNvPicPr/>
          <p:nvPr/>
        </p:nvPicPr>
        <p:blipFill>
          <a:blip r:embed="rId2"/>
          <a:srcRect l="0" t="0" r="0" b="9829"/>
          <a:stretch/>
        </p:blipFill>
        <p:spPr>
          <a:xfrm>
            <a:off x="0" y="1440"/>
            <a:ext cx="913608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Administrator\Desktop\新建文件夹\1291286264594.jpg"/>
          <p:cNvPicPr/>
          <p:nvPr/>
        </p:nvPicPr>
        <p:blipFill>
          <a:blip r:embed="rId3"/>
          <a:stretch/>
        </p:blipFill>
        <p:spPr>
          <a:xfrm>
            <a:off x="0" y="1440"/>
            <a:ext cx="91584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ABB0-545D-4D8E-B216-A3B998B8F9A8}" type="datetime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小田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1CEF-9477-4AD0-81CB-8C9ACF31C89D}" type="slidenum">
              <a:rPr b="0" lang="zh-CN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353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红白经典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2708280"/>
            <a:ext cx="8356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37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8CB1-98BD-4D91-9199-AF3635B0FED3}" type="slidenum">
              <a:rPr b="0" lang="zh-CN" sz="1200" spc="-1" strike="noStrike">
                <a:solidFill>
                  <a:srgbClr val="7f7f7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150696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willon</cp:lastModifiedBy>
  <dcterms:modified xsi:type="dcterms:W3CDTF">2014-12-04T15:12:48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