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65E-E4CB-4296-9332-DD12F1BD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712-28E9-4EF0-BE96-7A9E5B23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6C3-7286-4C64-AD14-6329ADC5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D07-0785-41F1-B9EF-9E644ABA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963E-C364-4ED3-8B5C-E9671CAD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E2BA-63AE-44DB-864F-897D749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D20E-4001-4ED6-9329-F0BDCD04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64F-6666-4736-89A8-51E84B6D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5D3-37A8-43E4-9037-F7C61795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04E2-3CDF-498A-A74F-7EE57A06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4B9-2FE8-427F-8273-A80C54F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CCE-D093-45DB-8BF5-02F17E91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6DC2-716B-4373-A359-47CAA659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09A4-9B0B-4B9E-B711-FC24A61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93D-6C87-4B40-A03D-55B2DB9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B690-5E81-4289-B683-C89B54F2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7B5-EC37-447D-8874-9F2CBD6D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CB0-E9D5-461F-A09D-F5E4863E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DC8-7836-4C59-B17B-A16363C0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C49-7102-4D00-9367-45ADED8D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2EB-5F1B-405A-9F6F-295A9C5D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422-C145-4180-9F78-ECE25B3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387-77DC-43DC-B823-4D641808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4B-F08D-440D-BEE2-5811F56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0" y="-93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cc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cc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B7C-6C44-4110-AA55-6A4ED5C42944}" type="slidenum"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0" y="-93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EC6E-FB0C-4300-8C43-E57A478287E6}" type="slidenum">
              <a:rPr b="0" lang="en-US" sz="14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9237200">
            <a:off x="4608360" y="4795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3625920"/>
            <a:ext cx="19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cc"/>
                </a:solidFill>
                <a:latin typeface="Arial"/>
                <a:ea typeface="宋体"/>
              </a:rPr>
              <a:t>15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ff6fcf"/>
                </a:solidFill>
                <a:latin typeface="Arial"/>
              </a:rPr>
              <a:t>07</a:t>
            </a:r>
            <a:r>
              <a:rPr b="1" lang="en-US" sz="3600" spc="-1" strike="noStrike">
                <a:solidFill>
                  <a:srgbClr val="cccccc"/>
                </a:solidFill>
                <a:latin typeface="Arial"/>
              </a:rPr>
              <a:t>/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07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8560" y="25909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黑白泼墨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7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6120" y="64533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Times New Roman"/>
              </a:rPr>
              <a:t>Example of a </a:t>
            </a:r>
            <a:br>
              <a:rPr sz="6600"/>
            </a:br>
            <a:r>
              <a:rPr b="1" lang="en-GB" sz="6600" spc="-1" strike="noStrike">
                <a:solidFill>
                  <a:srgbClr val="ffffff"/>
                </a:solidFill>
                <a:latin typeface="Times New Roman"/>
              </a:rPr>
              <a:t>Bullet Point Sli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700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Times New Roman"/>
              </a:rPr>
              <a:t>Bullet Poin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66"/>
                </a:solidFill>
                <a:latin typeface="Times New Roman"/>
              </a:rPr>
              <a:t>Bullet Point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66"/>
                </a:solidFill>
                <a:latin typeface="Times New Roman"/>
              </a:rPr>
              <a:t>Sub Bulle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52480" y="1390680"/>
            <a:ext cx="60627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760" y="64533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71280" y="14173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cc"/>
                </a:solidFill>
                <a:latin typeface="Times New Roman"/>
              </a:rPr>
              <a:t>Text and lines are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66"/>
                </a:solidFill>
                <a:uFillTx/>
                <a:latin typeface="Times New Roman"/>
              </a:rPr>
              <a:t>Hyperlinks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Times New Roman"/>
              </a:rPr>
              <a:t>Visited hyperlinks like thi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86200" y="3962520"/>
          <a:ext cx="3630600" cy="172692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cccccc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1368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13680">
                      <a:solidFill>
                        <a:srgbClr val="cccccc"/>
                      </a:solidFill>
                    </a:lnR>
                    <a:lnT w="1368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368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cc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cccc"/>
                      </a:solidFill>
                    </a:lnL>
                    <a:lnR w="1368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1368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220760" y="4114800"/>
            <a:ext cx="2232000" cy="1368360"/>
          </a:xfrm>
          <a:prstGeom prst="rect">
            <a:avLst/>
          </a:prstGeom>
          <a:solidFill>
            <a:srgbClr val="66ccff">
              <a:alpha val="59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cccc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35440" y="6489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66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cccc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cccc"/>
                </a:solidFill>
                <a:latin typeface="Arial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6666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cc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7:27:21Z</dcterms:created>
  <dc:creator>Presentation helper</dc:creator>
  <dc:description/>
  <dc:language>en-US</dc:language>
  <cp:lastModifiedBy>Pearce</cp:lastModifiedBy>
  <dcterms:modified xsi:type="dcterms:W3CDTF">2014-11-24T15:08:43Z</dcterms:modified>
  <cp:revision>61</cp:revision>
  <dc:subject/>
  <dc:title>Grung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