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E196-D6D0-47AB-AA29-F15031C37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55640" y="223920"/>
            <a:ext cx="6543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1640" y="907560"/>
            <a:ext cx="89154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1640" y="3616200"/>
            <a:ext cx="89154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7FD3-BF3B-459B-BD72-1EF72126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55640" y="223920"/>
            <a:ext cx="6543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1640" y="907560"/>
            <a:ext cx="43506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0040" y="907560"/>
            <a:ext cx="43506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1640" y="3616200"/>
            <a:ext cx="43506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0040" y="3616200"/>
            <a:ext cx="43506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7AF4-BC11-4751-B59A-FAFFDACC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55640" y="223920"/>
            <a:ext cx="6543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1640" y="907560"/>
            <a:ext cx="287064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6280" y="907560"/>
            <a:ext cx="287064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90920" y="907560"/>
            <a:ext cx="287064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1640" y="3616200"/>
            <a:ext cx="287064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6280" y="3616200"/>
            <a:ext cx="287064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90920" y="3616200"/>
            <a:ext cx="287064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7C4B-9E33-490E-B06E-F14FF1A4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A69D-B891-43FC-B1CF-85CD8C0F1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55640" y="223920"/>
            <a:ext cx="6543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1640" y="907560"/>
            <a:ext cx="8915400" cy="51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0B82-D392-4A9B-BE37-B8515043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55640" y="223920"/>
            <a:ext cx="6543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1640" y="907560"/>
            <a:ext cx="89154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3C95-43F1-4616-AD93-1D811863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55640" y="223920"/>
            <a:ext cx="6543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1640" y="907560"/>
            <a:ext cx="4350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0040" y="907560"/>
            <a:ext cx="4350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6526-7B80-4655-8CFE-A1BC65A0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55640" y="223920"/>
            <a:ext cx="6543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4BB0-7461-47CA-954F-B9A690CA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55640" y="223920"/>
            <a:ext cx="6543720" cy="227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7EFC-D330-4277-B4F4-D79128CF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55640" y="223920"/>
            <a:ext cx="6543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1640" y="907560"/>
            <a:ext cx="43506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0040" y="907560"/>
            <a:ext cx="4350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1640" y="3616200"/>
            <a:ext cx="43506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8D25-E4EF-467E-A70F-378452AF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55640" y="223920"/>
            <a:ext cx="6543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1640" y="907560"/>
            <a:ext cx="8915400" cy="51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0DC1-466C-4C2B-AB15-1AE142A0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55640" y="223920"/>
            <a:ext cx="6543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1640" y="907560"/>
            <a:ext cx="4350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0040" y="907560"/>
            <a:ext cx="43506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0040" y="3616200"/>
            <a:ext cx="43506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3D60-892B-42AD-B929-DB686525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55640" y="223920"/>
            <a:ext cx="6543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1640" y="907560"/>
            <a:ext cx="43506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0040" y="907560"/>
            <a:ext cx="43506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61640" y="3616200"/>
            <a:ext cx="89154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3365-969F-41DE-A7EB-260A5DB5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55640" y="223920"/>
            <a:ext cx="6543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1640" y="907560"/>
            <a:ext cx="89154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61640" y="3616200"/>
            <a:ext cx="89154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F7BE-60B4-4246-90C9-1869DBE9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55640" y="223920"/>
            <a:ext cx="6543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1640" y="907560"/>
            <a:ext cx="43506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0040" y="907560"/>
            <a:ext cx="43506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61640" y="3616200"/>
            <a:ext cx="43506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0040" y="3616200"/>
            <a:ext cx="43506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3AEF-4CBA-4649-847C-3F70225A9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55640" y="223920"/>
            <a:ext cx="6543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1640" y="907560"/>
            <a:ext cx="287064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6280" y="907560"/>
            <a:ext cx="287064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90920" y="907560"/>
            <a:ext cx="287064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61640" y="3616200"/>
            <a:ext cx="287064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6280" y="3616200"/>
            <a:ext cx="287064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90920" y="3616200"/>
            <a:ext cx="287064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317F-60EF-4AF3-AB28-F51E4C63B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55640" y="223920"/>
            <a:ext cx="6543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1640" y="907560"/>
            <a:ext cx="89154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6B94-F62E-49B7-8447-03FC1654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55640" y="223920"/>
            <a:ext cx="6543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1640" y="907560"/>
            <a:ext cx="4350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0040" y="907560"/>
            <a:ext cx="4350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99B3-7368-47BA-ABA1-67E31C57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55640" y="223920"/>
            <a:ext cx="6543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A013-1420-485E-B4F4-C80D903C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55640" y="223920"/>
            <a:ext cx="6543720" cy="227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DAB1-1FAB-4F03-A825-E3CB9855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55640" y="223920"/>
            <a:ext cx="6543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1640" y="907560"/>
            <a:ext cx="43506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0040" y="907560"/>
            <a:ext cx="4350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1640" y="3616200"/>
            <a:ext cx="43506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3365-90D8-46ED-AFA3-BC7A6570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55640" y="223920"/>
            <a:ext cx="6543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1640" y="907560"/>
            <a:ext cx="4350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0040" y="907560"/>
            <a:ext cx="43506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0040" y="3616200"/>
            <a:ext cx="43506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F487-DC15-4463-B667-65FB1FD7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55640" y="223920"/>
            <a:ext cx="6543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1640" y="907560"/>
            <a:ext cx="43506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0040" y="907560"/>
            <a:ext cx="43506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1640" y="3616200"/>
            <a:ext cx="89154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6188-8E41-4C52-A0C0-69D730ED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55640" y="223920"/>
            <a:ext cx="6543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1640" y="907560"/>
            <a:ext cx="89154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3120" y="6337080"/>
            <a:ext cx="1492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554120" y="6337080"/>
            <a:ext cx="491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97640" y="6337080"/>
            <a:ext cx="898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6129-0BB6-497F-892C-1B411F330E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1628640"/>
            <a:ext cx="8496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3120" y="6337080"/>
            <a:ext cx="1492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1554120" y="6337080"/>
            <a:ext cx="491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97640" y="6337080"/>
            <a:ext cx="898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9390-F476-472D-8A6C-7FA35400C7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628640"/>
            <a:ext cx="8496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黑白条形码通用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21264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76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60400" y="44280"/>
            <a:ext cx="8286840" cy="20098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55640" y="223920"/>
            <a:ext cx="6543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1640" y="907560"/>
            <a:ext cx="89154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30600" y="6381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0c0c0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c0c0c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c0c0c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c0c0c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4:25:22Z</dcterms:created>
  <dc:creator/>
  <dc:description/>
  <dc:language>en-US</dc:language>
  <cp:lastModifiedBy>graphics07</cp:lastModifiedBy>
  <dcterms:modified xsi:type="dcterms:W3CDTF">2014-12-05T00:52:3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