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315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315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940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39400" y="409392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37120" y="190476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3920" y="409392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37120" y="409392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56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39400" y="1904760"/>
            <a:ext cx="356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057200" y="161640"/>
            <a:ext cx="4876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39400" y="1904760"/>
            <a:ext cx="356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56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940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39400" y="409392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3940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315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315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990720" y="4093920"/>
            <a:ext cx="7315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3940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39400" y="409392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37120" y="190476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990720" y="409392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63920" y="409392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37120" y="4093920"/>
            <a:ext cx="23551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56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39400" y="1904760"/>
            <a:ext cx="356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057200" y="161640"/>
            <a:ext cx="487692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9400" y="1904760"/>
            <a:ext cx="356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5697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940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39400" y="409392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57200" y="137520"/>
            <a:ext cx="4876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9400" y="1904760"/>
            <a:ext cx="35697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4093920"/>
            <a:ext cx="73152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57200" y="161640"/>
            <a:ext cx="487692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9047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37960" y="133200"/>
            <a:ext cx="73915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oft Sans Serif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Microsoft Sans Serif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icrosoft Sans Serif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crosoft Sans Serif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icrosoft Sans Serif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5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  <a:p>
            <a:pPr lvl="6" marL="1828800">
              <a:spcBef>
                <a:spcPts val="4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icrosoft Sans Serif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7960" y="133200"/>
            <a:ext cx="739152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红白小屋房产销售</a:t>
            </a: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ppt</a:t>
            </a:r>
            <a:r>
              <a:rPr b="0" lang="ru-RU" sz="3600" spc="-1" strike="noStrike">
                <a:solidFill>
                  <a:srgbClr val="ffffff"/>
                </a:solidFill>
                <a:latin typeface="Microsoft Sans Serif"/>
              </a:rPr>
              <a:t>模板</a:t>
            </a:r>
            <a:endParaRPr b="0" lang="en-US" sz="36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237960" y="819000"/>
            <a:ext cx="73915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78" name=""/>
          <p:cNvSpPr/>
          <p:nvPr/>
        </p:nvSpPr>
        <p:spPr>
          <a:xfrm>
            <a:off x="716328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7760" y="137520"/>
            <a:ext cx="5886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315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81080" y="432720"/>
            <a:ext cx="6934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81080" y="1752480"/>
            <a:ext cx="69343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d4d4d"/>
                </a:solidFill>
                <a:latin typeface="Microsoft Sans Serif"/>
                <a:ea typeface="宋体"/>
              </a:rPr>
              <a:t>单击此处添加副标题</a:t>
            </a:r>
            <a:endParaRPr b="0" lang="en-US" sz="3200" spc="-1" strike="noStrike">
              <a:solidFill>
                <a:srgbClr val="ffffff"/>
              </a:solidFill>
              <a:latin typeface="Microsoft Sans Serif"/>
            </a:endParaRPr>
          </a:p>
        </p:txBody>
      </p:sp>
      <p:sp>
        <p:nvSpPr>
          <p:cNvPr id="83" name=""/>
          <p:cNvSpPr/>
          <p:nvPr/>
        </p:nvSpPr>
        <p:spPr>
          <a:xfrm>
            <a:off x="2430000" y="6477120"/>
            <a:ext cx="502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1d1d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pic>
          <p:nvPicPr>
            <p:cNvPr id="8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ff1d1d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ff1d1d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ff1d1d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20:13:27Z</dcterms:created>
  <dc:creator>SmileTemplates.com</dc:creator>
  <dc:description/>
  <dc:language>en-US</dc:language>
  <cp:lastModifiedBy>Nick</cp:lastModifiedBy>
  <dcterms:modified xsi:type="dcterms:W3CDTF">2014-12-04T15:18:59Z</dcterms:modified>
  <cp:revision>62</cp:revision>
  <dc:subject/>
  <dc:title>Name of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