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828-7CC0-49DD-8025-2DD404BC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9C2-3C00-41D6-B514-9D60508D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0FC-9AFA-46BB-BD77-5044621C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5D3-F141-41F2-8360-6667E7C2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051D-A2E9-48F3-8E0E-42C878A9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7608-4CE5-408B-94AD-57C5B7C9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EB9C-0D42-48DE-825A-85441A18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D0E0-AA6A-441A-B605-DE123602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ED5B-18C7-479C-99FC-A6031743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817D-8A07-46EE-A20A-65166AF2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3AC8-149A-4491-BEDC-37B939A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E66-F048-45BC-AAB2-7AAD6DE9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0881-8E02-4350-AA36-91D5AFE6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A043-9D01-4A60-8418-CA80C32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D182-9F0A-4466-844D-C811F2CB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4E0F-5E92-43A4-A49E-A9F64016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C8BB-1A01-4541-9EC8-DDD0042F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572-F294-4E85-80A9-D84A5DB6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3BA-CBC6-4C80-B49F-FABFC9C7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EEC-889B-4645-A491-2DACD5EF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522-8E4B-48B9-8F54-DE12F305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B2D-3102-4E40-967B-ED752C56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981-38E3-4D79-B425-39290832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566-F17D-4018-8965-1B74F138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629B-5C2F-4280-952E-E9AC0C451C0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3260-3DBB-40A4-AE4D-48087F4C31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9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9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00080" y="-74520"/>
            <a:ext cx="9282240" cy="695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37402" t="38709" r="35835" b="21386"/>
          <a:stretch/>
        </p:blipFill>
        <p:spPr>
          <a:xfrm>
            <a:off x="3060720" y="2298600"/>
            <a:ext cx="2685960" cy="3002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73942" r="80252" b="0"/>
          <a:stretch/>
        </p:blipFill>
        <p:spPr>
          <a:xfrm>
            <a:off x="-101520" y="5045040"/>
            <a:ext cx="1973160" cy="1959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15764" t="54593" r="59031" b="0"/>
          <a:stretch/>
        </p:blipFill>
        <p:spPr>
          <a:xfrm>
            <a:off x="1476360" y="3862440"/>
            <a:ext cx="2270160" cy="3068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rcRect l="57472" t="47832" r="17331" b="2142"/>
          <a:stretch/>
        </p:blipFill>
        <p:spPr>
          <a:xfrm>
            <a:off x="5627520" y="3139920"/>
            <a:ext cx="2544840" cy="3791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rcRect l="79591" t="60241" r="0" b="0"/>
          <a:stretch/>
        </p:blipFill>
        <p:spPr>
          <a:xfrm>
            <a:off x="7254720" y="4222800"/>
            <a:ext cx="1854360" cy="2709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rcRect l="34764" t="46457" r="32283" b="0"/>
          <a:stretch/>
        </p:blipFill>
        <p:spPr>
          <a:xfrm>
            <a:off x="2844720" y="2997360"/>
            <a:ext cx="3167280" cy="38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rcRect l="22228" t="22509" r="20976" b="13837"/>
          <a:stretch/>
        </p:blipFill>
        <p:spPr>
          <a:xfrm>
            <a:off x="1692360" y="1254240"/>
            <a:ext cx="5327640" cy="4479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37402" t="38709" r="35835" b="21386"/>
          <a:stretch/>
        </p:blipFill>
        <p:spPr>
          <a:xfrm>
            <a:off x="3276720" y="2227320"/>
            <a:ext cx="2685960" cy="300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34764" t="46457" r="32283" b="0"/>
          <a:stretch/>
        </p:blipFill>
        <p:spPr>
          <a:xfrm>
            <a:off x="3060720" y="2997360"/>
            <a:ext cx="3166920" cy="386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rcRect l="22228" t="22509" r="20976" b="13837"/>
          <a:stretch/>
        </p:blipFill>
        <p:spPr>
          <a:xfrm>
            <a:off x="1908000" y="1197000"/>
            <a:ext cx="5328000" cy="4479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69320" y="20750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93120" y="20750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98000" y="3422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1120" y="3422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24600" y="4646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93120" y="4646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Arial"/>
              </a:rPr>
              <a:t>par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7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8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8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167 -0.005556 L 0.004167 -0.007407 L 0.008333 -0.007407 L 0.009722 -0.009259 L 0.011111 -0.009259 L 0.0125 -0.011111 L 0.013889 -0.011111 L 0.015278 -0.014815 L 0.020833 -0.014815 L 0.022222 -0.016667 L 0.033333 -0.016667 L 0.034722 -0.014815 L 0.038889 -0.014815 L 0.040278 -0.011111 L 0.041667 -0.011111 L 0.043056 -0.009259 L 0.045833 -0.009259 L 0.048611 -0.005556 L 0.05 -0.005556 L 0.058333 0.005556 L 0.058333 0.007407 L 0.061111 0.011111 L 0.061111 0.012963 L 0.0625 0.014815 L 0.0625 0.018519 L 0.063889 0.022222 L 0.063889 0.025926 L 0.065278 0.027778 L 0.065278 0.040741 L 0.066667 0.042593 L 0.066667 0.046296 L 0.065278 0.048148 L 0.065278 0.061111 L 0.063889 0.062963 L 0.063889 0.064815 L 0.0625 0.066667 L 0.0625 0.068519 L 0.061111 0.072222 L 0.061111 0.075926 L 0.058333 0.07963 L 0.058333 0.081481 L 0.048611 0.094444 L 0.047222 0.094444 L 0.045833 0.096296 L 0.043056 0.096296 L 0.041667 0.098148 L 0.040278 0.098148 L 0.038889 0.1 L 0.036111 0.1 L 0.034722 0.101852 L 0.020833 0.101852 L 0.018056 0.1 L 0.015278 0.1 L 0.013889 0.098148 L 0.011111 0.098148 L 0.009722 0.096296 L 0.008333 0.096296 L -0.004167 0.07963 L -0.004167 0.077778 L -0.008333 0.074074 L -0.008333 0.072222 L -0.009722 0.068519 L -0.009722 0.064815 L -0.011111 0.062963 L -0.011111 0.057407 L -0.0125 0.055556 L -0.0125 0.031481 L -0.011111 0.02963 L -0.011111 0.024074 L -0.009722 0.022222 L -0.009722 0.018519 L -0.008333 0.016667 L -0.008333 0.012963 L -0.004167 0.009259 L -0.004167 0.007407 L -0.001389 0.001852 L 0 0 Z">
                                      <p:cBhvr>
                                        <p:cTn id="10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8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32748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rcRect l="0" t="50931" r="0" b="38339"/>
          <a:stretch/>
        </p:blipFill>
        <p:spPr>
          <a:xfrm>
            <a:off x="-27000" y="6045120"/>
            <a:ext cx="9171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81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32748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rcRect l="40945" t="45795" r="38583" b="31118"/>
          <a:stretch/>
        </p:blipFill>
        <p:spPr>
          <a:xfrm>
            <a:off x="444600" y="1808280"/>
            <a:ext cx="468360" cy="396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rcRect l="40945" t="45795" r="38583" b="31118"/>
          <a:stretch/>
        </p:blipFill>
        <p:spPr>
          <a:xfrm>
            <a:off x="444600" y="2852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rcRect l="40945" t="45795" r="38583" b="31118"/>
          <a:stretch/>
        </p:blipFill>
        <p:spPr>
          <a:xfrm>
            <a:off x="457200" y="3860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rcRect l="0" t="50931" r="0" b="38339"/>
          <a:stretch/>
        </p:blipFill>
        <p:spPr>
          <a:xfrm>
            <a:off x="912960" y="173664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rcRect l="0" t="50931" r="0" b="38339"/>
          <a:stretch/>
        </p:blipFill>
        <p:spPr>
          <a:xfrm>
            <a:off x="-27000" y="6045120"/>
            <a:ext cx="9171000" cy="836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67320" y="18381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1"/>
          <a:srcRect l="0" t="50931" r="0" b="38339"/>
          <a:stretch/>
        </p:blipFill>
        <p:spPr>
          <a:xfrm>
            <a:off x="925560" y="278136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rcRect l="0" t="50931" r="0" b="38339"/>
          <a:stretch/>
        </p:blipFill>
        <p:spPr>
          <a:xfrm>
            <a:off x="912960" y="3860640"/>
            <a:ext cx="7559640" cy="468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67320" y="2852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7320" y="3860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124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20808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1038240" y="1700280"/>
            <a:ext cx="44704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rcRect l="0" t="50931" r="0" b="38339"/>
          <a:stretch/>
        </p:blipFill>
        <p:spPr>
          <a:xfrm>
            <a:off x="2627280" y="2781360"/>
            <a:ext cx="4321080" cy="468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4356000" y="3825720"/>
            <a:ext cx="4498920" cy="46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rcRect l="0" t="0" r="90630" b="0"/>
          <a:stretch/>
        </p:blipFill>
        <p:spPr>
          <a:xfrm>
            <a:off x="444600" y="1700280"/>
            <a:ext cx="419040" cy="468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rcRect l="0" t="50931" r="96504" b="38339"/>
          <a:stretch/>
        </p:blipFill>
        <p:spPr>
          <a:xfrm>
            <a:off x="2089080" y="2781360"/>
            <a:ext cx="395280" cy="468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rcRect l="0" t="0" r="90630" b="0"/>
          <a:stretch/>
        </p:blipFill>
        <p:spPr>
          <a:xfrm>
            <a:off x="3780000" y="3825720"/>
            <a:ext cx="419040" cy="46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71480" y="54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74488" t="25753" r="0" b="0"/>
          <a:stretch/>
        </p:blipFill>
        <p:spPr>
          <a:xfrm>
            <a:off x="8353440" y="4294080"/>
            <a:ext cx="790560" cy="172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74488" t="25753" r="0" b="0"/>
          <a:stretch/>
        </p:blipFill>
        <p:spPr>
          <a:xfrm>
            <a:off x="77598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rcRect l="74488" t="25753" r="0" b="0"/>
          <a:stretch/>
        </p:blipFill>
        <p:spPr>
          <a:xfrm>
            <a:off x="444600" y="4726080"/>
            <a:ext cx="593640" cy="1295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rcRect l="74488" t="25753" r="0" b="0"/>
          <a:stretch/>
        </p:blipFill>
        <p:spPr>
          <a:xfrm>
            <a:off x="49320" y="4510080"/>
            <a:ext cx="69192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2748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rcRect l="40945" t="45795" r="38583" b="31118"/>
          <a:stretch/>
        </p:blipFill>
        <p:spPr>
          <a:xfrm>
            <a:off x="444600" y="1808280"/>
            <a:ext cx="468360" cy="396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rcRect l="40945" t="45795" r="38583" b="31118"/>
          <a:stretch/>
        </p:blipFill>
        <p:spPr>
          <a:xfrm>
            <a:off x="444600" y="2852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rcRect l="40945" t="45795" r="38583" b="31118"/>
          <a:stretch/>
        </p:blipFill>
        <p:spPr>
          <a:xfrm>
            <a:off x="457200" y="386064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rcRect l="0" t="50931" r="0" b="38339"/>
          <a:stretch/>
        </p:blipFill>
        <p:spPr>
          <a:xfrm>
            <a:off x="912960" y="173664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rcRect l="0" t="50931" r="0" b="38339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7320" y="18381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0"/>
          <a:srcRect l="0" t="50931" r="0" b="38339"/>
          <a:stretch/>
        </p:blipFill>
        <p:spPr>
          <a:xfrm>
            <a:off x="925560" y="2781360"/>
            <a:ext cx="7559640" cy="46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rcRect l="0" t="50931" r="0" b="38339"/>
          <a:stretch/>
        </p:blipFill>
        <p:spPr>
          <a:xfrm>
            <a:off x="912960" y="3860640"/>
            <a:ext cx="7559640" cy="468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67320" y="2852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67320" y="38606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011480" y="1770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b05"/>
                </a:solidFill>
                <a:latin typeface="Arial"/>
                <a:ea typeface="经典综艺体简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32920" y="257004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ANK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45640" y="61722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Dell</cp:lastModifiedBy>
  <cp:lastPrinted>1899-12-30T00:00:00Z</cp:lastPrinted>
  <dcterms:modified xsi:type="dcterms:W3CDTF">2014-06-03T08:38:30Z</dcterms:modified>
  <cp:revision>10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