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A6F-7EB8-4F63-93DE-B1A32A0E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5D8-72BC-47EB-92CE-CCFEF577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16B-72FD-402E-A4F2-3C4249E6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739-B599-46A2-B797-E3101DCD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0362-365E-4320-8252-FA9D938D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6559-B6E1-4C3F-8F01-B7AA6BA8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FB7E-79DB-473D-8BBB-4906D28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EA44-1445-4FD1-99D5-5C910DB3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BA9C-2506-4BF7-8372-D241D5C1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CCDF-7B05-4725-89F0-3A9AE2B0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C57-7CC9-4E3C-BCA8-2FBEC1B4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741-E915-4D78-9F5F-8E69B22D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F9F8-3026-49E1-96DE-C87C361A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9D14-D0C9-4704-B4C6-996D549E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4DEC-D22A-4D37-AE65-6FAE49B5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CD8F-5881-4E7E-BA35-3E4B07B3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5B6E-2683-42E6-8891-D8B336FC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3075-B003-4730-926A-F6348021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FF11-BD6C-450A-9AD3-47AFE6B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3AD9-5351-4445-BE34-51B58875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60E1-2EE0-484E-A052-985ED7D4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81C0-4444-44E5-8AB6-34E16FC7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8A4-8D53-4165-8208-94638A93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A811-D34B-4B73-9BD2-16B9967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DE61-40BE-4E57-91BB-0AC600A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48BA-D338-4577-98E2-F07672F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A737-55DC-4D69-86E5-2FF1197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F81D-0E0A-4762-AC1B-C86B905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EF6B-B54E-412D-A59F-F2717FBF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BD34-4E41-4EBB-AA64-5BB1BE66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6DC-7712-4954-8BFB-75A94460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378-C4DE-4D5A-B67A-B8B7167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B0A-A0CB-4BFA-AE12-C8F8C44F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B5B-35C5-46F9-8C75-111C53B3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796-8EA2-4063-A7E2-6B41AE0C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E82-BD6A-42EC-92BB-2934DF6D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9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AB2-3FB1-4478-905E-FAF48ABE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A01D-8F7C-4006-BD39-834FF5292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80360" cy="690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E163-5ADC-4841-B504-CA180D52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2988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23:16Z</dcterms:created>
  <dc:creator>Administrator</dc:creator>
  <dc:description/>
  <dc:language>en-US</dc:language>
  <cp:lastModifiedBy/>
  <cp:lastPrinted>1899-12-30T00:00:00Z</cp:lastPrinted>
  <dcterms:modified xsi:type="dcterms:W3CDTF">2014-05-21T03:21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