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5D1-EC67-4F21-96CA-8BEE6700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F9B-8927-4C1D-BF1B-70B630F3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A88-F5C7-47AD-8A6B-29855442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617-5D70-42FC-810D-4C2426DB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B12-BF84-4E8B-BD26-9EBF018E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F7D-04AD-44C7-B47A-C81A5B67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4C3-F96D-4506-902C-9C54E17F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63E-81EA-45F4-9400-FEDCAE59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594-2912-465C-9CBF-C0FFF380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340-6277-4BF7-B60E-693A67BA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07E-1B94-4A27-A593-62E783CD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ACB-75FE-4524-8F4A-205D7743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9320" y="6381720"/>
            <a:ext cx="1036440" cy="4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3A7-77FA-4967-B885-62107E6AD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2636640"/>
            <a:ext cx="5400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花朵通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" y="595008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es-E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s-E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s-E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5060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4-12-05T00:57:39Z</dcterms:modified>
  <cp:revision>86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