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055B-774A-4CB3-A410-89B7574A0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36313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E9C2C-7821-41EB-8EDD-1B12AD134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3631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3631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18BFD-9D86-46F2-9DED-3D6DDC99A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3526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3526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36313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36313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36313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40A0-B621-41E5-BEFD-41472284A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352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2287440"/>
            <a:ext cx="7772400" cy="45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352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3631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BA046-FDCF-4B43-802A-09CA1A89D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3631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36313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36313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3631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3631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3526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3526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36313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36313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36313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F507-98E0-4E46-935C-5FFC348D2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352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B6B8B-E388-49BD-BAEA-7134069D6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E8BD-AED4-420D-85CD-DD96CC1FB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7440"/>
            <a:ext cx="7772400" cy="45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92C5-7810-4E2B-8471-234FA8A36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352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3631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F60A-25A3-45AF-8C5C-E2F45AF36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3631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4F5B-C12C-4705-83A3-0FC8E5AE9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36313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590A-DDE8-4F02-A884-E53A6548D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0" y="4149720"/>
            <a:ext cx="9543960" cy="2708280"/>
          </a:xfrm>
          <a:custGeom>
            <a:avLst/>
            <a:gdLst/>
            <a:ahLst/>
            <a:rect l="l" t="t" r="r" b="b"/>
            <a:pathLst>
              <a:path w="6012" h="1706">
                <a:moveTo>
                  <a:pt x="5760" y="0"/>
                </a:moveTo>
                <a:cubicBezTo>
                  <a:pt x="5736" y="43"/>
                  <a:pt x="6012" y="1484"/>
                  <a:pt x="4332" y="1484"/>
                </a:cubicBezTo>
                <a:lnTo>
                  <a:pt x="0" y="1493"/>
                </a:lnTo>
                <a:lnTo>
                  <a:pt x="1" y="1706"/>
                </a:lnTo>
                <a:lnTo>
                  <a:pt x="5760" y="1671"/>
                </a:lnTo>
              </a:path>
            </a:pathLst>
          </a:custGeom>
          <a:gradFill rotWithShape="0">
            <a:gsLst>
              <a:gs pos="0">
                <a:srgbClr val="3d81bf"/>
              </a:gs>
              <a:gs pos="100000">
                <a:srgbClr val="b4ce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" name="未知"/>
          <p:cNvSpPr/>
          <p:nvPr/>
        </p:nvSpPr>
        <p:spPr>
          <a:xfrm>
            <a:off x="0" y="5791320"/>
            <a:ext cx="9144000" cy="1093680"/>
          </a:xfrm>
          <a:custGeom>
            <a:avLst/>
            <a:gdLst/>
            <a:ahLst/>
            <a:rect l="l" t="t" r="r" b="b"/>
            <a:pathLst>
              <a:path w="5760" h="689">
                <a:moveTo>
                  <a:pt x="5754" y="0"/>
                </a:moveTo>
                <a:cubicBezTo>
                  <a:pt x="5730" y="0"/>
                  <a:pt x="5640" y="474"/>
                  <a:pt x="4722" y="486"/>
                </a:cubicBezTo>
                <a:lnTo>
                  <a:pt x="0" y="489"/>
                </a:lnTo>
                <a:lnTo>
                  <a:pt x="1" y="689"/>
                </a:lnTo>
                <a:lnTo>
                  <a:pt x="5760" y="657"/>
                </a:lnTo>
              </a:path>
            </a:pathLst>
          </a:custGeom>
          <a:gradFill rotWithShape="0">
            <a:gsLst>
              <a:gs pos="0">
                <a:srgbClr val="84b09a"/>
              </a:gs>
              <a:gs pos="100000">
                <a:srgbClr val="ebf1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584280"/>
            <a:ext cx="9144000" cy="1260360"/>
          </a:xfrm>
          <a:custGeom>
            <a:avLst/>
            <a:gdLst/>
            <a:ahLst/>
            <a:rect l="l" t="t" r="r" b="b"/>
            <a:pathLst>
              <a:path w="5760" h="794">
                <a:moveTo>
                  <a:pt x="0" y="96"/>
                </a:moveTo>
                <a:lnTo>
                  <a:pt x="0" y="776"/>
                </a:lnTo>
                <a:cubicBezTo>
                  <a:pt x="32" y="794"/>
                  <a:pt x="336" y="56"/>
                  <a:pt x="1600" y="88"/>
                </a:cubicBezTo>
                <a:lnTo>
                  <a:pt x="5760" y="88"/>
                </a:lnTo>
                <a:lnTo>
                  <a:pt x="5760" y="0"/>
                </a:lnTo>
                <a:lnTo>
                  <a:pt x="752" y="0"/>
                </a:lnTo>
              </a:path>
            </a:pathLst>
          </a:custGeom>
          <a:gradFill rotWithShape="0">
            <a:gsLst>
              <a:gs pos="0">
                <a:srgbClr val="c1d1d3"/>
              </a:gs>
              <a:gs pos="100000">
                <a:srgbClr val="f4f6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" name="未知"/>
          <p:cNvSpPr/>
          <p:nvPr/>
        </p:nvSpPr>
        <p:spPr>
          <a:xfrm>
            <a:off x="0" y="0"/>
            <a:ext cx="9144000" cy="1168560"/>
          </a:xfrm>
          <a:custGeom>
            <a:avLst/>
            <a:gdLst/>
            <a:ahLst/>
            <a:rect l="l" t="t" r="r" b="b"/>
            <a:pathLst>
              <a:path w="5760" h="680">
                <a:moveTo>
                  <a:pt x="0" y="0"/>
                </a:moveTo>
                <a:lnTo>
                  <a:pt x="0" y="680"/>
                </a:lnTo>
                <a:cubicBezTo>
                  <a:pt x="240" y="520"/>
                  <a:pt x="472" y="312"/>
                  <a:pt x="1456" y="344"/>
                </a:cubicBezTo>
                <a:lnTo>
                  <a:pt x="5760" y="342"/>
                </a:lnTo>
                <a:lnTo>
                  <a:pt x="576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3581280" y="6536880"/>
            <a:ext cx="22860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d81b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B5F9-1FB1-414A-AB4A-7EB258596DB4}" type="slidenum">
              <a:rPr b="0" lang="en-US" sz="1400" spc="-1" strike="noStrike">
                <a:solidFill>
                  <a:srgbClr val="3d81b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ad4c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81b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d4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81b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ad4c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81b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d81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81b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d81b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81b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d81b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81b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d81b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81b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1d1d3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81b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8ad4c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81b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3d81b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d81b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3d81bf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d81b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3d81b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d81b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3d81b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d81b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Verdana"/>
              </a:rPr>
              <a:t>韩国风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i="1" lang="zh-CN" sz="36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83" name="未知"/>
          <p:cNvSpPr/>
          <p:nvPr/>
        </p:nvSpPr>
        <p:spPr>
          <a:xfrm>
            <a:off x="3924360" y="5157720"/>
            <a:ext cx="1368360" cy="136836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3f61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84" name="未知"/>
          <p:cNvSpPr/>
          <p:nvPr/>
        </p:nvSpPr>
        <p:spPr>
          <a:xfrm>
            <a:off x="5292720" y="6093000"/>
            <a:ext cx="216000" cy="21564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3f615e"/>
              </a:gs>
              <a:gs pos="100000">
                <a:srgbClr val="8ad4c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5638680"/>
            <a:ext cx="13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720" y="6400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68add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6b098"/>
              </a:gs>
              <a:gs pos="100000">
                <a:srgbClr val="e1c7b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d4cd"/>
              </a:gs>
              <a:gs pos="100000">
                <a:srgbClr val="ace0d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81bf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81bf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219320" y="1219320"/>
            <a:ext cx="5786280" cy="5077800"/>
            <a:chOff x="1219320" y="1219320"/>
            <a:chExt cx="5786280" cy="5077800"/>
          </a:xfrm>
        </p:grpSpPr>
        <p:sp>
          <p:nvSpPr>
            <p:cNvPr id="218" name=""/>
            <p:cNvSpPr/>
            <p:nvPr/>
          </p:nvSpPr>
          <p:spPr>
            <a:xfrm>
              <a:off x="5133960" y="2079360"/>
              <a:ext cx="743040" cy="205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48400" y="3765240"/>
              <a:ext cx="1257120" cy="348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81840" y="5790960"/>
              <a:ext cx="1823760" cy="506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47920" y="4427280"/>
              <a:ext cx="1481040" cy="410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3770000">
              <a:off x="4678560" y="3653280"/>
              <a:ext cx="96012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0856000">
              <a:off x="2695320" y="3207960"/>
              <a:ext cx="1009800" cy="1728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3633840" y="1901520"/>
              <a:ext cx="1699200" cy="1836000"/>
              <a:chOff x="3633840" y="1901520"/>
              <a:chExt cx="1699200" cy="1836000"/>
            </a:xfrm>
          </p:grpSpPr>
          <p:sp>
            <p:nvSpPr>
              <p:cNvPr id="225" name=""/>
              <p:cNvSpPr/>
              <p:nvPr/>
            </p:nvSpPr>
            <p:spPr>
              <a:xfrm rot="18394200">
                <a:off x="4805640" y="2113560"/>
                <a:ext cx="59436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633840" y="2152800"/>
                <a:ext cx="1609560" cy="1584720"/>
                <a:chOff x="3633840" y="2152800"/>
                <a:chExt cx="1609560" cy="15847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3633840" y="2152800"/>
                  <a:ext cx="1609560" cy="158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4b09a"/>
                    </a:gs>
                    <a:gs pos="100000">
                      <a:srgbClr val="1f2a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28" name="未知"/>
                <p:cNvSpPr/>
                <p:nvPr/>
              </p:nvSpPr>
              <p:spPr>
                <a:xfrm>
                  <a:off x="3817800" y="2179080"/>
                  <a:ext cx="1241640" cy="597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4b09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>
                <a:off x="3720600" y="28425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5043600" y="1219320"/>
              <a:ext cx="891720" cy="861480"/>
              <a:chOff x="5043600" y="1219320"/>
              <a:chExt cx="891720" cy="86148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5043600" y="1219320"/>
                <a:ext cx="871560" cy="861480"/>
                <a:chOff x="5043600" y="1219320"/>
                <a:chExt cx="871560" cy="8614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5043600" y="1219320"/>
                  <a:ext cx="871560" cy="86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addc"/>
                    </a:gs>
                    <a:gs pos="100000">
                      <a:srgbClr val="2f4e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33" name="未知"/>
                <p:cNvSpPr/>
                <p:nvPr/>
              </p:nvSpPr>
              <p:spPr>
                <a:xfrm>
                  <a:off x="5142960" y="1233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8ad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5064120" y="1550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219320" y="2544480"/>
              <a:ext cx="1744560" cy="1790280"/>
              <a:chOff x="1219320" y="2544480"/>
              <a:chExt cx="1744560" cy="179028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219320" y="2544480"/>
                <a:ext cx="1744560" cy="1790280"/>
                <a:chOff x="1219320" y="2544480"/>
                <a:chExt cx="1744560" cy="17902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219320" y="2544480"/>
                  <a:ext cx="1744560" cy="179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b098"/>
                    </a:gs>
                    <a:gs pos="100000">
                      <a:srgbClr val="9a7f6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38" name="未知"/>
                <p:cNvSpPr/>
                <p:nvPr/>
              </p:nvSpPr>
              <p:spPr>
                <a:xfrm>
                  <a:off x="1418760" y="257400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6b09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1313640" y="33393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75200" y="3804840"/>
              <a:ext cx="2013120" cy="1989000"/>
              <a:chOff x="4975200" y="3804840"/>
              <a:chExt cx="2013120" cy="198900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4975200" y="3804840"/>
                <a:ext cx="2013120" cy="1989000"/>
                <a:chOff x="4975200" y="3804840"/>
                <a:chExt cx="2013120" cy="19890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4975200" y="380484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d4cd"/>
                    </a:gs>
                    <a:gs pos="100000">
                      <a:srgbClr val="4a73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43" name="未知"/>
                <p:cNvSpPr/>
                <p:nvPr/>
              </p:nvSpPr>
              <p:spPr>
                <a:xfrm>
                  <a:off x="5205240" y="383760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8ad4c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263560" y="46666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-12600" y="64771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未知"/>
          <p:cNvSpPr/>
          <p:nvPr/>
        </p:nvSpPr>
        <p:spPr>
          <a:xfrm>
            <a:off x="9907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68add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32767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20876400">
            <a:off x="317196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0356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4172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33880" y="380376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2116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20826600">
            <a:off x="1328760" y="43430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252440" y="3352680"/>
            <a:ext cx="1371240" cy="1441080"/>
            <a:chOff x="1252440" y="3352680"/>
            <a:chExt cx="1371240" cy="1441080"/>
          </a:xfrm>
        </p:grpSpPr>
        <p:sp>
          <p:nvSpPr>
            <p:cNvPr id="258" name=""/>
            <p:cNvSpPr/>
            <p:nvPr/>
          </p:nvSpPr>
          <p:spPr>
            <a:xfrm>
              <a:off x="125244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70440" y="336096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83400" y="337428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55040" y="341100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3288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21932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198108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0824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1904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7304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9256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8616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0820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17920" y="15271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624040" y="1533600"/>
            <a:ext cx="63360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60760" y="155268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7876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85800" y="1295280"/>
            <a:ext cx="7848360" cy="4404960"/>
            <a:chOff x="685800" y="1295280"/>
            <a:chExt cx="7848360" cy="4404960"/>
          </a:xfrm>
        </p:grpSpPr>
        <p:sp>
          <p:nvSpPr>
            <p:cNvPr id="278" name=""/>
            <p:cNvSpPr/>
            <p:nvPr/>
          </p:nvSpPr>
          <p:spPr>
            <a:xfrm>
              <a:off x="2683800" y="1994400"/>
              <a:ext cx="3781440" cy="3705840"/>
            </a:xfrm>
            <a:prstGeom prst="ellipse">
              <a:avLst/>
            </a:prstGeom>
            <a:gradFill rotWithShape="0">
              <a:gsLst>
                <a:gs pos="0">
                  <a:srgbClr val="8ad4cd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68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611160" y="2921040"/>
              <a:ext cx="1926360" cy="1995120"/>
              <a:chOff x="3611160" y="2921040"/>
              <a:chExt cx="1926360" cy="1995120"/>
            </a:xfrm>
          </p:grpSpPr>
          <p:sp>
            <p:nvSpPr>
              <p:cNvPr id="280" name=""/>
              <p:cNvSpPr/>
              <p:nvPr/>
            </p:nvSpPr>
            <p:spPr>
              <a:xfrm>
                <a:off x="3611160" y="2921040"/>
                <a:ext cx="1926360" cy="19951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3d81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3831120" y="2954160"/>
                <a:ext cx="1486080" cy="75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3913920" y="3704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4182120" y="1638360"/>
              <a:ext cx="641880" cy="615960"/>
              <a:chOff x="4182120" y="1638360"/>
              <a:chExt cx="641880" cy="61596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4182120" y="1638360"/>
                <a:ext cx="641880" cy="615960"/>
                <a:chOff x="4182120" y="1638360"/>
                <a:chExt cx="641880" cy="6159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4182120" y="1638360"/>
                  <a:ext cx="64188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b098"/>
                    </a:gs>
                    <a:gs pos="100000">
                      <a:srgbClr val="5a4a4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86" name="未知"/>
                <p:cNvSpPr/>
                <p:nvPr/>
              </p:nvSpPr>
              <p:spPr>
                <a:xfrm>
                  <a:off x="4255200" y="1648440"/>
                  <a:ext cx="49536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6b09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4323600" y="173304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557880" y="4710600"/>
              <a:ext cx="345240" cy="312480"/>
              <a:chOff x="3557880" y="4710600"/>
              <a:chExt cx="345240" cy="312480"/>
            </a:xfrm>
          </p:grpSpPr>
          <p:sp>
            <p:nvSpPr>
              <p:cNvPr id="289" name=""/>
              <p:cNvSpPr/>
              <p:nvPr/>
            </p:nvSpPr>
            <p:spPr>
              <a:xfrm rot="18226800">
                <a:off x="3584880" y="4869000"/>
                <a:ext cx="124200" cy="131760"/>
              </a:xfrm>
              <a:prstGeom prst="ellipse">
                <a:avLst/>
              </a:prstGeom>
              <a:gradFill rotWithShape="0">
                <a:gsLst>
                  <a:gs pos="0">
                    <a:srgbClr val="84b09a"/>
                  </a:gs>
                  <a:gs pos="100000">
                    <a:srgbClr val="5774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8226800">
                <a:off x="3751200" y="4732920"/>
                <a:ext cx="124560" cy="131760"/>
              </a:xfrm>
              <a:prstGeom prst="ellipse">
                <a:avLst/>
              </a:prstGeom>
              <a:gradFill rotWithShape="0">
                <a:gsLst>
                  <a:gs pos="0">
                    <a:srgbClr val="84b09a"/>
                  </a:gs>
                  <a:gs pos="100000">
                    <a:srgbClr val="5774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968920" y="4983120"/>
              <a:ext cx="641880" cy="641160"/>
              <a:chOff x="2968920" y="4983120"/>
              <a:chExt cx="641880" cy="64116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2968920" y="4983120"/>
                <a:ext cx="641880" cy="641160"/>
                <a:chOff x="2968920" y="4983120"/>
                <a:chExt cx="641880" cy="6411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2968920" y="4983120"/>
                  <a:ext cx="64188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4b09a"/>
                    </a:gs>
                    <a:gs pos="100000">
                      <a:srgbClr val="1f2a2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94" name="未知"/>
                <p:cNvSpPr/>
                <p:nvPr/>
              </p:nvSpPr>
              <p:spPr>
                <a:xfrm>
                  <a:off x="3042000" y="4993560"/>
                  <a:ext cx="49536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4b09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3105360" y="51030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6111360" y="2921040"/>
              <a:ext cx="639360" cy="648720"/>
              <a:chOff x="6111360" y="2921040"/>
              <a:chExt cx="639360" cy="64872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6111360" y="2921040"/>
                <a:ext cx="639360" cy="648720"/>
                <a:chOff x="6111360" y="2921040"/>
                <a:chExt cx="639360" cy="6487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111360" y="2921040"/>
                  <a:ext cx="639360" cy="64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d4cd"/>
                    </a:gs>
                    <a:gs pos="100000">
                      <a:srgbClr val="bae5e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99" name="未知"/>
                <p:cNvSpPr/>
                <p:nvPr/>
              </p:nvSpPr>
              <p:spPr>
                <a:xfrm>
                  <a:off x="6184440" y="2931480"/>
                  <a:ext cx="493200" cy="244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d4c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6236640" y="30099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5537520" y="4987800"/>
              <a:ext cx="612360" cy="582120"/>
              <a:chOff x="5537520" y="4987800"/>
              <a:chExt cx="612360" cy="58212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5537520" y="4987800"/>
                <a:ext cx="612360" cy="582120"/>
                <a:chOff x="5537520" y="4987800"/>
                <a:chExt cx="612360" cy="5821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537520" y="4987800"/>
                  <a:ext cx="612360" cy="58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1d1d3"/>
                    </a:gs>
                    <a:gs pos="100000">
                      <a:srgbClr val="575e5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304" name="未知"/>
                <p:cNvSpPr/>
                <p:nvPr/>
              </p:nvSpPr>
              <p:spPr>
                <a:xfrm>
                  <a:off x="5607360" y="4997160"/>
                  <a:ext cx="472320" cy="21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1d1d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5671440" y="5018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469600" y="2921040"/>
              <a:ext cx="641880" cy="641160"/>
              <a:chOff x="2469600" y="2921040"/>
              <a:chExt cx="641880" cy="64116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2469600" y="2921040"/>
                <a:ext cx="641880" cy="641160"/>
                <a:chOff x="2469600" y="2921040"/>
                <a:chExt cx="641880" cy="6411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2469600" y="2921040"/>
                  <a:ext cx="64188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addc"/>
                    </a:gs>
                    <a:gs pos="100000">
                      <a:srgbClr val="2f4e6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309" name="未知"/>
                <p:cNvSpPr/>
                <p:nvPr/>
              </p:nvSpPr>
              <p:spPr>
                <a:xfrm>
                  <a:off x="2542680" y="2931480"/>
                  <a:ext cx="49536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8ad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607840" y="29923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 rot="18226800">
              <a:off x="5464080" y="4835160"/>
              <a:ext cx="121680" cy="12924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808a8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8226800">
              <a:off x="5321160" y="4692600"/>
              <a:ext cx="121320" cy="12888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808a8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3159000" y="3322800"/>
              <a:ext cx="390600" cy="244080"/>
              <a:chOff x="3159000" y="3322800"/>
              <a:chExt cx="390600" cy="244080"/>
            </a:xfrm>
          </p:grpSpPr>
          <p:sp>
            <p:nvSpPr>
              <p:cNvPr id="314" name=""/>
              <p:cNvSpPr/>
              <p:nvPr/>
            </p:nvSpPr>
            <p:spPr>
              <a:xfrm rot="18226800">
                <a:off x="3185640" y="3345480"/>
                <a:ext cx="125280" cy="131400"/>
              </a:xfrm>
              <a:prstGeom prst="ellipse">
                <a:avLst/>
              </a:prstGeom>
              <a:gradFill rotWithShape="0">
                <a:gsLst>
                  <a:gs pos="0">
                    <a:srgbClr val="68addc"/>
                  </a:gs>
                  <a:gs pos="100000">
                    <a:srgbClr val="3b637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8226800">
                <a:off x="3397320" y="3412440"/>
                <a:ext cx="125280" cy="131400"/>
              </a:xfrm>
              <a:prstGeom prst="ellipse">
                <a:avLst/>
              </a:prstGeom>
              <a:gradFill rotWithShape="0">
                <a:gsLst>
                  <a:gs pos="0">
                    <a:srgbClr val="68addc"/>
                  </a:gs>
                  <a:gs pos="100000">
                    <a:srgbClr val="32536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443840" y="2367000"/>
              <a:ext cx="176040" cy="436320"/>
              <a:chOff x="4443840" y="2367000"/>
              <a:chExt cx="176040" cy="436320"/>
            </a:xfrm>
          </p:grpSpPr>
          <p:sp>
            <p:nvSpPr>
              <p:cNvPr id="317" name=""/>
              <p:cNvSpPr/>
              <p:nvPr/>
            </p:nvSpPr>
            <p:spPr>
              <a:xfrm rot="18226800">
                <a:off x="4470120" y="2389320"/>
                <a:ext cx="123480" cy="129240"/>
              </a:xfrm>
              <a:prstGeom prst="ellipse">
                <a:avLst/>
              </a:prstGeom>
              <a:gradFill rotWithShape="0">
                <a:gsLst>
                  <a:gs pos="0">
                    <a:srgbClr val="d6b098"/>
                  </a:gs>
                  <a:gs pos="100000">
                    <a:srgbClr val="604f44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226800">
                <a:off x="4470120" y="2651040"/>
                <a:ext cx="123480" cy="129240"/>
              </a:xfrm>
              <a:prstGeom prst="ellipse">
                <a:avLst/>
              </a:prstGeom>
              <a:gradFill rotWithShape="0">
                <a:gsLst>
                  <a:gs pos="0">
                    <a:srgbClr val="d6b098"/>
                  </a:gs>
                  <a:gs pos="100000">
                    <a:srgbClr val="67554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 rot="18226800">
              <a:off x="5838480" y="3365280"/>
              <a:ext cx="121680" cy="129240"/>
            </a:xfrm>
            <a:prstGeom prst="ellipse">
              <a:avLst/>
            </a:prstGeom>
            <a:gradFill rotWithShape="0">
              <a:gsLst>
                <a:gs pos="0">
                  <a:srgbClr val="a5ddd8"/>
                </a:gs>
                <a:gs pos="100000">
                  <a:srgbClr val="8ad4c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8226800">
              <a:off x="5606640" y="3480840"/>
              <a:ext cx="121680" cy="129240"/>
            </a:xfrm>
            <a:prstGeom prst="ellipse">
              <a:avLst/>
            </a:prstGeom>
            <a:gradFill rotWithShape="0">
              <a:gsLst>
                <a:gs pos="0">
                  <a:srgbClr val="a5ddd8"/>
                </a:gs>
                <a:gs pos="100000">
                  <a:srgbClr val="8ad4c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5800" y="306360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11160" y="12952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50720" y="307692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42200" y="52012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79760" y="52012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143000" y="1679400"/>
            <a:ext cx="2170080" cy="4035600"/>
            <a:chOff x="1143000" y="1679400"/>
            <a:chExt cx="2170080" cy="4035600"/>
          </a:xfrm>
        </p:grpSpPr>
        <p:sp>
          <p:nvSpPr>
            <p:cNvPr id="329" name=""/>
            <p:cNvSpPr/>
            <p:nvPr/>
          </p:nvSpPr>
          <p:spPr>
            <a:xfrm>
              <a:off x="114300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76480" y="1995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9376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9376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4948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93760" y="48686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1887480" y="1679400"/>
              <a:ext cx="642960" cy="642960"/>
              <a:chOff x="1887480" y="1679400"/>
              <a:chExt cx="642960" cy="642960"/>
            </a:xfrm>
          </p:grpSpPr>
          <p:sp>
            <p:nvSpPr>
              <p:cNvPr id="336" name=""/>
              <p:cNvSpPr/>
              <p:nvPr/>
            </p:nvSpPr>
            <p:spPr>
              <a:xfrm>
                <a:off x="1887480" y="1679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893960" y="1684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01880" y="1688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908360" y="1693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42200" y="1709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202752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1932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505320" y="1679400"/>
            <a:ext cx="2166840" cy="4035600"/>
            <a:chOff x="3505320" y="1679400"/>
            <a:chExt cx="2166840" cy="4035600"/>
          </a:xfrm>
        </p:grpSpPr>
        <p:sp>
          <p:nvSpPr>
            <p:cNvPr id="344" name=""/>
            <p:cNvSpPr/>
            <p:nvPr/>
          </p:nvSpPr>
          <p:spPr>
            <a:xfrm>
              <a:off x="350532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38800" y="1995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5608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5608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49800" y="1679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56280" y="16840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264200" y="168732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70320" y="169380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05600" y="170964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8984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8164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0856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52840" y="48686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61160" y="1679400"/>
            <a:ext cx="2170080" cy="4035600"/>
            <a:chOff x="5861160" y="1679400"/>
            <a:chExt cx="2170080" cy="4035600"/>
          </a:xfrm>
        </p:grpSpPr>
        <p:sp>
          <p:nvSpPr>
            <p:cNvPr id="358" name=""/>
            <p:cNvSpPr/>
            <p:nvPr/>
          </p:nvSpPr>
          <p:spPr>
            <a:xfrm>
              <a:off x="586764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00760" y="1995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1840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1840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612120" y="1679400"/>
              <a:ext cx="642960" cy="642960"/>
              <a:chOff x="6612120" y="1679400"/>
              <a:chExt cx="642960" cy="642960"/>
            </a:xfrm>
          </p:grpSpPr>
          <p:sp>
            <p:nvSpPr>
              <p:cNvPr id="363" name=""/>
              <p:cNvSpPr/>
              <p:nvPr/>
            </p:nvSpPr>
            <p:spPr>
              <a:xfrm>
                <a:off x="6612120" y="1679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18600" y="1684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26520" y="1688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633000" y="1693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666840" y="1709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675216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4360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6116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05440" y="48686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Progress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295280" y="1905120"/>
            <a:ext cx="6858000" cy="3428640"/>
            <a:chOff x="1295280" y="1905120"/>
            <a:chExt cx="6858000" cy="3428640"/>
          </a:xfrm>
        </p:grpSpPr>
        <p:sp>
          <p:nvSpPr>
            <p:cNvPr id="375" name=""/>
            <p:cNvSpPr/>
            <p:nvPr/>
          </p:nvSpPr>
          <p:spPr>
            <a:xfrm>
              <a:off x="5590080" y="26744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d6b098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42680" y="26744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84b09a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95280" y="26744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68addc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03000" y="19051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68addc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11520" y="19051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84b09a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28680" y="19051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d6b098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未知"/>
          <p:cNvSpPr/>
          <p:nvPr/>
        </p:nvSpPr>
        <p:spPr>
          <a:xfrm>
            <a:off x="5073480" y="9907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93d7d0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424320" y="24242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d6b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22860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25146"/>
              </a:gs>
              <a:gs pos="50000">
                <a:srgbClr val="d6b098"/>
              </a:gs>
              <a:gs pos="100000">
                <a:srgbClr val="6251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333400" y="23623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742560" y="23526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934240" y="19224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ad4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49880" y="17794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f615e"/>
              </a:gs>
              <a:gs pos="50000">
                <a:srgbClr val="8ad4cd"/>
              </a:gs>
              <a:gs pos="100000">
                <a:srgbClr val="3f61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7835040" y="18511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6253200" y="18511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92" name="未知"/>
          <p:cNvSpPr/>
          <p:nvPr/>
        </p:nvSpPr>
        <p:spPr>
          <a:xfrm>
            <a:off x="2492280" y="14922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84b09a"/>
              </a:gs>
              <a:gs pos="100000">
                <a:srgbClr val="b7d0c4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913200" y="22575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427800" y="17622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914400" y="2685960"/>
            <a:ext cx="2295360" cy="3324240"/>
            <a:chOff x="914400" y="2685960"/>
            <a:chExt cx="2295360" cy="3324240"/>
          </a:xfrm>
        </p:grpSpPr>
        <p:sp>
          <p:nvSpPr>
            <p:cNvPr id="396" name=""/>
            <p:cNvSpPr/>
            <p:nvPr/>
          </p:nvSpPr>
          <p:spPr>
            <a:xfrm>
              <a:off x="914400" y="285408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4b0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30400" y="27115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443b"/>
                </a:gs>
                <a:gs pos="50000">
                  <a:srgbClr val="84b09a"/>
                </a:gs>
                <a:gs pos="100000">
                  <a:srgbClr val="3344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813760" y="27828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231200" y="278280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98600" y="26859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90720" y="31147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3505320" y="26575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19920" y="21240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-12600" y="64771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533520" y="1905120"/>
          <a:ext cx="7924680" cy="3429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6b09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8ad4c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84b09a"/>
                        </a:gs>
                      </a:gsLst>
                      <a:lin ang="5400000"/>
                    </a:gra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b86c7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b86c7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b86c7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b86c7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209680" y="3389400"/>
            <a:ext cx="5167440" cy="1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c1d1d3"/>
                </a:solidFill>
                <a:latin typeface="Verdana"/>
              </a:rPr>
              <a:t>www.themegallery.com </a:t>
            </a:r>
            <a:endParaRPr b="1" lang="en-US" sz="4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512720" y="2708280"/>
            <a:ext cx="6336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8addc"/>
                    </a:gs>
                    <a:gs pos="100000">
                      <a:srgbClr val="8ad4cd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8addc"/>
                  </a:gs>
                  <a:gs pos="100000">
                    <a:srgbClr val="8ad4cd"/>
                  </a:gs>
                </a:gsLst>
                <a:lin ang="108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744920" y="60958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8ad4cd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438280" y="1981080"/>
            <a:ext cx="4495680" cy="701640"/>
            <a:chOff x="2438280" y="1981080"/>
            <a:chExt cx="4495680" cy="701640"/>
          </a:xfrm>
        </p:grpSpPr>
        <p:sp>
          <p:nvSpPr>
            <p:cNvPr id="90" name="未知"/>
            <p:cNvSpPr/>
            <p:nvPr/>
          </p:nvSpPr>
          <p:spPr>
            <a:xfrm>
              <a:off x="2438280" y="1981080"/>
              <a:ext cx="449568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af5"/>
                </a:gs>
                <a:gs pos="100000">
                  <a:srgbClr val="68add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45240" y="2114280"/>
              <a:ext cx="2837160" cy="520560"/>
            </a:xfrm>
            <a:prstGeom prst="rect">
              <a:avLst/>
            </a:prstGeom>
            <a:gradFill rotWithShape="0">
              <a:gsLst>
                <a:gs pos="0">
                  <a:srgbClr val="d9eaf5"/>
                </a:gs>
                <a:gs pos="100000">
                  <a:srgbClr val="68add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438280" y="2819520"/>
            <a:ext cx="4495680" cy="701640"/>
            <a:chOff x="2438280" y="2819520"/>
            <a:chExt cx="4495680" cy="701640"/>
          </a:xfrm>
        </p:grpSpPr>
        <p:sp>
          <p:nvSpPr>
            <p:cNvPr id="93" name="未知"/>
            <p:cNvSpPr/>
            <p:nvPr/>
          </p:nvSpPr>
          <p:spPr>
            <a:xfrm>
              <a:off x="2438280" y="2819520"/>
              <a:ext cx="449568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e1f3f1"/>
                </a:gs>
                <a:gs pos="100000">
                  <a:srgbClr val="8ad4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5240" y="2952720"/>
              <a:ext cx="2837160" cy="520560"/>
            </a:xfrm>
            <a:prstGeom prst="rect">
              <a:avLst/>
            </a:prstGeom>
            <a:gradFill rotWithShape="0">
              <a:gsLst>
                <a:gs pos="0">
                  <a:srgbClr val="e1f3f1"/>
                </a:gs>
                <a:gs pos="100000">
                  <a:srgbClr val="8ad4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438280" y="3657600"/>
            <a:ext cx="4495680" cy="701640"/>
            <a:chOff x="2438280" y="3657600"/>
            <a:chExt cx="4495680" cy="701640"/>
          </a:xfrm>
        </p:grpSpPr>
        <p:sp>
          <p:nvSpPr>
            <p:cNvPr id="96" name="未知"/>
            <p:cNvSpPr/>
            <p:nvPr/>
          </p:nvSpPr>
          <p:spPr>
            <a:xfrm>
              <a:off x="2438280" y="3657600"/>
              <a:ext cx="449568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af5"/>
                </a:gs>
                <a:gs pos="100000">
                  <a:srgbClr val="68add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5240" y="3790800"/>
              <a:ext cx="2837160" cy="520560"/>
            </a:xfrm>
            <a:prstGeom prst="rect">
              <a:avLst/>
            </a:prstGeom>
            <a:gradFill rotWithShape="0">
              <a:gsLst>
                <a:gs pos="0">
                  <a:srgbClr val="d9eaf5"/>
                </a:gs>
                <a:gs pos="100000">
                  <a:srgbClr val="68add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438280" y="4572000"/>
            <a:ext cx="4495680" cy="701640"/>
            <a:chOff x="2438280" y="4572000"/>
            <a:chExt cx="4495680" cy="701640"/>
          </a:xfrm>
        </p:grpSpPr>
        <p:sp>
          <p:nvSpPr>
            <p:cNvPr id="99" name="未知"/>
            <p:cNvSpPr/>
            <p:nvPr/>
          </p:nvSpPr>
          <p:spPr>
            <a:xfrm>
              <a:off x="2438280" y="4572000"/>
              <a:ext cx="449568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e1f3f1"/>
                </a:gs>
                <a:gs pos="100000">
                  <a:srgbClr val="8ad4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5240" y="4705200"/>
              <a:ext cx="2837160" cy="520560"/>
            </a:xfrm>
            <a:prstGeom prst="rect">
              <a:avLst/>
            </a:prstGeom>
            <a:gradFill rotWithShape="0">
              <a:gsLst>
                <a:gs pos="0">
                  <a:srgbClr val="e1f3f1"/>
                </a:gs>
                <a:gs pos="100000">
                  <a:srgbClr val="8ad4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8840" y="1392120"/>
            <a:ext cx="7824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d4c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81bf"/>
                </a:solidFill>
                <a:latin typeface="Arial"/>
              </a:rPr>
              <a:t>How do I incorporate my logo to a slide that will apply to all the other slides? 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ad4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68addc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point to [Master], and then click </a:t>
            </a:r>
            <a:r>
              <a:rPr b="0" lang="en-US" sz="2000" spc="-1" strike="noStrike">
                <a:solidFill>
                  <a:srgbClr val="68addc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68addc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未知"/>
          <p:cNvSpPr/>
          <p:nvPr/>
        </p:nvSpPr>
        <p:spPr>
          <a:xfrm>
            <a:off x="2666880" y="1523880"/>
            <a:ext cx="4114800" cy="1067040"/>
          </a:xfrm>
          <a:custGeom>
            <a:avLst/>
            <a:gdLst/>
            <a:ahLst/>
            <a:rect l="l" t="t" r="r" b="b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b4d6ed"/>
              </a:gs>
              <a:gs pos="100000">
                <a:srgbClr val="68ad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0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4ccbc"/>
              </a:gs>
              <a:gs pos="100000">
                <a:srgbClr val="d6b09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1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8f0ee"/>
              </a:gs>
              <a:gs pos="100000">
                <a:srgbClr val="8ad4c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19051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340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未知"/>
          <p:cNvSpPr/>
          <p:nvPr/>
        </p:nvSpPr>
        <p:spPr>
          <a:xfrm>
            <a:off x="6227640" y="203508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d6b098"/>
              </a:gs>
              <a:gs pos="100000">
                <a:srgbClr val="816a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3492360" y="196200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a8c7b7"/>
              </a:gs>
              <a:gs pos="100000">
                <a:srgbClr val="84b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8" name="未知"/>
          <p:cNvSpPr/>
          <p:nvPr/>
        </p:nvSpPr>
        <p:spPr>
          <a:xfrm>
            <a:off x="755640" y="196200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3f61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2754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d4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2754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8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47800" y="4724280"/>
            <a:ext cx="2057400" cy="5749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4724280"/>
            <a:ext cx="2057400" cy="5749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34200" y="4724280"/>
            <a:ext cx="2057400" cy="5749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78460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278460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278460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30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1d1d3"/>
                </a:gs>
                <a:gs pos="100000">
                  <a:srgbClr val="ebf0f0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ad4cd"/>
                </a:gs>
                <a:gs pos="100000">
                  <a:srgbClr val="2f48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68addc"/>
                </a:gs>
                <a:gs pos="100000">
                  <a:srgbClr val="2036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6b098"/>
                </a:gs>
                <a:gs pos="100000">
                  <a:srgbClr val="4c3e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444a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84b09a"/>
                </a:gs>
                <a:gs pos="100000">
                  <a:srgbClr val="2d3c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d81bf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3d81b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cxnSp>
          <p:nvCxnSpPr>
            <p:cNvPr id="143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3d81bf"/>
              </a:solidFill>
              <a:miter/>
            </a:ln>
          </p:spPr>
        </p:cxnSp>
        <p:sp>
          <p:nvSpPr>
            <p:cNvPr id="144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d81b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12600" y="64771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49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5146"/>
                </a:gs>
                <a:gs pos="50000">
                  <a:srgbClr val="84b09a"/>
                </a:gs>
                <a:gs pos="100000">
                  <a:srgbClr val="3c5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5146"/>
                </a:gs>
                <a:gs pos="50000">
                  <a:srgbClr val="84b09a"/>
                </a:gs>
                <a:gs pos="100000">
                  <a:srgbClr val="3c5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5146"/>
                </a:gs>
                <a:gs pos="50000">
                  <a:srgbClr val="84b09a"/>
                </a:gs>
                <a:gs pos="100000">
                  <a:srgbClr val="3c5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6061">
                    <a:alpha val="12156"/>
                  </a:srgbClr>
                </a:gs>
                <a:gs pos="100000">
                  <a:srgbClr val="c1d1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1d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1d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1d1d3"/>
                </a:gs>
                <a:gs pos="100000">
                  <a:srgbClr val="586061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f4f65"/>
                </a:gs>
                <a:gs pos="50000">
                  <a:srgbClr val="68addc"/>
                </a:gs>
                <a:gs pos="100000">
                  <a:srgbClr val="2f4f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1d1d3"/>
                </a:gs>
                <a:gs pos="100000">
                  <a:srgbClr val="d6e0e2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f615e"/>
                </a:gs>
                <a:gs pos="50000">
                  <a:srgbClr val="8ad4cd"/>
                </a:gs>
                <a:gs pos="100000">
                  <a:srgbClr val="3f61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e0e2">
                    <a:alpha val="12156"/>
                  </a:srgbClr>
                </a:gs>
                <a:gs pos="100000">
                  <a:srgbClr val="c1d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2096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8ad4c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56160" y="28195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1" name="未知"/>
          <p:cNvSpPr/>
          <p:nvPr/>
        </p:nvSpPr>
        <p:spPr>
          <a:xfrm>
            <a:off x="2666880" y="1295280"/>
            <a:ext cx="4114800" cy="838440"/>
          </a:xfrm>
          <a:custGeom>
            <a:avLst/>
            <a:gdLst/>
            <a:ahLst/>
            <a:rect l="l" t="t" r="r" b="b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b4d6ed"/>
              </a:gs>
              <a:gs pos="100000">
                <a:srgbClr val="68ad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152388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3" name="未知"/>
          <p:cNvSpPr/>
          <p:nvPr/>
        </p:nvSpPr>
        <p:spPr>
          <a:xfrm>
            <a:off x="6316560" y="388296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d6b098"/>
              </a:gs>
              <a:gs pos="100000">
                <a:srgbClr val="816a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4" name="未知"/>
          <p:cNvSpPr/>
          <p:nvPr/>
        </p:nvSpPr>
        <p:spPr>
          <a:xfrm>
            <a:off x="3581280" y="380988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a8c7b7"/>
              </a:gs>
              <a:gs pos="100000">
                <a:srgbClr val="84b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5" name="未知"/>
          <p:cNvSpPr/>
          <p:nvPr/>
        </p:nvSpPr>
        <p:spPr>
          <a:xfrm>
            <a:off x="844560" y="380988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3f61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51040" y="463248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4240" y="463248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13400" y="463248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3d81b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3d81b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3d81b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3d81b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195" name="未知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25146"/>
                </a:gs>
                <a:gs pos="50000">
                  <a:srgbClr val="d6b098"/>
                </a:gs>
                <a:gs pos="100000">
                  <a:srgbClr val="6251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6b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f615e"/>
                </a:gs>
                <a:gs pos="50000">
                  <a:srgbClr val="8ad4cd"/>
                </a:gs>
                <a:gs pos="100000">
                  <a:srgbClr val="3f61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8ad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c5146"/>
                </a:gs>
                <a:gs pos="50000">
                  <a:srgbClr val="84b09a"/>
                </a:gs>
                <a:gs pos="100000">
                  <a:srgbClr val="3c51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86061"/>
                </a:gs>
                <a:gs pos="50000">
                  <a:srgbClr val="c1d1d3"/>
                </a:gs>
                <a:gs pos="100000">
                  <a:srgbClr val="586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c1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9a7f6d"/>
                </a:gs>
                <a:gs pos="50000">
                  <a:srgbClr val="d6b098"/>
                </a:gs>
                <a:gs pos="100000">
                  <a:srgbClr val="9a7f6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639994"/>
                </a:gs>
                <a:gs pos="50000">
                  <a:srgbClr val="8ad4cd"/>
                </a:gs>
                <a:gs pos="100000">
                  <a:srgbClr val="63999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4b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5f7f6f"/>
                </a:gs>
                <a:gs pos="50000">
                  <a:srgbClr val="84b09a"/>
                </a:gs>
                <a:gs pos="100000">
                  <a:srgbClr val="5f7f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8b9798"/>
                </a:gs>
                <a:gs pos="50000">
                  <a:srgbClr val="c1d1d3"/>
                </a:gs>
                <a:gs pos="100000">
                  <a:srgbClr val="8b979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2:38:28Z</dcterms:created>
  <dc:creator/>
  <dc:description/>
  <dc:language>en-US</dc:language>
  <cp:lastModifiedBy>Sung Ha, Park</cp:lastModifiedBy>
  <dcterms:modified xsi:type="dcterms:W3CDTF">2014-12-04T15:26:53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