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92C-5C97-41C0-9FD8-F5CA637C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668-0D5A-40B6-9102-F965C8E9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9C7-A7EF-41D6-9183-AC2EC7A8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C28-1949-40E1-B437-7D7F8C47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D5D-2E8C-4971-BF7C-04A0145A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663-BDBA-4809-918C-B7E488DC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3D1-4F51-4DF1-BFDD-3DE3840A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57C-D80F-4024-A08B-3A19EA86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BDE-D0B5-408E-BA00-B4B8969F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81A-3D9F-40DE-BD06-1ADBB45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766-62B6-4968-B2E8-9DEDF4A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A96-408C-40F7-954E-1EE5AE7D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A63B-4DFC-4688-A506-FF2E72AF89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602-BDC9-4CAA-A7E2-32B9EEAB6B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53160" y="64101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46"/>
          <p:cNvSpPr/>
          <p:nvPr/>
        </p:nvSpPr>
        <p:spPr>
          <a:xfrm>
            <a:off x="682560" y="411480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6"/>
          <p:cNvSpPr/>
          <p:nvPr/>
        </p:nvSpPr>
        <p:spPr>
          <a:xfrm>
            <a:off x="13604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6"/>
          <p:cNvSpPr/>
          <p:nvPr/>
        </p:nvSpPr>
        <p:spPr>
          <a:xfrm>
            <a:off x="4788000" y="133992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6"/>
          <p:cNvSpPr/>
          <p:nvPr/>
        </p:nvSpPr>
        <p:spPr>
          <a:xfrm>
            <a:off x="4067280" y="4292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86320" y="6486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06:13Z</dcterms:created>
  <dc:creator/>
  <dc:description/>
  <dc:language>en-US</dc:language>
  <cp:lastModifiedBy>微软中国</cp:lastModifiedBy>
  <cp:lastPrinted>1899-12-30T00:00:00Z</cp:lastPrinted>
  <dcterms:modified xsi:type="dcterms:W3CDTF">2014-05-18T06:49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