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EE27-9E4B-4D97-8939-36B531695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286C-DC83-4133-93A9-0BB90871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05C6-7467-4641-9826-7686342CB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940F-56DD-4DBE-B5CD-3D1B29356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630A0-98A6-46AF-8283-AD9F1A23C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FFD81-926A-41B9-BC34-FD6D7DD32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7D5F8-EF79-45AA-9899-4485917B3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52A2F-7D74-4F03-92DE-72B2BC211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58DB4-C215-419A-8D4A-CB3EF14A8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69227-96E2-4731-9E69-384012715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1AB32-9C36-45E0-86EA-38C667E4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F239-0D51-4AF0-AA27-0E25E0F7D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3D609-F1C3-4559-AFFA-36390F73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E2E33-D03E-4B29-85D3-37F0D7CE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17091-B80B-4999-A58E-47C4D3947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CB577-F679-4AE7-BEE7-5FFCDCFB0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69DE8-A41D-443B-98B5-8039E2DFD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49CF-1DEA-4E71-88DB-E69EC2E08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1377-517C-4D4F-9F6E-2DFA45784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3E43-C399-4AF7-BECB-C285C491E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2AC7-FDE3-492A-924F-7473830F2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282E-53C0-4184-AA55-CB800C78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12A8-0B94-46B4-9C46-F56EF331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890B-AD52-43A1-972C-6882D9E3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F802B-0905-4837-BEBA-16D211604C5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F9DC5-B2C1-4ED7-AD70-5F2681E9C9A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517080" y="6597720"/>
            <a:ext cx="138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69440" y="6526080"/>
            <a:ext cx="138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69440" y="6597720"/>
            <a:ext cx="138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614960" y="1989000"/>
            <a:ext cx="570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之家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cccc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cccc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cccc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6T07:27:50Z</dcterms:created>
  <dc:creator>微软用户</dc:creator>
  <dc:description/>
  <dc:language>en-US</dc:language>
  <cp:lastModifiedBy>User</cp:lastModifiedBy>
  <cp:lastPrinted>1899-12-30T00:00:00Z</cp:lastPrinted>
  <dcterms:modified xsi:type="dcterms:W3CDTF">2014-05-24T09:18:29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