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A96-DA65-4EED-8FB3-C515AB8C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35A-16AD-432D-9B10-932F7219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5E3-9BC0-4631-AD11-C7840FDD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3F6-CADB-4EA3-8FED-F5731ABB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395-6F3F-4F91-8528-AE62102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FE5-D5C1-4B20-83B3-D1EBC0D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4F7-2438-4745-AD73-D7288D1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938-A2AA-4E2D-BB8D-C9C9F5F0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273-D746-4567-B9C6-218222B2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9EA-9F45-4DC4-8660-8EE5F6D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C73-FDBD-4A0D-ABD7-536D6EE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59A-9C72-4AD5-AB64-5CA52FF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4E69-5A3A-41F5-ABBB-4DF9EF7E5F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2E7-FA91-4CE5-A7C5-ACAF77A46A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934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36880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57:47Z</dcterms:created>
  <dc:creator>Administrator</dc:creator>
  <dc:description/>
  <dc:language>en-US</dc:language>
  <cp:lastModifiedBy>微软用户</cp:lastModifiedBy>
  <cp:lastPrinted>1899-12-30T00:00:00Z</cp:lastPrinted>
  <dcterms:modified xsi:type="dcterms:W3CDTF">2014-05-25T05:53:40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