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CAEB2-195A-4F4E-8896-ED24E6FEA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5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000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57516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4F7F6-B0D9-48D4-8329-281912516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5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000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000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57516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57516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BD0F8-7308-4D49-8DD5-7D8B028F0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5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000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000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000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57516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57516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57516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7A751-E50B-4662-A0E5-5F47E920B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8D7A2-1BF7-4F8E-8B9B-7E845299F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5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00008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94C9F-DD45-4B35-AE35-9FFDB5BCE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5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00008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3D0C1-A69B-4718-9F18-EBCE0EFA5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5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00008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00008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852B5-63E8-41A0-BE0C-ECEB6ABCC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5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25B6E-D87C-4141-8EEC-5BEDB38E1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13840"/>
            <a:ext cx="8229600" cy="270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580FF-09EC-48BE-BC59-46CB8A4F0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5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000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00008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57516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13D64-F833-4F6B-B39F-C94BF0A4A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5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00008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AB292-9AA2-45F3-87DA-3482C360D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5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00008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000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57516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71708-CD38-4652-8E0A-CEA14C35E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5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000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000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57516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FCD6C-EC40-4FB9-B2F0-DC8DE0E12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5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000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57516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253B4-AACA-4D52-9EAC-D57660F83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5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000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000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57516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57516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367BA-A220-432F-AFF3-396F72A4B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5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000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000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000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57516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57516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57516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70499-9D2D-44CC-8D66-DC03BEA8E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5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00008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5785D-E50F-4929-BDA0-337476B2B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5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00008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00008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E3DB1-F26C-4F8A-81E8-25D4C2300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5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8001A-57A4-427C-9478-A80E1D9A2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13840"/>
            <a:ext cx="8229600" cy="270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3193A-7819-402D-AA93-423D7336D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5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000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00008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57516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A67B3-E415-47C4-9749-382704C8C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5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00008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000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57516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B5AB3-B315-48A8-8612-1159042C9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5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000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000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57516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D4730-4F3E-4B9F-9608-A34C83600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5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00008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华文细黑"/>
                <a:ea typeface="华文细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华文细黑"/>
                <a:ea typeface="华文细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华文细黑"/>
                <a:ea typeface="华文细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178EA-6F51-4B7E-9963-A9CAD7A71A30}" type="slidenum">
              <a:rPr b="0" lang="zh-CN" sz="1200" spc="-1" strike="noStrike">
                <a:solidFill>
                  <a:srgbClr val="898989"/>
                </a:solidFill>
                <a:latin typeface="华文细黑"/>
                <a:ea typeface="华文细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7"/>
          <p:cNvSpPr/>
          <p:nvPr/>
        </p:nvSpPr>
        <p:spPr>
          <a:xfrm>
            <a:off x="7286760" y="343080"/>
            <a:ext cx="1388880" cy="3492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Arial"/>
                <a:ea typeface="华文细黑"/>
              </a:rPr>
              <a:t>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5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00008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华文细黑"/>
                <a:ea typeface="华文细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华文细黑"/>
                <a:ea typeface="华文细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华文细黑"/>
                <a:ea typeface="华文细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FCE65-DFE1-43F1-9821-5BBC6593C550}" type="slidenum">
              <a:rPr b="0" lang="zh-CN" sz="1200" spc="-1" strike="noStrike">
                <a:solidFill>
                  <a:srgbClr val="898989"/>
                </a:solidFill>
                <a:latin typeface="华文细黑"/>
                <a:ea typeface="华文细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4360" y="1341360"/>
            <a:ext cx="7772400" cy="96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红酒介绍演示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PPT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模板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682560" y="2423880"/>
            <a:ext cx="6400800" cy="64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7" name=""/>
          <p:cNvSpPr/>
          <p:nvPr/>
        </p:nvSpPr>
        <p:spPr>
          <a:xfrm>
            <a:off x="6864480" y="623736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5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00008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华文细黑"/>
              </a:rPr>
              <a:t>配色方案修改：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配色方案在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格式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幻灯片设计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配色方案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编辑配色方案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下调整。</a:t>
            </a: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华文细黑"/>
              </a:rPr>
              <a:t>LOGO</a:t>
            </a:r>
            <a:r>
              <a:rPr b="1" lang="zh-CN" sz="2000" spc="-1" strike="noStrike">
                <a:solidFill>
                  <a:srgbClr val="000000"/>
                </a:solidFill>
                <a:latin typeface="华文细黑"/>
              </a:rPr>
              <a:t>的添加：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Logo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添加修改在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视图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母版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幻灯片母版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下调整。直接选择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logo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图片删除或修改。</a:t>
            </a: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华文细黑"/>
              </a:rPr>
              <a:t>字体格式的设置：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括标题和文本格式的设置在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视图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母版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幻灯片母版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下调整。</a:t>
            </a: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华文细黑"/>
              </a:rPr>
              <a:t>默认设置：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首页主标题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36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号（中文黑体英文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Arial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）加粗；副标题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16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号（中文黑体英文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Arial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）加粗</a:t>
            </a: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内页标题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24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号（中文黑体英文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Arial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）加粗；内页内容文字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20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号（华文细黑）</a:t>
            </a: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感谢您的关注！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9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929880" y="6093000"/>
            <a:ext cx="56332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e2d700"/>
                </a:solidFill>
                <a:uFillTx/>
                <a:latin typeface="华文新魏"/>
                <a:ea typeface="华文新魏"/>
                <a:hlinkClick r:id="rId1"/>
              </a:rPr>
              <a:t>PPT之家</a:t>
            </a:r>
            <a:r>
              <a:rPr b="1" lang="zh-CN" sz="1800" spc="-1" strike="noStrike">
                <a:solidFill>
                  <a:srgbClr val="ffffff"/>
                </a:solidFill>
                <a:latin typeface="华文新魏"/>
                <a:ea typeface="华文新魏"/>
              </a:rPr>
              <a:t>整理发布，更多免费</a:t>
            </a:r>
            <a:r>
              <a:rPr b="1" lang="zh-CN" sz="1800" spc="-1" strike="noStrike">
                <a:solidFill>
                  <a:srgbClr val="ffffff"/>
                </a:solidFill>
                <a:latin typeface="华文新魏"/>
                <a:ea typeface="华文新魏"/>
              </a:rPr>
              <a:t>PPT</a:t>
            </a:r>
            <a:r>
              <a:rPr b="1" lang="zh-CN" sz="1800" spc="-1" strike="noStrike">
                <a:solidFill>
                  <a:srgbClr val="ffffff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800" spc="-1" strike="noStrike">
                <a:solidFill>
                  <a:srgbClr val="ffffff"/>
                </a:solidFill>
                <a:latin typeface="华文新魏"/>
                <a:ea typeface="华文新魏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94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5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e2d700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e2d700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e2d700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02T14:50:04Z</dcterms:created>
  <dc:creator/>
  <dc:description/>
  <dc:language>en-US</dc:language>
  <cp:lastModifiedBy>dell</cp:lastModifiedBy>
  <dcterms:modified xsi:type="dcterms:W3CDTF">2014-12-04T15:23:22Z</dcterms:modified>
  <cp:revision>3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