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C4B0-D3F5-41A1-8705-9B47A5639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3231-CCF5-4A2B-9FB3-5D51DF607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DFED-43A9-4ABA-97D7-E8BF9927B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F88B-873F-4BF6-B664-F989DD551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188640"/>
            <a:ext cx="5832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D196-12E9-49EC-A4A1-555E1B38D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174C-F1CC-4850-84B2-E1F8A70BC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9D56-6F37-436A-8FDB-FA2964737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DAF0-A5FD-4AAB-B303-A2A682200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000" y="188640"/>
            <a:ext cx="5832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42AB-9BB9-4A74-8657-C5FEC1085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E40E-5084-484F-B621-4F32C16A4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444D-F3BA-4C9B-B69A-634BD07FC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1509-C3BB-4EF5-B007-76D0E6C06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45002" r="0" b="0"/>
          <a:stretch/>
        </p:blipFill>
        <p:spPr>
          <a:xfrm>
            <a:off x="0" y="752400"/>
            <a:ext cx="9144000" cy="3318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5201" t="33837" r="19754" b="2941"/>
          <a:stretch/>
        </p:blipFill>
        <p:spPr>
          <a:xfrm>
            <a:off x="5875200" y="127080"/>
            <a:ext cx="3268800" cy="749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27"/>
          <p:cNvSpPr/>
          <p:nvPr/>
        </p:nvSpPr>
        <p:spPr>
          <a:xfrm>
            <a:off x="468360" y="101520"/>
            <a:ext cx="5832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rcRect l="0" t="71430" r="0" b="0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rcRect l="0" t="0" r="0" b="9718"/>
          <a:stretch/>
        </p:blipFill>
        <p:spPr>
          <a:xfrm>
            <a:off x="7758000" y="-3240"/>
            <a:ext cx="1386000" cy="8463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468000" y="63766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E8D4515-DB1D-4D41-B486-1A01FB5458F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2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0" r="0" b="9718"/>
          <a:stretch/>
        </p:blipFill>
        <p:spPr>
          <a:xfrm>
            <a:off x="3174840" y="757080"/>
            <a:ext cx="6159600" cy="3807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22229"/>
          <a:stretch/>
        </p:blipFill>
        <p:spPr>
          <a:xfrm>
            <a:off x="-31680" y="4564080"/>
            <a:ext cx="9175680" cy="229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559400"/>
            <a:ext cx="914400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64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海景建筑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欣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56320" y="6453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7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0:27:53Z</dcterms:created>
  <dc:creator/>
  <dc:description/>
  <dc:language>en-US</dc:language>
  <cp:lastModifiedBy/>
  <dcterms:modified xsi:type="dcterms:W3CDTF">2014-11-24T15:10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