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477-7A90-423E-BC55-24884A12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4D4-F487-4AE3-B2AC-158B044E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1E6-29AA-4B0A-A209-0131537C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693-A3B6-47DA-A090-76BBE085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6725-674E-483B-9891-71924563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C242-915B-4583-BAFC-88E48EE8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A667-DD92-493B-8C81-C236A3EB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6276-875E-4A05-9E9F-36ED665B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721-C858-46F4-8243-3EF40ED8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C346-D54C-4CF5-8566-25D1974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0725-395E-4AE2-B211-36222181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339-A9AB-493D-9446-E4CDCBE6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9E6D-20F5-4563-A759-310E623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59FC-A0EE-4D62-9754-FEE840EA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6426-CF11-4608-9AEF-5B9F6976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877B-98F6-40D1-AF9E-03FA9DC4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BA06-D7B6-4888-9DDE-1F010940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813-53B8-4841-A4AF-A9617808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F1E-7DB8-464E-85E7-22D508B6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D57-A2C1-4304-AA59-79FFE3BE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470-D4D0-4B5B-90BC-0A9CE17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4FA-4151-49AC-868B-94DB3812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488-20DA-49D2-9A60-195A0C7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90C-0582-4296-867F-0C6364A4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bf9034">
                  <a:alpha val="80000"/>
                </a:srgbClr>
              </a:gs>
              <a:gs pos="100000">
                <a:srgbClr val="bf9034">
                  <a:alpha val="8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FE77-0578-4596-952C-BD32B97F26B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bf9034">
                  <a:alpha val="80000"/>
                </a:srgbClr>
              </a:gs>
              <a:gs pos="100000">
                <a:srgbClr val="bf9034">
                  <a:alpha val="8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324000" y="5318280"/>
            <a:ext cx="8569080" cy="1368360"/>
          </a:xfrm>
          <a:prstGeom prst="rect">
            <a:avLst/>
          </a:prstGeom>
          <a:gradFill rotWithShape="0">
            <a:gsLst>
              <a:gs pos="0">
                <a:srgbClr val="bf9034">
                  <a:alpha val="50196"/>
                </a:srgbClr>
              </a:gs>
              <a:gs pos="100000">
                <a:srgbClr val="bf9034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D9C4-5199-4072-9CC1-A81A4EDC636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52704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6093000"/>
            <a:ext cx="6400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5800" y="638172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0" y="1790640"/>
            <a:ext cx="7340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bf9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305840" y="6381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932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b6de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Owner</cp:lastModifiedBy>
  <cp:lastPrinted>1899-12-30T00:00:00Z</cp:lastPrinted>
  <dcterms:modified xsi:type="dcterms:W3CDTF">2014-05-24T01:49:27Z</dcterms:modified>
  <cp:revision>18</cp:revision>
  <dc:subject/>
  <dc:title>Fancy Car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