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06440" y="380664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1580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820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996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0644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820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996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06440" y="1267920"/>
            <a:ext cx="7043760" cy="48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704376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67880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06440" y="1267920"/>
            <a:ext cx="7043760" cy="48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1580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06440" y="380664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1580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8820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996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0644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8820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996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704376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67880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1580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06440" y="1267920"/>
            <a:ext cx="704376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621640" y="6645240"/>
            <a:ext cx="522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6934320" y="65530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B7AD-CBE7-437E-838B-F77D005BC5F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6"/>
          <p:cNvSpPr/>
          <p:nvPr/>
        </p:nvSpPr>
        <p:spPr>
          <a:xfrm>
            <a:off x="8621640" y="6645240"/>
            <a:ext cx="522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1" name="Rectangle 11"/>
          <p:cNvSpPr/>
          <p:nvPr/>
        </p:nvSpPr>
        <p:spPr>
          <a:xfrm>
            <a:off x="6934320" y="65530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1ACB-0A81-4CC9-96BA-71994FC45BC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Stone Sans"/>
              <a:buChar char="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tone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7305120" y="64771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120760" y="2077920"/>
            <a:ext cx="5168880" cy="446040"/>
            <a:chOff x="2120760" y="2077920"/>
            <a:chExt cx="5168880" cy="446040"/>
          </a:xfrm>
        </p:grpSpPr>
        <p:pic>
          <p:nvPicPr>
            <p:cNvPr id="84" name="矩形 4" descr=""/>
            <p:cNvPicPr/>
            <p:nvPr/>
          </p:nvPicPr>
          <p:blipFill>
            <a:blip r:embed="rId2"/>
            <a:stretch/>
          </p:blipFill>
          <p:spPr>
            <a:xfrm>
              <a:off x="2120760" y="2077920"/>
              <a:ext cx="51688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5"/>
            <p:cNvSpPr/>
            <p:nvPr/>
          </p:nvSpPr>
          <p:spPr>
            <a:xfrm>
              <a:off x="2128320" y="2080800"/>
              <a:ext cx="5153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0000"/>
                </a:solidFill>
                <a:latin typeface="华文细黑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438280" y="1968480"/>
            <a:ext cx="4800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微软雅黑"/>
                <a:ea typeface="微软雅黑"/>
              </a:rPr>
              <a:t>产品设计背景及目标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产品概述及亮点分析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统一奥运币系统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问答功能介绍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竞猜功能介绍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投票功能介绍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奖励设置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88" name=""/>
          <p:cNvSpPr/>
          <p:nvPr/>
        </p:nvSpPr>
        <p:spPr>
          <a:xfrm>
            <a:off x="7152840" y="64771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标题 3"/>
          <p:cNvSpPr/>
          <p:nvPr/>
        </p:nvSpPr>
        <p:spPr>
          <a:xfrm>
            <a:off x="152280" y="76320"/>
            <a:ext cx="8991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产品设计背景</a:t>
            </a:r>
            <a:endParaRPr b="0" lang="en-US" sz="32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0" y="2057400"/>
            <a:ext cx="4114800" cy="16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华文新魏"/>
                <a:ea typeface="华文新魏"/>
              </a:rPr>
              <a:t>谢 谢</a:t>
            </a:r>
            <a:endParaRPr b="0" lang="en-US" sz="9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91" name=""/>
          <p:cNvSpPr/>
          <p:nvPr/>
        </p:nvSpPr>
        <p:spPr>
          <a:xfrm>
            <a:off x="1972800" y="487692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0000"/>
                </a:solidFill>
                <a:latin typeface="华文细黑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0000"/>
                </a:solidFill>
                <a:latin typeface="华文细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0:50:51Z</dcterms:created>
  <dc:creator/>
  <dc:description/>
  <dc:language>en-US</dc:language>
  <cp:lastModifiedBy>king</cp:lastModifiedBy>
  <dcterms:modified xsi:type="dcterms:W3CDTF">2014-05-13T08:57:01Z</dcterms:modified>
  <cp:revision>8899</cp:revision>
  <dc:subject/>
  <dc:title>主标题 副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