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91C-9300-4B81-8734-DB10FA61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85D-0B8B-4265-ABB2-5AEF11D7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AAE-2C73-4024-B9C6-9B5E4B7C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E0D-DB82-47A7-823F-2D4DF765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DD2-1B2C-4943-9B0D-4B1F7BED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3BF-2201-4267-97FD-8014F1BD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A38-B088-4E42-AD4E-723198D2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B1A-9A8A-475D-A57D-24C1447B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0EE-F17D-4582-BD59-EDD0CEB8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895-609F-45CF-B79F-C0DFE3F6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92E-46AF-4F8F-930A-FA9AAE53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871-990D-411B-8AD0-3776B5D3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 flipH="1">
            <a:off x="4573440" y="0"/>
            <a:ext cx="4570560" cy="342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3B51-F666-4BFB-B05E-D1404C5D73A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6858000"/>
            <a:ext cx="9144000" cy="857160"/>
            <a:chOff x="0" y="6858000"/>
            <a:chExt cx="9144000" cy="857160"/>
          </a:xfrm>
        </p:grpSpPr>
        <p:sp>
          <p:nvSpPr>
            <p:cNvPr id="43" name="Rectangle 8"/>
            <p:cNvSpPr/>
            <p:nvPr/>
          </p:nvSpPr>
          <p:spPr>
            <a:xfrm>
              <a:off x="0" y="6858000"/>
              <a:ext cx="9144000" cy="85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6858000"/>
              <a:ext cx="4572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0"/>
            <p:cNvSpPr/>
            <p:nvPr/>
          </p:nvSpPr>
          <p:spPr>
            <a:xfrm>
              <a:off x="4572000" y="7141680"/>
              <a:ext cx="42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果因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PT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作室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weibo.com/guoyinp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黑色大气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9960" y="63817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4520" y="6083280"/>
            <a:ext cx="746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53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ff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ff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ff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3:51:00Z</dcterms:created>
  <dc:creator>果因PPT工作室</dc:creator>
  <dc:description/>
  <cp:keywords>XS-普屏 4：3;SC-深紫色;BG-浅色;DH-静态</cp:keywords>
  <dc:language>en-US</dc:language>
  <cp:lastModifiedBy>田士庆</cp:lastModifiedBy>
  <dcterms:modified xsi:type="dcterms:W3CDTF">2014-12-04T15:20:43Z</dcterms:modified>
  <cp:revision>2</cp:revision>
  <dc:subject>TP-流行娱乐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